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82D-7AC9-4AB1-8EF3-21C58B2B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497-BDDF-4BD0-869D-3A247219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994-EC8E-4A23-AC96-A92A893E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9A3-05E5-4E00-AF89-FC4E1CE6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061-03E3-4556-92ED-436CBA17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1CA-E507-48D9-8372-C77FE99A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0FA-1DE3-45E4-ADB9-BB022B95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332-BE36-4916-B5C7-23A7A855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E81-827B-4FA8-B8B5-FDE868F3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C7A-E8D1-4663-B760-65669497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659-0842-4658-80D7-B7D726A9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747-49FC-4344-B3EE-69164658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1A11-E86C-480F-8134-C74B45070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mailto:marron@stat.unc.edu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nference in Exploratory Data Analysis: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27432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 S. Mar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Research and Indust. E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etting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447920"/>
            <a:ext cx="861048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Income Data:  British Family Expenditure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of In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7000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Smooth histograms”  (details given l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under- and over- smooth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question: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Which features are “really ther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2 mode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Incomes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62120" y="533520"/>
          <a:ext cx="76960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7696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447920"/>
            <a:ext cx="8610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xploratory Data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Which features are “really ther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phrasing: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What is "important underlying structure", as opposed to being "noise artifacts", or "attributable to sampling variability"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Ques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447920"/>
            <a:ext cx="86104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xploratory Data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Which features are “really ther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unding factor:    level of smo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disappears with oversmo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rious features appear from undersmo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,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447920"/>
            <a:ext cx="861048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Space” – idea from Computer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concep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moothing = “view from afar” (macroscop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moothing = “zoomed in view” (microscop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:  all smooths contain useful inform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tudy “full spectrum”  (i. e. all smoothing lev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IncomesKDEspect.mpg, IncomesKDEspect.ps and IncomesKDEspect3d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609480" y="533520"/>
          <a:ext cx="8001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62120" y="533520"/>
          <a:ext cx="77724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77724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, Part I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47920"/>
            <a:ext cx="8610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Space” – from Computer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:  all smooths contain useful inform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tudy “full spectrum”  (i. e. all smoothing lev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is viewpoint 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ased bandwidth 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less important (than I once thought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,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447920"/>
            <a:ext cx="86104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 of ZERo crossing of the derivative, in scal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statistical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:  a powerful exploratory data analysis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447920"/>
            <a:ext cx="8610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dea:  a “bump” is characteriz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llowed by a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ation:  many “features of interest” captur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of the slope of the sm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inference on slop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ver scal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47920"/>
            <a:ext cx="8305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ask questions (make comments) on the 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me in contact with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body else may be wondering about that,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time for ideas to percolat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’s organization allows adaptation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447920"/>
            <a:ext cx="86104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pre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map over scale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Blue:  slope significantly up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riv. CI above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Red:  slope significantly down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r. CI below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urple:  slope insignific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riv. CI contains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ssi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447920"/>
            <a:ext cx="86104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Fossil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Left:  Scatterplot, family of smooths, 1 highligh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Right:   Scale space rep’n of family, with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Right:  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, more easy to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Left:    SiCon map – will discuss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r (in movie viewer) highlights different smoothing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847880" y="1152360"/>
          <a:ext cx="5448240" cy="45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1152360"/>
                    <a:ext cx="5448240" cy="45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ssil Data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447920"/>
            <a:ext cx="8610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moothed:  Decreases at left, not on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smooth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valley significant, and left most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valley not statisticall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mooth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noise wiggles” not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or: 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t enough data for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447920"/>
            <a:ext cx="86104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Question:  which is “right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on left, then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, then down, then up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gnifican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 All are “right”, just different “scales of view”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“levels of resolution of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ncom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143000"/>
            <a:ext cx="8610480" cy="50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Incomes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ormat as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moothed:  Only on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smoothed:  Two modes statisticall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ed by PhD dissert’n of H. P. Schmitz (U. Bo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moothed:  many “noise wiggles”, not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:   all are “correct”, just different “sc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47880" y="1152360"/>
            <a:ext cx="54482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143000"/>
            <a:ext cx="86104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ness of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xploratory data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ing experts:  save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ing beginners:  avoids terrible mis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ind things that “aren’t the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find importan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targets critical scientific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eeper analysis worthwhil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76520"/>
            <a:ext cx="8305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careful look under the 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histogra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density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linear smo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taneous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confidence ba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histogra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76520"/>
            <a:ext cx="83059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 Problem 1:    Binwidth  (well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IncomesHistBWidth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moothing vs. Oversmo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impact, as exp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76520"/>
            <a:ext cx="8305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I: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II:  A careful look under the 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III:  Examples (real data and simu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IV:  Extensions (SiCon, 2d, Time Seri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V:  Fun with scale space &amp; Historical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VI:  Concluding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228920" cy="3790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2289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histograms?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3059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 Problem 2:    Bin shift  (less well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IncomesHistLoc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 bin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n get much different impres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only “shifting grid loc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impact:  much less exp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228920" cy="3791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2289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Hist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066680"/>
            <a:ext cx="830592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to binshift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“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average over all shif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IncomesHistLocKDE.mp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ak all in one bin:  b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ak split between bins:  un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Smooth hist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understand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hould use for data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name: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Kernel Density E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229280" cy="3790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292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density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83059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1:  Smooth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2:  distribute probability mass, according to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EGkdeCombined.p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hondrite data (from how many source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252520" y="1576440"/>
          <a:ext cx="4638960" cy="37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2520" y="1576440"/>
                    <a:ext cx="463896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density estima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295280"/>
            <a:ext cx="83059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Issue:  width of window, i.e. “bandwidth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IncomesKDE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critical amount of smo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Approach:  data based bandwidth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es, Marron and Sheather (1996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91, 401-4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pproach:  scale space (look at all of th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772400" y="1371600"/>
                <a:ext cx="1904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505320" y="1371600"/>
          <a:ext cx="216216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371600"/>
                    <a:ext cx="21621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85800" y="1371600"/>
          <a:ext cx="2152800" cy="16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371600"/>
                    <a:ext cx="215280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324480" y="1371600"/>
          <a:ext cx="214308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21430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density estima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676520"/>
            <a:ext cx="8305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Important Issue:  shape of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Recommendation:  Gaus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ooks bes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Bump monotonicity”  (discussed l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void apparent computational draw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ing fast “binned” 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, Sectio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76520"/>
            <a:ext cx="8305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:  scatterplot smoothing and hist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il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Questio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features are “really ther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Part I, Scal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Part II,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plot smo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305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methods (most with fierce advocat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/ local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splines (regression spli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 series (e.g. wavel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3880" y="4800600"/>
                <a:ext cx="88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plot smoothing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371600"/>
            <a:ext cx="83059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” method is personal choice based on crit.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urther discussion:  Marron (1996)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istical Theory and Computational Aspects of Smoo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ds. W. Härdle and M. Schimek, 1-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23880" y="4114800"/>
                <a:ext cx="88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plot smoothing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371600"/>
            <a:ext cx="830592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Preference:  local linear smo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:  use kernel window to “determine neighborhood”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“fit a line within the wind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“slide window al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NPRMovie1a.mp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Width again 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0" y="1143000"/>
          <a:ext cx="463860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6386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linear smoot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371600"/>
            <a:ext cx="830592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shape much less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NPRMovie5b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“modding out window siz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NPRMovie5a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:  Marron and Nolan (1989) "Canonical kernels for density estimation"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ist. Prob. Let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7, 195-1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362320" y="3581280"/>
          <a:ext cx="4743360" cy="20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581280"/>
                    <a:ext cx="474336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286000" y="685800"/>
          <a:ext cx="478152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685800"/>
                    <a:ext cx="478152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taneous inference in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00200"/>
            <a:ext cx="8305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 for many independent Hypo. Tes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by chance some will reject (even under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 “multiple comparisons probl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ull map, simultaneous inference is very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taneous inference in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295280"/>
            <a:ext cx="830592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pproach:        for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“Effective Sample Size” = # pts. in kern’l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    s = “# indep. Subsamples” = n / 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tandard  adjustment for  “s  independent C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 looks good  (only see boundary eff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Unif1M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205000" y="1557360"/>
          <a:ext cx="47340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5000" y="1557360"/>
                    <a:ext cx="4734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taneous inference in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295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effects of ignoring simultaneous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90920" y="2209680"/>
          <a:ext cx="43336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43336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57200" y="594360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W3TricolorSiZer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moothing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057400"/>
            <a:ext cx="8305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plot Smoothing (nonparametric regres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s (density esti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371600"/>
            <a:ext cx="8305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 Analysis of Smoo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Squared Error = Variance + Squared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:  big when undersmoot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d Bias:  big when oversmoot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tation:  Estimate bias, and recenter C.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Issue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371600"/>
            <a:ext cx="8305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 too hard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lse could genuinely improve smoothing 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 possible via minimax lower bound the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verif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ärdle and Marron (1991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n. 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, 778-7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Scale Space philosophy from Computer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Issue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371600"/>
            <a:ext cx="830592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vision - scale space view of smoothing b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mportant, because reflects “unavailable inform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caSpaTalk1Combined.p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mpirical scale space 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(unbiased) estimate of the “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theoretical scale space 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heoretical curv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an have at given level of resolution (i.e. scale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471680" y="1004760"/>
          <a:ext cx="6200640" cy="48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1004760"/>
                    <a:ext cx="6200640" cy="48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297080" y="1228680"/>
          <a:ext cx="655164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228680"/>
                    <a:ext cx="655164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281240" y="1333440"/>
          <a:ext cx="65833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333440"/>
                    <a:ext cx="6583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Confidence Ba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371600"/>
            <a:ext cx="8305920" cy="50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 1:    Bands don’t capture “variability in curv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WhyNotCIs1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 2:    Properly adjusted bands too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Hall (1992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Bootstrap and Edgeworth Expa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ri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WhyNotCIs2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s more conservative than SiZer (since bias adjus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3038400" y="1347840"/>
          <a:ext cx="306720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8400" y="1347840"/>
                    <a:ext cx="306720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603440" y="1171440"/>
          <a:ext cx="593568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1171440"/>
                    <a:ext cx="593568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676520"/>
            <a:ext cx="8305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s (real data and simu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mp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lusk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ndri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s (on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etting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p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447920"/>
            <a:ext cx="861048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i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. Bralower, Dept. Geological Sciences, U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tium Ratio in fossil sh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s global sea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gate for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millions of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top of SiZer2Eg_Fossil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s – Stamp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143000"/>
            <a:ext cx="830592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mp Thicknesses of Hidalgo Stamp (Mexico, 1800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Stamps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ources produced the pa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in literature:  “More than 1”   to  “suggested 1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is mos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r:  3 for sure, suggestion of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:  SiZer is conservative, compared to “mode tes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47880" y="1152360"/>
            <a:ext cx="54482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s – Mollusk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295280"/>
            <a:ext cx="830592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Matthew Camp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re there massive mollusk extin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of “last times of appearance” of mollusk g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MolluskGen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only “overall decreas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an’t find “bumps” suggested by smo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47880" y="1152360"/>
            <a:ext cx="54482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s – Mollusks Data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295280"/>
            <a:ext cx="830592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need:  more data (to sharpen in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 these gathered over more than 1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Go to species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MolluskSpec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wo bumps nicely signific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 with known major climatic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47880" y="1152360"/>
            <a:ext cx="54482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s – Du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295280"/>
            <a:ext cx="830592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 of Dust Particle Siz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Dust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Sc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 dist’n of small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dist’n of larger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y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cales:    “fringe of small significant fea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heavy data 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76640" y="1614600"/>
          <a:ext cx="459072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6640" y="1614600"/>
                    <a:ext cx="459072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s – Normal Mixture #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1295280"/>
            <a:ext cx="754380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th:  Two big modes, one small one in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100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not enough info to find any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NM9n100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1000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can find two big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NM9n1000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10000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all 3 modes are very 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NM9n10000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s “structure really diff’nt from noi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s – Normal Mixture #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295280"/>
            <a:ext cx="83059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th:  Three fat modes, three narrow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100, 1000, 10000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similar lessons to  n  incre’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NM15n100.mpg, SiZer2Eg_NM15n1000.mpg &amp; SiZer2Eg_NM15n10000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505320"/>
            <a:ext cx="83055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full scale space is important, since different features appear at different 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approach to “local bandwidth choic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“bandwidth function curve on SiZer ma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eces are all there, but not done y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62120" y="533520"/>
          <a:ext cx="77724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77724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s – Chondri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523880"/>
            <a:ext cx="830592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: Sizer2Eg_Chondrite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:  not always enough info to fin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modes not foun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tests can be better by focussing on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“omnibus type” tes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broadly spreads power, at som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205000" y="1500120"/>
          <a:ext cx="473400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5000" y="1500120"/>
                    <a:ext cx="473400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s – Financ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371600"/>
            <a:ext cx="830592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k Data” – instantaneous prices of a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itation of “on line”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: SiZerStockPrice2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“predict trends” at various sc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ight edge, and white curve to indicate “time ran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quadruple poin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f scale based increase – decr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colors flop” as overall trend shi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286000" y="1066680"/>
          <a:ext cx="46483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4648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676520"/>
            <a:ext cx="83059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xten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on, significant curv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: Significance in Scal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odels (censor, hazard est., gen. l’hood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xtensions: SiCon, significant curv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295280"/>
            <a:ext cx="533412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 study “curvature”, not “slop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nge for concave dow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an for convex up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for not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conToyEG.mp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“cluster of shortcut runn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arathonTimesHalf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note dissipated lat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arathonTimesFull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324480" y="1523880"/>
          <a:ext cx="240048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523880"/>
                    <a:ext cx="240048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s – Stamps Data (revisi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295280"/>
            <a:ext cx="8305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r grid:  fine scale shows discretization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2Eg_StampsFineRes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743200" y="2438280"/>
          <a:ext cx="373392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73392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xtensions: 2d: Significance in Scal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523880"/>
            <a:ext cx="8305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hallenge:  what to look 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id reg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“up” and “down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SS1FIG1.EPS, SSS1FIG2.MPG, sss1fig3.mpg, sss1fig6b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048120" y="4038480"/>
          <a:ext cx="300024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038480"/>
                    <a:ext cx="300024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xtensions: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676520"/>
            <a:ext cx="8305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hallenge:  what is “trend” vs. “serial correlation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trikesEg.ps, PanelSiZerSine.ps, DepSiZerSine.ps, DepSiZerDeaths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514600" y="2743200"/>
          <a:ext cx="412416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12416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xtensions:  Ju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143000"/>
            <a:ext cx="83059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 “jumps” (discont’s) have signature in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math’ly, and “invert” to give “jump indica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ZJPenny.mpg, SZJBlocks.ps &amp; SZJBlocksJump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81080" y="2438280"/>
          <a:ext cx="493416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438280"/>
                    <a:ext cx="493416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etting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plot Smo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447920"/>
            <a:ext cx="861048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s of Fossil Data (details given l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ted line: undersmoothed (feels sampl’g vari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hed line:  oversmoothed (imp’t features misse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line:  smoothed about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question: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Which features are “really ther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bottom of SiZer2Eg_Fossil.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xtensions: Other smoothing 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7652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so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ed Likeli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Biased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xtensions: Smoothing S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676520"/>
            <a:ext cx="8305920" cy="42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 alternate smoother based on “regulariz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moothingSplinesFossils.m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ing parameter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“scale spa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ed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important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s different features from local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 show SiZerSSgoodSS.eps, SiZerSSbadLL.eps, SiZerSSbadSS.eps, SiZerSSgoodLL.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676520"/>
            <a:ext cx="83059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 with scale space &amp; historical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quation and smo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Bump monotonicity” of Gaussian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to the “mode tre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re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deberg (1994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ale space theory in computer v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luwer: Bos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quation and smo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1143000"/>
            <a:ext cx="83059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igm from Image Proce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smoothing via heat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HeatEqnColors.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209680" y="2895480"/>
          <a:ext cx="485784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95480"/>
                    <a:ext cx="485784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mp monotonicity” of Gaussian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1676520"/>
            <a:ext cx="8305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:  “Silverman’s Theorem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Kernel   implies   “bump monotonic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e?   Well known in scale space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oms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Heat Equation (unique sol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ositivity &amp; Semi-Group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to the “mode tre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1676520"/>
            <a:ext cx="83059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notte and Scott (199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C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, 51-6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odeTree.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438280" y="2743200"/>
          <a:ext cx="41245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743200"/>
                    <a:ext cx="4124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mp monotonicity” of Gaussian kernel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676520"/>
            <a:ext cx="8305920" cy="31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Cauchy kern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group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notte and Scott didn’t find non-monoto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ve theories say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d with 3 point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CauchyNonVarDim.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676520"/>
            <a:ext cx="8305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ing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usefulness of S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try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rsel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n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143000"/>
            <a:ext cx="86104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ness of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xploratory data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ing experts:  save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ing beginners:  avoids terrible mis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ind things that “aren’t the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find importan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targets critical scientific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eeper analysis worthwhil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1143000"/>
            <a:ext cx="86104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 S. Mar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 mailing addre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/1/01 – 5/31/0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. Op. Res. &amp; Ind. E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North Carol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el Hill, NC 27599-32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haca,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Arial"/>
                <a:hlinkClick r:id="rId1"/>
              </a:rPr>
              <a:t>marron@stat.unc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:  http://www.stat.unc.edu/faculty/marr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9480" y="609480"/>
          <a:ext cx="792504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92504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523880"/>
            <a:ext cx="86104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udhuri &amp; Marron (1999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94, 807-8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cale Space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udhuri &amp; Marron (2000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n. Stat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8, 408-42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1752480"/>
            <a:ext cx="8610480" cy="28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 version, and graphics (.ps , .pdf and .mp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nc.edu/depts/statistics/postscript/papers/marron/ASAContE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1600200"/>
            <a:ext cx="8610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research on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variations) was suppor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F Grants DMS-9504414 &amp; DMS-99716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AVA and C development of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as done by Molly Megraw of Daniel H. Wagner and Associate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agner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development, and this presentation, was supported by NIH SBIR Grant # 1 R43 RR16089-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try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rsel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1752480"/>
            <a:ext cx="861048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versio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tat.unc.edu/faculty/marron/marron_softwar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version (demo, beta):  Follow the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k from the Wagner Associates home pa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agner.com/www.wagner.com/SiZ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SiZerDownload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9:20:15Z</dcterms:created>
  <dc:creator>UNC</dc:creator>
  <dc:description/>
  <dc:language>en-US</dc:language>
  <cp:lastModifiedBy>UNC</cp:lastModifiedBy>
  <dcterms:modified xsi:type="dcterms:W3CDTF">2001-06-28T22:55:04Z</dcterms:modified>
  <cp:revision>95</cp:revision>
  <dc:subject/>
  <dc:title>Simple Inference in Exploratory Data Analysis: SiZer</dc:title>
</cp:coreProperties>
</file>