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EE6-2B53-4A70-9DA6-3C4F2690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36E-24C7-4C51-8D9C-47DC2770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9FB-D158-4442-8F8F-D190DFDD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445-2325-419D-BCC1-0BF18AEE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E04-164E-4DEB-9A94-97E897AE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C00-2FA1-4F47-8351-AB4B8BF2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7D7-6B1C-4AD5-ABB4-A92A18F5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D09-5E86-438C-A305-1734B96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6D1-7770-4ABE-BCD6-04AE78EF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033-4630-4B9D-BBAC-85111ECD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851-CE41-41A4-A12B-F06B832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69C-6208-4D1D-B31E-1ABAC1B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AA27-664E-4889-8250-418CF2DD0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609480"/>
            <a:ext cx="6095880" cy="5486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609480"/>
            <a:ext cx="304812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3352680"/>
            <a:ext cx="304776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143000" y="609480"/>
            <a:ext cx="609588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352680"/>
            <a:ext cx="15238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609480"/>
            <a:ext cx="15238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4724280"/>
            <a:ext cx="15242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1981080"/>
            <a:ext cx="15238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09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1295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038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4724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8640" y="1738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2720" y="4557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4640" y="3809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2560" y="51814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6440" y="10666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50680" y="24382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20760" y="487692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6560" y="56386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5000" y="35812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0800" y="42670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2560" y="22096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28954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6800" y="83808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8560" y="144792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9/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4240" y="6213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17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264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48520" y="598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360" y="575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4040" y="34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09320" y="152280"/>
            <a:ext cx="572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 as n goes to infinity of Cov(r^n(a),r^n(b)), assuming R=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78800" y="1763640"/>
            <a:ext cx="142272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alue o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vel n block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/3)^n - 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=1,2,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ari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ong the di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nfi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4:42:08Z</dcterms:created>
  <dc:creator>UNC</dc:creator>
  <dc:description/>
  <dc:language>en-US</dc:language>
  <cp:lastModifiedBy>UNC</cp:lastModifiedBy>
  <dcterms:modified xsi:type="dcterms:W3CDTF">2000-03-20T16:25:48Z</dcterms:modified>
  <cp:revision>2</cp:revision>
  <dc:subject/>
  <dc:title>No Slide Title</dc:title>
</cp:coreProperties>
</file>