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DC6-8D27-4526-A61F-081F6DED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60F-6E59-4635-A69A-BFE663FD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C90-60DF-4B31-907A-7054D5AA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065-50A9-4B54-AF8A-59A0AC30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DBD-7A94-4D47-B5B6-36C41ED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998-3C2C-4333-8966-DE05100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FB9-D138-4EB4-88D8-484FA60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C26-03CB-4D3A-95D9-AA064B77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A0E-673F-4AB7-89F1-0A5A0729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093-612A-4442-8434-CBC0B209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77C-9791-4243-B6C5-6122F02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B34-ED4A-446A-9C14-F22078D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CE62-2BD2-492B-B572-D16B0AA9E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914400"/>
            <a:ext cx="5335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209680"/>
            <a:ext cx="5335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657600"/>
            <a:ext cx="5335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5335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2971800"/>
            <a:ext cx="1143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219320"/>
            <a:ext cx="312408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905120" y="335232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905120" y="3352320"/>
            <a:ext cx="312408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4880" y="30492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971800"/>
            <a:ext cx="1371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3640" y="320040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7:26:49Z</dcterms:created>
  <dc:creator>UNC</dc:creator>
  <dc:description/>
  <dc:language>en-US</dc:language>
  <cp:lastModifiedBy>UNC</cp:lastModifiedBy>
  <dcterms:modified xsi:type="dcterms:W3CDTF">2000-03-29T16:00:43Z</dcterms:modified>
  <cp:revision>4</cp:revision>
  <dc:subject/>
  <dc:title>No Slide Title</dc:title>
</cp:coreProperties>
</file>