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8BA-DF51-4EB1-8A86-295EB6AB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C36-8826-49E7-AA07-F5BA21B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37E-7088-4497-88A8-2098FC1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8D8-9075-42A5-9176-80B887E0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99A-C5C5-460D-9169-3CC01A6A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B3B-6EBB-4DF1-B5B1-6AB4401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18-03BD-4878-8764-DE30492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D6F-993B-4B06-B2A5-5469660A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951-E381-4096-9E18-1062BAF7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32D-EC34-4CF3-82C8-737D104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179-1AC2-4363-9906-153E1CD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B96-6ABB-4690-B52D-0200D67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86AF-895A-4DA5-BD53-62B2E3A9C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57200"/>
            <a:ext cx="205740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8280" y="5335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362320" y="1143000"/>
            <a:ext cx="1218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71600" y="1752480"/>
            <a:ext cx="2895480" cy="762120"/>
            <a:chOff x="1371600" y="1752480"/>
            <a:chExt cx="2895480" cy="762120"/>
          </a:xfrm>
        </p:grpSpPr>
        <p:sp>
          <p:nvSpPr>
            <p:cNvPr id="45" name=""/>
            <p:cNvSpPr/>
            <p:nvPr/>
          </p:nvSpPr>
          <p:spPr>
            <a:xfrm>
              <a:off x="1371600" y="1752480"/>
              <a:ext cx="28954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65200" y="1752480"/>
              <a:ext cx="270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-indepen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s of traffic 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523880" y="2971800"/>
            <a:ext cx="2514600" cy="762120"/>
            <a:chOff x="1523880" y="2971800"/>
            <a:chExt cx="2514600" cy="762120"/>
          </a:xfrm>
        </p:grpSpPr>
        <p:sp>
          <p:nvSpPr>
            <p:cNvPr id="48" name=""/>
            <p:cNvSpPr/>
            <p:nvPr/>
          </p:nvSpPr>
          <p:spPr>
            <a:xfrm>
              <a:off x="1523880" y="2971800"/>
              <a:ext cx="25146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38000" y="2971800"/>
              <a:ext cx="228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eate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rating progra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724280" y="1143000"/>
            <a:ext cx="10670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2743200"/>
            <a:ext cx="1097280" cy="762120"/>
            <a:chOff x="76320" y="2743200"/>
            <a:chExt cx="1097280" cy="762120"/>
          </a:xfrm>
        </p:grpSpPr>
        <p:sp>
          <p:nvSpPr>
            <p:cNvPr id="52" name=""/>
            <p:cNvSpPr/>
            <p:nvPr/>
          </p:nvSpPr>
          <p:spPr>
            <a:xfrm>
              <a:off x="76320" y="2743200"/>
              <a:ext cx="1066680" cy="7621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040" y="289584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09480" y="213372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648320" y="1752480"/>
            <a:ext cx="2361960" cy="703800"/>
            <a:chOff x="4648320" y="1752480"/>
            <a:chExt cx="2361960" cy="703800"/>
          </a:xfrm>
        </p:grpSpPr>
        <p:sp>
          <p:nvSpPr>
            <p:cNvPr id="56" name=""/>
            <p:cNvSpPr/>
            <p:nvPr/>
          </p:nvSpPr>
          <p:spPr>
            <a:xfrm>
              <a:off x="4648320" y="1752480"/>
              <a:ext cx="236196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92840" y="1752480"/>
              <a:ext cx="167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rival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>
            <a:off x="7009560" y="205740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238880" y="2666880"/>
            <a:ext cx="1097280" cy="762120"/>
            <a:chOff x="7238880" y="2666880"/>
            <a:chExt cx="1097280" cy="762120"/>
          </a:xfrm>
        </p:grpSpPr>
        <p:sp>
          <p:nvSpPr>
            <p:cNvPr id="60" name=""/>
            <p:cNvSpPr/>
            <p:nvPr/>
          </p:nvSpPr>
          <p:spPr>
            <a:xfrm>
              <a:off x="7238880" y="2666880"/>
              <a:ext cx="1066680" cy="7621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9600" y="28195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523880" y="4343400"/>
            <a:ext cx="2514600" cy="780120"/>
            <a:chOff x="1523880" y="4343400"/>
            <a:chExt cx="2514600" cy="780120"/>
          </a:xfrm>
        </p:grpSpPr>
        <p:sp>
          <p:nvSpPr>
            <p:cNvPr id="63" name=""/>
            <p:cNvSpPr/>
            <p:nvPr/>
          </p:nvSpPr>
          <p:spPr>
            <a:xfrm>
              <a:off x="1523880" y="4343400"/>
              <a:ext cx="25146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2960" y="441972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rate synthe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ffic in laborato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95680" y="5562720"/>
            <a:ext cx="2361960" cy="703800"/>
            <a:chOff x="4495680" y="5562720"/>
            <a:chExt cx="2361960" cy="703800"/>
          </a:xfrm>
        </p:grpSpPr>
        <p:sp>
          <p:nvSpPr>
            <p:cNvPr id="66" name=""/>
            <p:cNvSpPr/>
            <p:nvPr/>
          </p:nvSpPr>
          <p:spPr>
            <a:xfrm>
              <a:off x="4495680" y="5562720"/>
              <a:ext cx="236196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0200" y="5562720"/>
              <a:ext cx="167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rival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24280" y="3581280"/>
            <a:ext cx="1905120" cy="1143000"/>
            <a:chOff x="4724280" y="3581280"/>
            <a:chExt cx="1905120" cy="1143000"/>
          </a:xfrm>
        </p:grpSpPr>
        <p:sp>
          <p:nvSpPr>
            <p:cNvPr id="69" name=""/>
            <p:cNvSpPr/>
            <p:nvPr/>
          </p:nvSpPr>
          <p:spPr>
            <a:xfrm>
              <a:off x="4724280" y="3581280"/>
              <a:ext cx="1905120" cy="114300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9560" y="3809880"/>
              <a:ext cx="111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H="1">
            <a:off x="6628680" y="411480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86600" y="4724280"/>
            <a:ext cx="1097280" cy="762120"/>
            <a:chOff x="7086600" y="4724280"/>
            <a:chExt cx="1097280" cy="762120"/>
          </a:xfrm>
        </p:grpSpPr>
        <p:sp>
          <p:nvSpPr>
            <p:cNvPr id="73" name=""/>
            <p:cNvSpPr/>
            <p:nvPr/>
          </p:nvSpPr>
          <p:spPr>
            <a:xfrm>
              <a:off x="7086600" y="4724280"/>
              <a:ext cx="1066680" cy="7621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87320" y="48769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688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3733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9436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4382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15000" y="47239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78600" y="414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on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562720"/>
            <a:ext cx="2057400" cy="76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0320" y="5638680"/>
            <a:ext cx="196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synth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8:23:25Z</dcterms:created>
  <dc:creator>Donated by Intel</dc:creator>
  <dc:description/>
  <dc:language>en-US</dc:language>
  <cp:lastModifiedBy>Donated by Intel</cp:lastModifiedBy>
  <dcterms:modified xsi:type="dcterms:W3CDTF">2000-03-30T19:01:52Z</dcterms:modified>
  <cp:revision>1</cp:revision>
  <dc:subject/>
  <dc:title>No Slide Title</dc:title>
</cp:coreProperties>
</file>