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3C1-6B96-4ADA-988A-B905F234423C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2153-461F-412E-A7EC-FC367EA9DAC6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Hailuoto Workshop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ject Oriented Data Analysis,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Dept. of Statistics and Operations Research, University of North Car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203-15C1-40FC-8D09-7A3E3EA7D7C6}" type="datetime3"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uly 30, 2026</a:t>
            </a:fld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V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V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V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IX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X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10-d Toy EG 1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304920" y="146052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10-d Toy EG 1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43715" r="0" b="0"/>
          <a:stretch/>
        </p:blipFill>
        <p:spPr>
          <a:xfrm>
            <a:off x="304920" y="1295280"/>
            <a:ext cx="867564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10-d Toy EG 2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12936" r="0" b="0"/>
          <a:stretch/>
        </p:blipFill>
        <p:spPr>
          <a:xfrm>
            <a:off x="228600" y="1371600"/>
            <a:ext cx="8675640" cy="106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10-d Toy EG 2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813" t="6315" r="0" b="0"/>
          <a:stretch/>
        </p:blipFill>
        <p:spPr>
          <a:xfrm>
            <a:off x="304920" y="1447920"/>
            <a:ext cx="11080800" cy="81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“atom” of a statistical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rse:   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variate Analysis Course :    V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Data Analysis:   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ly: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“atom” of a statistical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rse:   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variate Analysis Course :    V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Data Analysis:   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ly: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Imag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s Data Ob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Representation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-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multivariate ana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population var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al Component Analysis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imination (a.k.a. Classific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Series of 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Statistical Challenge,  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igh Dimension Low Sample Size (HDL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mension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&gt;&gt;  sample size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variate Analysis” nearly us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“normalize the da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of Opportunity for Statistici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“creative statistici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Statistical Challenge,  I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may live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n-Euclidea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 Group / Symmetric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s/Graphs as data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ing Iss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the mean”  (pop’n center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quantify “pop’n variation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tatistics in Image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Generation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o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about single im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tatistics in Image Analysi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Generation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s of Im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Population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(a.k.a. Class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Data Structures (&amp; Sp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HDLSS Statistics in Imaging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High Dim, Low Sample Size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3-d Objects Hard to Re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need d = 100’s of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3-d Objects Costly to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have n = 10’s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Represent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marks (hard to fi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undary Rep’ns (no correspond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l re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skelet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ize as “atoms” called M-r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3-d m-rep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783160" cy="311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6080" cy="307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746440" cy="3070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47920"/>
            <a:ext cx="8610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der – Prostate – Rectum    (multiple objects, J. Y. Jeong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l Atoms provide “skeleto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ed Boundary from “spokes”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“surfac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ersonal HDLSS Viewpoint:  Dat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(cases) are “Poi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eatur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s are A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t is “Point Clou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Proj’ns to visual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54520" y="2387520"/>
            <a:ext cx="3971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ves as 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Dua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ve Space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Point Clou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ith Travis Gaydos 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dim’al curves (easy to visualiz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ersonal HDLSS Viewpoint:  PCA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tated A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Insight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set of Dir’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thers Useful, t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54520" y="2387520"/>
            <a:ext cx="3971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ornea Data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42 Cornea Im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surface of e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map of curvature (in radial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understand “population struct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67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ornea Data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s at Pop’n M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Curv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al Astigmat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Proj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ation:  Can’t Over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 use mov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91280" y="1447920"/>
            <a:ext cx="2454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ornea Data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4724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rrible Outli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esent in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look only in cent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ep at top -- bot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Robust P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 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91280" y="1371600"/>
            <a:ext cx="24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ornea Data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4800600" cy="47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PC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utlier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top – bottom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ions now Gauss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91280" y="1371600"/>
            <a:ext cx="24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CA for m-rep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issue:  m-reps live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tions, radius and ang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average” of:                          =  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al Data Structur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 Groups   ~   Symmetric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mooth, curved manifol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181480" y="1523880"/>
                <a:ext cx="327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62520" y="3048120"/>
                <a:ext cx="2438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CA for m-rep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A on non-Euclidean spa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.e. on Lie Groups / Symmetric Sp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. Fletcher:   Principal Geodesic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 replace “linear summary of da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“geodesic summary of data”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4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Functional Data Analysis, Toy EG V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5-30T12:03:24Z</dcterms:modified>
  <cp:revision>706</cp:revision>
  <dc:subject/>
  <dc:title>Joint Distribution of Internet Flow Sizes and Durations</dc:title>
</cp:coreProperties>
</file>