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8.png" ContentType="image/png"/>
  <Override PartName="/ppt/media/image1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5.wmf" ContentType="image/x-wmf"/>
  <Override PartName="/ppt/media/image30.png" ContentType="image/png"/>
  <Override PartName="/ppt/media/image11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1440" y="397008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36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816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488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144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816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488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160" y="456840"/>
            <a:ext cx="71485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936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1440" y="397008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936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16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488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144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16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488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456840"/>
            <a:ext cx="71485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36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-457200" algn="ctr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457200" algn="ctr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457200" indent="-457200" algn="ctr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457200" indent="-457200" algn="ctr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457200" indent="-457200" algn="ctr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457200" indent="-457200" algn="ctr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198440" y="1230480"/>
            <a:ext cx="7820280" cy="0"/>
          </a:xfrm>
          <a:prstGeom prst="line">
            <a:avLst/>
          </a:prstGeom>
          <a:ln w="28440">
            <a:solidFill>
              <a:srgbClr val="0fc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539560" y="6629400"/>
            <a:ext cx="7552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1D2F-31F2-4916-B7AA-D0A67A764C69}" type="slidenum">
              <a:rPr b="0" lang="ko-KR" sz="1000" spc="-1" strike="noStrike">
                <a:solidFill>
                  <a:srgbClr val="2a3d7a"/>
                </a:solidFill>
                <a:latin typeface="Arial"/>
                <a:ea typeface="굴림"/>
              </a:rPr>
              <a:t>&lt;number&gt;</a:t>
            </a:fld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228600" y="228600"/>
          <a:ext cx="7621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76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-16560" y="114300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ahoma"/>
              </a:rPr>
              <a:t>UNC, Stat &amp; O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2" marL="13701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3" marL="1712880" indent="-22860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1198440" y="1230480"/>
            <a:ext cx="7820280" cy="0"/>
          </a:xfrm>
          <a:prstGeom prst="line">
            <a:avLst/>
          </a:prstGeom>
          <a:ln w="28440">
            <a:solidFill>
              <a:srgbClr val="0fc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39560" y="6629400"/>
            <a:ext cx="7552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B49E-C004-4678-9B90-FDDED42A97A4}" type="slidenum">
              <a:rPr b="0" lang="ko-KR" sz="1000" spc="-1" strike="noStrike">
                <a:solidFill>
                  <a:srgbClr val="2a3d7a"/>
                </a:solidFill>
                <a:latin typeface="Arial"/>
                <a:ea typeface="굴림"/>
              </a:rPr>
              <a:t>&lt;number&gt;</a:t>
            </a:fld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228600"/>
          <a:ext cx="7621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76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-16560" y="114300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ahoma"/>
              </a:rPr>
              <a:t>UNC, Stat &amp; O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4674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Hailuoto Workshop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Object Oriented Data Analysis, I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J. S. Marr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Dept. of Statistics and Operations Research, University of North Carol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E381-5D22-4769-99BF-79982AF35E28}" type="datetime3"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July 30, 2026</a:t>
            </a:fld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Simulation Comparison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31440" y="1479240"/>
            <a:ext cx="397044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Outlier Mixtu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ter for M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M &amp; DWD much more sol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’ns are “robus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M &amp; DWD simi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095880" y="1600200"/>
            <a:ext cx="5335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Simulation Comparison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31440" y="1479240"/>
            <a:ext cx="394020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Wobble Mixtu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ter for M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M less g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D slightly b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ll metho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me toge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larger d 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095880" y="1600200"/>
            <a:ext cx="5335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44956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Bias Adjustment for Microarray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roarray dat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t. Measur’ts of “gene expressio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insically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HDL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ension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~ 1,000s – 10,000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Sizes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~ 10s – 100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 view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array is “point in cloud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4674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Batch and Source Adjustmen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or Perou’s Stanford Breast Canc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nalysis in Benito, et al (2004)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oinforma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ttps://genome.unc.edu/pubsup/dwd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djust for Source Eff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ifferent sources of mR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djust for Batch Eff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rrays fabricated at different ti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Raw Breast Cancer data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Source Color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Batch Color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Biological Class Color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Biological Class Colors &amp; Symbol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Biological Class Symbol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HDLSS Classification (i.e. Discrimination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94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ground:  Two Class (Binary) ver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“training data” from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 +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from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ass 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a “rule” for assigning new data to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onical Example:  Disease Diagno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Patients are “Healthy” of “Il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d bases on measu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Source Color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PC 1-2 &amp; DWD direction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DWD Source Adjustmen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Source Adj’d, PCA view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Source Adj’d, Class Colored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Source Adj’d, Batch Colored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Source Adj’d, 5 PC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S. Adj’d, Batch 1,2 vs. 3 DWD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S. &amp; B1,2 vs. 3 Adjusted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S. &amp; B1,2 vs. 3 Adj’d, 5 PC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HDLSS Classification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effective Metho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06200" indent="-4460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sher Linear Discri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06200" indent="-4460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ussian Likelihood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0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s Useful Metho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06200" indent="-4460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est Neighb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06200" indent="-4460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ural 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0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“black boxes”, no “directions” or intui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S. &amp; B Adj’d, B1 vs. 2 DWD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S. &amp; B Adj’d, B1 vs. 2 Adj’d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S. &amp; B Adj’d, 5 PC view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S. &amp; B Adj’d, 4 PC view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S. &amp; B Adj’d, Class Color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DWD Adj:  S. &amp; B Adj’d, Adj’d PCA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1370160"/>
            <a:ext cx="7786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Bias Adjustment for Microarray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31440" y="1479240"/>
            <a:ext cx="8094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ive for Batch and Source Adj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works f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ross-platform Adj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 cDNA  &amp;  Af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pite literature claiming cont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 by Gene”  vs. “Multivariate”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ded as part of caB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cer BioInformatics Grid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bination Effort” of N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Why not adjust by means?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31440" y="1479240"/>
            <a:ext cx="8094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WD is complicated:   value ad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uxin Liu exampl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is sizes of biological sub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ing ratio trips up me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DWD more rob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though still not per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Twiddle ratios of subtype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31440" y="1479240"/>
            <a:ext cx="485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e Images 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with M. Benito &amp; D. Peñ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ed using land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e – Female Differ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imination Rul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7306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HDLSS Classification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ly Fashionable Metho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Vector Mach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s Based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High Te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Weighted Discrimination (DW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ly designed for HDLSS data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s “data piling” problem of SVM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ves more suitable optimization problem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,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523520"/>
            <a:ext cx="41148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D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sepa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s “make sens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rbage at end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trapolation effect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6483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, 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523520"/>
            <a:ext cx="41148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-4204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esting summar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mp between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0480" indent="-4204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 DWD dir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separation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0480" indent="-4204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eness vs. Femal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12120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, I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523520"/>
            <a:ext cx="41148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Wor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on “drivers”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regions of inter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 to Discr’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is “best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ons for human percep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9718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HDLSS Classification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1800" y="1479240"/>
            <a:ext cx="50832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ly Fashionable Metho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168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s Based Appro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168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Vector Machi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05520" y="3962520"/>
            <a:ext cx="3809880" cy="2690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733920" cy="2637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105520" y="1447920"/>
            <a:ext cx="373356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HDLSS Classification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13132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ison of Linear Methods (toy dat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60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al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2440" indent="-22392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llent, but need dir’n in dim = 50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560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al Data Piling (J. Y. Ahn, D. Peñ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2440" indent="-22392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reat separ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ut generalizability??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560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Vecto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2440" indent="-22392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paration, gen’ity, but some data piling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560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Weighted Discri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2440" indent="-22392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s data piling, good gen’ity, Gaussians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133720" y="2057400"/>
                <a:ext cx="6553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istance Weighted Discrimination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 rot="5400000">
            <a:off x="2197080" y="1002240"/>
            <a:ext cx="4899240" cy="5941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6095880" y="1600200"/>
            <a:ext cx="5335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172200" y="1523880"/>
            <a:ext cx="68580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1371600"/>
            <a:ext cx="1828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ximal Data Piling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istance Weighted Discrimination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95880" y="1600200"/>
            <a:ext cx="5335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440" y="1523520"/>
            <a:ext cx="8094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Optimization Probl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precisely work in appropriate penalty for viol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ization Method  (Michael Todd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rder Cone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6120" indent="-44172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Convex gen’tion of quadratic prog’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6120" indent="-44172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 greedy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6120" indent="-44172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existing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781680" y="1523880"/>
                <a:ext cx="175284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Simulation Comparison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31440" y="1479240"/>
            <a:ext cx="397044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ove Gaussia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array of dim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M Subst’ly wo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D – Bayes Opti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D close to M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095880" y="1600200"/>
            <a:ext cx="5335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62450" b="30313"/>
          <a:stretch/>
        </p:blipFill>
        <p:spPr>
          <a:xfrm>
            <a:off x="5029200" y="1371600"/>
            <a:ext cx="3781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17:06:40Z</dcterms:created>
  <dc:creator>cwpark</dc:creator>
  <dc:description/>
  <dc:language>en-US</dc:language>
  <cp:lastModifiedBy> </cp:lastModifiedBy>
  <dcterms:modified xsi:type="dcterms:W3CDTF">2005-05-30T12:10:05Z</dcterms:modified>
  <cp:revision>708</cp:revision>
  <dc:subject/>
  <dc:title>Joint Distribution of Internet Flow Sizes and Durations</dc:title>
</cp:coreProperties>
</file>