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18.wmf" ContentType="image/x-wmf"/>
  <Override PartName="/ppt/media/image17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31440" y="1479240"/>
            <a:ext cx="809460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31440" y="3970080"/>
            <a:ext cx="809460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31440" y="1479240"/>
            <a:ext cx="394992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79360" y="1479240"/>
            <a:ext cx="394992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1440" y="3970080"/>
            <a:ext cx="394992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79360" y="3970080"/>
            <a:ext cx="394992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31440" y="1479240"/>
            <a:ext cx="260604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8160" y="1479240"/>
            <a:ext cx="260604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4880" y="1479240"/>
            <a:ext cx="260604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31440" y="3970080"/>
            <a:ext cx="260604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8160" y="3970080"/>
            <a:ext cx="260604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04880" y="3970080"/>
            <a:ext cx="260604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31440" y="1479240"/>
            <a:ext cx="8094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31440" y="1479240"/>
            <a:ext cx="809460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31440" y="1479240"/>
            <a:ext cx="394992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79360" y="1479240"/>
            <a:ext cx="394992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160" y="456840"/>
            <a:ext cx="7148520" cy="22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31440" y="1479240"/>
            <a:ext cx="394992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79360" y="1479240"/>
            <a:ext cx="394992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31440" y="3970080"/>
            <a:ext cx="394992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31440" y="1479240"/>
            <a:ext cx="8094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31440" y="1479240"/>
            <a:ext cx="394992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79360" y="1479240"/>
            <a:ext cx="394992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79360" y="3970080"/>
            <a:ext cx="394992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31440" y="1479240"/>
            <a:ext cx="394992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79360" y="1479240"/>
            <a:ext cx="394992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31440" y="3970080"/>
            <a:ext cx="809460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31440" y="1479240"/>
            <a:ext cx="809460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31440" y="3970080"/>
            <a:ext cx="809460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31440" y="1479240"/>
            <a:ext cx="394992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79360" y="1479240"/>
            <a:ext cx="394992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1440" y="3970080"/>
            <a:ext cx="394992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79360" y="3970080"/>
            <a:ext cx="394992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31440" y="1479240"/>
            <a:ext cx="260604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160" y="1479240"/>
            <a:ext cx="260604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4880" y="1479240"/>
            <a:ext cx="260604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31440" y="3970080"/>
            <a:ext cx="260604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160" y="3970080"/>
            <a:ext cx="260604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4880" y="3970080"/>
            <a:ext cx="260604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1440" y="1479240"/>
            <a:ext cx="809460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31440" y="1479240"/>
            <a:ext cx="394992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79360" y="1479240"/>
            <a:ext cx="394992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676160" y="456840"/>
            <a:ext cx="7148520" cy="22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31440" y="1479240"/>
            <a:ext cx="394992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79360" y="1479240"/>
            <a:ext cx="394992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31440" y="3970080"/>
            <a:ext cx="394992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31440" y="1479240"/>
            <a:ext cx="394992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79360" y="1479240"/>
            <a:ext cx="394992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79360" y="3970080"/>
            <a:ext cx="394992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31440" y="1479240"/>
            <a:ext cx="394992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79360" y="1479240"/>
            <a:ext cx="394992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31440" y="3970080"/>
            <a:ext cx="809460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1440" y="1479240"/>
            <a:ext cx="809460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-457200" algn="ctr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457200" indent="-457200" algn="ctr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457200" indent="-457200" algn="ctr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457200" indent="-457200" algn="ctr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457200" indent="-457200" algn="ctr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457200" indent="-457200" algn="ctr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1198440" y="1230480"/>
            <a:ext cx="7820280" cy="0"/>
          </a:xfrm>
          <a:prstGeom prst="line">
            <a:avLst/>
          </a:prstGeom>
          <a:ln w="28440">
            <a:solidFill>
              <a:srgbClr val="0fc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539560" y="6629400"/>
            <a:ext cx="7552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E6B0D-DABD-4B1A-9C2F-69C05425158C}" type="slidenum">
              <a:rPr b="0" lang="ko-KR" sz="1000" spc="-1" strike="noStrike">
                <a:solidFill>
                  <a:srgbClr val="2a3d7a"/>
                </a:solidFill>
                <a:latin typeface="Arial"/>
                <a:ea typeface="굴림"/>
              </a:rPr>
              <a:t>&lt;number&gt;</a:t>
            </a:fld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228600" y="228600"/>
          <a:ext cx="762120" cy="914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228600"/>
                    <a:ext cx="7621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"/>
          <p:cNvSpPr/>
          <p:nvPr/>
        </p:nvSpPr>
        <p:spPr>
          <a:xfrm>
            <a:off x="-16560" y="1143000"/>
            <a:ext cx="1271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ahoma"/>
              </a:rPr>
              <a:t>UNC, Stat &amp; OR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14240" y="42192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31440" y="1479240"/>
            <a:ext cx="809460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lvl="1" marL="1027080" indent="-45540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lvl="2" marL="1370160" indent="-22860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lvl="3" marL="1712880" indent="-22860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5" name=""/>
          <p:cNvSpPr/>
          <p:nvPr/>
        </p:nvSpPr>
        <p:spPr>
          <a:xfrm>
            <a:off x="1198440" y="1230480"/>
            <a:ext cx="7820280" cy="0"/>
          </a:xfrm>
          <a:prstGeom prst="line">
            <a:avLst/>
          </a:prstGeom>
          <a:ln w="28440">
            <a:solidFill>
              <a:srgbClr val="0fc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539560" y="6629400"/>
            <a:ext cx="7552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07E6F-F23B-4B6F-90BF-BF8557CEB96D}" type="slidenum">
              <a:rPr b="0" lang="ko-KR" sz="1000" spc="-1" strike="noStrike">
                <a:solidFill>
                  <a:srgbClr val="2a3d7a"/>
                </a:solidFill>
                <a:latin typeface="Arial"/>
                <a:ea typeface="굴림"/>
              </a:rPr>
              <a:t>&lt;number&gt;</a:t>
            </a:fld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228600" y="228600"/>
          <a:ext cx="762120" cy="914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228600"/>
                    <a:ext cx="7621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-16560" y="1143000"/>
            <a:ext cx="1271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ahoma"/>
              </a:rPr>
              <a:t>UNC, Stat &amp; OR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../../../Research/ComplexPopn/ChemoSpect/TimeSerFDA/Demography/mspainagecurve-all.pdf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../../../Research/ComplexPopn/ChemoSpect/TimeSerFDA/Demography/mspainagecurve-all.pdf" TargetMode="External"/><Relationship Id="rId2" Type="http://schemas.openxmlformats.org/officeDocument/2006/relationships/hyperlink" Target="../../../Research/ComplexPopn/ChemoSpect/TimeSerFDA/Demography/spainyearcolorindexes.pdf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../../../Research/ComplexPopn/ChemoSpect/TimeSerFDA/Demography/mswitzerlandagecurve-all.pdf" TargetMode="External"/><Relationship Id="rId2" Type="http://schemas.openxmlformats.org/officeDocument/2006/relationships/hyperlink" Target="../../../Research/ComplexPopn/ChemoSpect/TimeSerFDA/Demography/switzerlanyearcolorindexes.pdf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../../../Research/ComplexPopn/ChemoSpect/TimeSerFDA/Demography/mspainyearcurve-all.pdf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../../../Research/ComplexPopn/ChemoSpect/TimeSerFDA/Demography/mspainyearcurve-all.pdf" TargetMode="External"/><Relationship Id="rId2" Type="http://schemas.openxmlformats.org/officeDocument/2006/relationships/hyperlink" Target="../../../Research/ComplexPopn/ChemoSpect/TimeSerFDA/Demography/spainagecolorindexes.pdf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99840" y="456840"/>
            <a:ext cx="7467480" cy="45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  <a:ea typeface="굴림"/>
              </a:rPr>
              <a:t>Hailuoto Workshop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6108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굴림"/>
              </a:rPr>
              <a:t>Object Oriented Data Analysis, III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45720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J. S. Marr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Dept. of Statistics and Operations Research, University of North Caroli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B46E1-2BE3-4E92-988F-04E9930CCB71}" type="datetime3"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July 30, 2026</a:t>
            </a:fld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Chemical Spectra, IV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762012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Chemical Spectra, V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762012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Chemical Spectra, VI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762012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Chemical Spectra, VII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762012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Chemical Spectra, VIII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762012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Demography Data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31440" y="1479240"/>
            <a:ext cx="8094600" cy="514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tality, as a function of 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3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ce of dying”, for Ma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3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 each 1-year age gro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3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rves are yea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908 - 200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0ae6a"/>
                </a:solidFill>
                <a:uFillTx/>
                <a:latin typeface="Tahoma"/>
                <a:hlinkClick r:id="rId1"/>
              </a:rPr>
              <a:t>PCA of the family of cur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Demography Data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31440" y="1479240"/>
            <a:ext cx="8094600" cy="514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447840" indent="-44784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0ae6a"/>
                </a:solidFill>
                <a:uFillTx/>
                <a:latin typeface="Tahoma"/>
                <a:hlinkClick r:id="rId1"/>
              </a:rPr>
              <a:t>PCA of the family of curves for Ma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bies &amp; elderly “most mortal”  (Raw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getting better over time (Raw &amp; PC1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cept 1918  -  Influenza Pandem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see </a:t>
            </a:r>
            <a:r>
              <a:rPr b="0" lang="en-US" sz="3200" spc="-1" strike="noStrike" u="sng">
                <a:solidFill>
                  <a:srgbClr val="b0ae6a"/>
                </a:solidFill>
                <a:uFillTx/>
                <a:latin typeface="Tahoma"/>
                <a:hlinkClick r:id="rId2"/>
              </a:rPr>
              <a:t>Color Scal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ddle age most mortal   (PC2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1006200" indent="-446040">
              <a:lnSpc>
                <a:spcPct val="8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06200" indent="-446040">
              <a:lnSpc>
                <a:spcPct val="8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rly 1930s  -  Spanish Civil W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06200" indent="-446040">
              <a:lnSpc>
                <a:spcPct val="8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80 – 1994 (then better) auto wre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ade Rounding (several plac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Demography Data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31440" y="1479240"/>
            <a:ext cx="8094600" cy="514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0ae6a"/>
                </a:solidFill>
                <a:uFillTx/>
                <a:latin typeface="Tahoma"/>
                <a:hlinkClick r:id="rId1"/>
              </a:rPr>
              <a:t>PCA for Males in Switzerland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1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st aspects simi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1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decade rounding (better record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1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918  Flu – Different Color   (PC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see </a:t>
            </a:r>
            <a:r>
              <a:rPr b="0" lang="en-US" sz="3200" spc="-1" strike="noStrike" u="sng">
                <a:solidFill>
                  <a:srgbClr val="b0ae6a"/>
                </a:solidFill>
                <a:uFillTx/>
                <a:latin typeface="Tahoma"/>
                <a:hlinkClick r:id="rId2"/>
              </a:rPr>
              <a:t>Color Scal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1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War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1027080" indent="-455400">
              <a:lnSpc>
                <a:spcPct val="11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eady improvement until 70s  (PC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27080" indent="-455400">
              <a:lnSpc>
                <a:spcPct val="11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uto accidents kicked 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Demography Data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31440" y="1479240"/>
            <a:ext cx="8094600" cy="514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ual P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a:  Rows and Columns trade pl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mographic Primal View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rves are Years, Coord’s are 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mographic Dual View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rves are Ages, Coord’s are Yea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0ae6a"/>
                </a:solidFill>
                <a:uFillTx/>
                <a:latin typeface="Tahoma"/>
                <a:hlinkClick r:id="rId1"/>
              </a:rPr>
              <a:t>Dual PCA View, Spanish Ma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Demography Data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31440" y="1479240"/>
            <a:ext cx="8094600" cy="514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447840" indent="-44784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0ae6a"/>
                </a:solidFill>
                <a:uFillTx/>
                <a:latin typeface="Tahoma"/>
                <a:hlinkClick r:id="rId1"/>
              </a:rPr>
              <a:t>Dual PCA View, Spanish Ma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lde people have const. mortality (raw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t improvement for rest (raw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d for 1918 (flu) &amp; Spanish Civil War, but generally improving (mea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roves for ages 1-6, then worse (PC1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g Improvement for young (PC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 u="sng">
                <a:solidFill>
                  <a:srgbClr val="b0ae6a"/>
                </a:solidFill>
                <a:uFillTx/>
                <a:latin typeface="Tahoma"/>
                <a:hlinkClick r:id="rId2"/>
              </a:rPr>
              <a:t>Age Color Ke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HDLSS Space is a Weird Place, I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31440" y="1479240"/>
            <a:ext cx="8094600" cy="514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ximal Data Piling    (with J. Y. Ah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HDL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nary Discriminat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direction wher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 +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jections pile at one p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Class -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jections pile at an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Discrimination for m-reps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31440" y="1479600"/>
            <a:ext cx="8055000" cy="172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ification for Lie Groups – Symm. Sp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7168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. K. Sen &amp; S. Josh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“separating plane” (for SVM-DWD)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819520" y="3657600"/>
            <a:ext cx="397188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Trees as Data Points, I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55000" cy="278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ain Blood Vessel Trees  -  E. Bullit &amp; H. Wa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Understanding of Populatio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?        PCA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llenge:    Very Non-Euclide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209680" y="4419720"/>
            <a:ext cx="48006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Trees as Data Points, II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31440" y="1479600"/>
            <a:ext cx="7978680" cy="22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 of Tree Population:  Frechét Approa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A on Trees   (based on “tree lines”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ory in Place    -    Implementatio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14400" y="3962520"/>
            <a:ext cx="3078000" cy="23079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257800" y="3962520"/>
            <a:ext cx="3078000" cy="23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" dur="1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HDLSS Asymptotics: Simple Paradoxes, I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55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     dim’al “Standard Normal” dist’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uclidean Distance to Origin (as            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Data lie roughly on surface of sphere of radiu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Yet origin is point of “highest density”??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Paradox resolved b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nsity w. r. t. Lebesgue Measure”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219320" y="1523880"/>
                <a:ext cx="24912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5105520" y="3200400"/>
                <a:ext cx="91440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5867280" y="1523880"/>
                <a:ext cx="259092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Z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d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~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0</m:t>
                            </m:r>
                          </m:e>
                        </m:acc>
                        <m:r>
                          <m:t xml:space="preserve">,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6019920" y="3657600"/>
                <a:ext cx="20444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‖"/>
                        <m:endChr m:val="‖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d</m:t>
                        </m:r>
                      </m:e>
                    </m:rad>
                    <m:r>
                      <m:t xml:space="preserve">+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7238880" y="4267080"/>
                <a:ext cx="4446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d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HDLSS Asymptotics: Simple Paradoxes, II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55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   dim’al “Standard Normal” dist’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.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uclidean Dist. between      and      (as          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tends to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on-rando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onstan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extend to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 do they all go??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we can only perceive 3 dim’ns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1219320" y="1523880"/>
                <a:ext cx="2286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6934320" y="3048120"/>
                <a:ext cx="10666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5486400" y="1941480"/>
                <a:ext cx="198108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acc>
                    <m:r>
                      <m:rPr>
                        <m:lit/>
                        <m:nor/>
                      </m:rPr>
                      <m:t xml:space="preserve">~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0</m:t>
                            </m:r>
                          </m:e>
                        </m:acc>
                        <m:r>
                          <m:t xml:space="preserve">,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4876920" y="3962520"/>
                <a:ext cx="32763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‖"/>
                        <m:endChr m:val="‖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acc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d</m:t>
                        </m:r>
                      </m:e>
                    </m:rad>
                    <m:r>
                      <m:t xml:space="preserve">+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3429000" y="1905120"/>
                <a:ext cx="4017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4572000" y="2971800"/>
                <a:ext cx="4017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5791320" y="2971800"/>
                <a:ext cx="4698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3124080" y="4551480"/>
                <a:ext cx="11430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HDLSS Asymptotics: Simple Paradoxes, III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55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   dim’al “Standard Normal” dist’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.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im’al Angles   (as             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-“Everything is orthogonal”??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Where do they all go??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gain our perceptual limita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Again 1st order structure i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on-rando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219320" y="1447920"/>
                <a:ext cx="29052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648320" y="2819520"/>
                <a:ext cx="10666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5562720" y="1981080"/>
                <a:ext cx="205740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acc>
                    <m:r>
                      <m:rPr>
                        <m:lit/>
                        <m:nor/>
                      </m:rPr>
                      <m:t xml:space="preserve">~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0</m:t>
                            </m:r>
                          </m:e>
                        </m:acc>
                        <m:r>
                          <m:t xml:space="preserve">,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3498840" y="3422520"/>
                <a:ext cx="435924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gle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acc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3352680" y="1981080"/>
                <a:ext cx="4017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HDLSS Asy’s: Geometrical Representation, I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38862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sume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                  ,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t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y Subspace Generated by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yperplane through 0, of dimension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ints are “nearly equidistant to 0”, &amp; dis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in plane, can “rotate towards          Unit Simplex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ll Gaussian data set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re“near Unit Simplex Vertices”!!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ndomness”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ppears only in rot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simple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2209680" y="2992320"/>
                <a:ext cx="187560" cy="1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4419720" y="1447920"/>
                <a:ext cx="914400" cy="29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600200" y="1447920"/>
                <a:ext cx="220968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acc>
                    <m:r>
                      <m:rPr>
                        <m:lit/>
                        <m:nor/>
                      </m:rPr>
                      <m:t xml:space="preserve">~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0</m:t>
                            </m:r>
                          </m:e>
                        </m:acc>
                        <m:r>
                          <m:t xml:space="preserve">,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981080" y="4343400"/>
                <a:ext cx="60984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d</m:t>
                        </m:r>
                      </m:e>
                    </m:rad>
                    <m:r>
                      <m:t xml:space="preserve">×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438280" y="3657600"/>
                <a:ext cx="37332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d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 rot="5400000">
            <a:off x="5181480" y="1904760"/>
            <a:ext cx="3244680" cy="37022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5029200" y="5867280"/>
            <a:ext cx="3886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 P. Hall &amp; A. Neemon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HDLSS Asy’s: Geometrical Representation, II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38862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sume                              , l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y Hyperplane Generated by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mensional hyperpla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ints are pairwise equidistant,    dis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ints lie at vertices of        “regular       hedron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ain “randomness in data” is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only in r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rprisingly rigid structure in data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990720" y="2590920"/>
                <a:ext cx="533160" cy="2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4419720" y="1447920"/>
                <a:ext cx="914400" cy="29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600200" y="1447920"/>
                <a:ext cx="220968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acc>
                    <m:r>
                      <m:rPr>
                        <m:lit/>
                        <m:nor/>
                      </m:rPr>
                      <m:t xml:space="preserve">~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0</m:t>
                            </m:r>
                          </m:e>
                        </m:acc>
                        <m:r>
                          <m:t xml:space="preserve">,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3586320" y="3657600"/>
                <a:ext cx="75240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d</m:t>
                        </m:r>
                      </m:e>
                    </m:rad>
                    <m:r>
                      <m:t xml:space="preserve">×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3124080" y="3276720"/>
                <a:ext cx="57636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~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d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648320" y="2438280"/>
            <a:ext cx="4267080" cy="3200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981080" y="4114800"/>
                <a:ext cx="390600" cy="1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9" dur="1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737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HDLSS Asy’s: Geometrical Representation, III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31800" y="1479600"/>
            <a:ext cx="7902720" cy="80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ulation View:  shows “rigidity after rotation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 rot="5400000">
            <a:off x="2293560" y="1820520"/>
            <a:ext cx="44798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737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HDLSS Asy’s: Geometrical Representation, III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31800" y="1479600"/>
            <a:ext cx="7902720" cy="492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aightforward Generalization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Gaussian data:    only need mo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4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independent:    use “mixing condition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4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ld Eigenvalue condition on Theoretical Cov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with J. Ahn, K. Muller &amp; Y. Chi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based on simple “Laws of Large Numbers”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2057400" y="4419720"/>
                <a:ext cx="20160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HDLSS Space is a Weird Place, II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31440" y="1479240"/>
            <a:ext cx="8094600" cy="514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ximal Data Piling Mathematic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3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s w.p. 1, when abs. cont. w.r.t. Lebesgue meas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3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ique within subspace gend by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3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ula very similar to F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pooled within cov.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global cov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3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am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s FLD when  n &lt; 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737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HDLSS Asy’s: Geometrical Representation, IV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880" y="1479600"/>
            <a:ext cx="8305920" cy="492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anation of Observed (Simulation) Behavi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thing similar for very high 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 popn’s are 2 simplices  (i.e. regula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hedr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re same distance from the other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everything is a support vec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all sensible directions show “data piling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 “sensible methods are all nearly the same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luding  1 - N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737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HDLSS Asy’s: Geometrical Representation, V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80880" y="1479600"/>
            <a:ext cx="8305920" cy="492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rther Consequences of Geometric Re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  Inefficiency of DWD for uneven sample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motivates “weighted version”, work in prog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  DWD more “stable” than SV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based on “deeper limiting distributions”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reflects intuitive idea “feeling sampling variation”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omething like “mean vs. median”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  1-NN rule inefficiency is quantifie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737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The Future of Geometrical Representation?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1479600"/>
            <a:ext cx="8305920" cy="492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3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S version of “optimality” result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3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guity” approach?    Params depend o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3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s of Convergenc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3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s of DW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.g. other functions of distance than invers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still early days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737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Some Carry Away Lessons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80880" y="1479600"/>
            <a:ext cx="8305920" cy="492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6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oms of the Analysis:   Object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6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HDLS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ontexts deserve further stu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6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WD is attractive for </a:t>
            </a: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HDLS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lass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6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ness” in HDLSS data is only in ro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Modulo rotation, have context simplex shap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6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put </a:t>
            </a: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HDLS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symptotics to work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HDLSS Space is a Weird Place, III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048120" y="1371600"/>
            <a:ext cx="5806800" cy="52182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28600" y="1676520"/>
            <a:ext cx="2590920" cy="23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~2</a:t>
            </a:r>
            <a:r>
              <a:rPr b="0" lang="en-US" sz="2400" spc="-1" strike="noStrike" baseline="30000">
                <a:solidFill>
                  <a:srgbClr val="5b5249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MDP Dirn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Useful for clustering?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Hard Optimization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HDLSS Space is a Weird Place, IV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294920" y="1143000"/>
            <a:ext cx="7216920" cy="73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llel Directions   (with X. Liu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8921" t="7578" r="8921" b="0"/>
          <a:stretch/>
        </p:blipFill>
        <p:spPr>
          <a:xfrm>
            <a:off x="1371600" y="1676520"/>
            <a:ext cx="670572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Time Series of Curves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31440" y="1479240"/>
            <a:ext cx="8094600" cy="514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13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emical Spectra, evolving over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th J. Wendelberger &amp; E. Kober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3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tality curves changing in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th Andres Alonz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sualizat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1027080" indent="-455400">
              <a:lnSpc>
                <a:spcPct val="13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 tools, PCA &amp; Di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27080" indent="-455400">
              <a:lnSpc>
                <a:spcPct val="13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color according to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Chemical Spectra, I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762012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Chemical Spectra, II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762012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Chemical Spectra, III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762012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5T17:06:40Z</dcterms:created>
  <dc:creator>cwpark</dc:creator>
  <dc:description/>
  <dc:language>en-US</dc:language>
  <cp:lastModifiedBy> </cp:lastModifiedBy>
  <dcterms:modified xsi:type="dcterms:W3CDTF">2005-06-01T12:05:55Z</dcterms:modified>
  <cp:revision>728</cp:revision>
  <dc:subject/>
  <dc:title>Joint Distribution of Internet Flow Sizes and Durations</dc:title>
</cp:coreProperties>
</file>