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816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88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144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816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88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4240" y="421920"/>
            <a:ext cx="71485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3" marL="171288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1AA2-C11A-4349-B1B1-4210E8073DD2}" type="slidenum">
              <a:rPr b="0" lang="ko-KR" sz="1000" spc="-1" strike="noStrike">
                <a:solidFill>
                  <a:srgbClr val="2a3d7a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66680" y="324000"/>
            <a:ext cx="120168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../StatAdvent/UNC2001RS1allCCDFfullcombine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ath.uvic.ca/faculty/reed/" TargetMode="External"/><Relationship Id="rId2" Type="http://schemas.openxmlformats.org/officeDocument/2006/relationships/hyperlink" Target="http://www.math.uvic.ca/faculty/reed/" TargetMode="External"/><Relationship Id="rId3" Type="http://schemas.openxmlformats.org/officeDocument/2006/relationships/hyperlink" Target="http://www.math.uvic.ca/faculty/reed/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  <a:ea typeface="굴림"/>
              </a:rPr>
              <a:t>Hailuoto Workshop</a:t>
            </a:r>
            <a:endParaRPr b="1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  <a:ea typeface="굴림"/>
              </a:rPr>
              <a:t>A Statistician’s Adventures </a:t>
            </a:r>
            <a:endParaRPr b="0" lang="en-US" sz="36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  <a:ea typeface="굴림"/>
              </a:rPr>
              <a:t>in Internetland</a:t>
            </a:r>
            <a:endParaRPr b="0" lang="en-US" sz="36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. S. Marron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partment of Statistics and Operations Research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niversity of North Carolina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5D24-0BD0-4C19-ACC2-D48D5D40AE08}" type="datetime3">
              <a:rPr b="0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July 30, 2026</a:t>
            </a:fld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Data Source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8305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quence of Packet Header Info, such as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rrival Tim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&amp; Destination addresse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acket Type (request, data, ack’ment, …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acket Size  (40 – 1500 bytes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quence numb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lnSpc>
                <a:spcPct val="2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xtraction:   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eavy “database filtering”, by UNC Comp. Sci. folks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effay, Smith, Ott, Hernandez Campos, Long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Toy Example View of Packets &amp; Connections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85800" y="1371600"/>
            <a:ext cx="5638680" cy="4952880"/>
            <a:chOff x="685800" y="1371600"/>
            <a:chExt cx="5638680" cy="4952880"/>
          </a:xfrm>
        </p:grpSpPr>
        <p:pic>
          <p:nvPicPr>
            <p:cNvPr id="66" name="" descr=""/>
            <p:cNvPicPr/>
            <p:nvPr/>
          </p:nvPicPr>
          <p:blipFill>
            <a:blip r:embed="rId1"/>
            <a:srcRect l="9705" t="9356" r="13606" b="3997"/>
            <a:stretch/>
          </p:blipFill>
          <p:spPr>
            <a:xfrm>
              <a:off x="685800" y="1371600"/>
              <a:ext cx="563868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 txBox="1"/>
            <p:nvPr/>
          </p:nvSpPr>
          <p:spPr>
            <a:xfrm>
              <a:off x="685800" y="1371600"/>
              <a:ext cx="5638680" cy="495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457200" indent="-457200">
                <a:lnSpc>
                  <a:spcPct val="220000"/>
                </a:lnSpc>
                <a:spcBef>
                  <a:spcPts val="4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ahoma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248520" y="3304440"/>
            <a:ext cx="2590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bservatio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굴림"/>
              </a:rPr>
              <a:t>Starting tim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굴림"/>
              </a:rPr>
              <a:t>Duration (tim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굴림"/>
              </a:rPr>
              <a:t>Size (byte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굴림"/>
              </a:rPr>
              <a:t>Packet cou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굴림"/>
              </a:rPr>
              <a:t>Byte cou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굴림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굴림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8480" y="1518480"/>
            <a:ext cx="19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굴림"/>
              </a:rPr>
              <a:t>Connection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굴림"/>
              </a:rPr>
              <a:t>Made up of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굴림"/>
              </a:rPr>
              <a:t>Packe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23924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Mice and Elephants Graphic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ce and Elephants” plot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4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Visual display of HTTP Response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4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how only “times of HTTP Response starts  &amp;  ends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lnSpc>
                <a:spcPct val="14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s horizontal line segments (in time)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4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ndense “string of packets” to only a line segment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4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Visually separate by adding random height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lnSpc>
                <a:spcPct val="14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ukey’s “jitter plot” idea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4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y show random sample of 5000 out of ~100,000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Mice and Elephants Graphic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rot="5400000">
            <a:off x="835560" y="840240"/>
            <a:ext cx="5110200" cy="601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553080" y="2133720"/>
            <a:ext cx="23878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ery smal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e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very larg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phants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Mice and Elephants – Simulated Durations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1600200"/>
            <a:ext cx="28191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rt tim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’d Exponent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“elephants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c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“betweens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onential Model is very po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 rot="5400000">
            <a:off x="713160" y="1343520"/>
            <a:ext cx="4592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Some Important Time Series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2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nned Counts (aggregated over time)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 rot="5400000">
            <a:off x="953640" y="2489040"/>
            <a:ext cx="342576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01680" y="2743200"/>
            <a:ext cx="2684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Packe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Byt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similar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or 10 ms bi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A Menu of Interesting Issues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797868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n Count Time Seri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ng Range dependenc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int Process of Flow Start Tim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uration Distributions (heavy tails)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eavy tail Durations            LRD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lationship between Size and Duration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me series of packets within flows?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952880" y="4191120"/>
                <a:ext cx="4572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ribution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Study sizes (bytes) of HTTP responses, as surrogate for: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me between first and last packet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mice and elephant plo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Study 4 hour time block: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eavy Traffic Time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ursday Morning 8:00PM – 12:00No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April 2001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rom UNC Main Link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ribution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Log-Log Complementary Cumulative Distribution Function Plo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as a function of    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Would be linear for Pareto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(slope = shape parameter)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~ Q-Q plot against exponentia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38080" y="2819520"/>
                <a:ext cx="28879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86600" y="2895480"/>
                <a:ext cx="1447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g-log sca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retch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quantil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llows “clear view of tail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  <a:ea typeface="굴림"/>
              </a:rPr>
              <a:t>Co-Authors in this work</a:t>
            </a:r>
            <a:endParaRPr b="1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elix Hernández Camp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red Godtliebsen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eorge Michailid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heolwoo Park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uhyun Par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Vladas Pipira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Vitaliana Rondonott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vid Rol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ipeng Sh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. D. Smith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ichard Smi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ilian Stoev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rad Taqq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Zhengyuan Zhu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iggles” about possible linear fi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iggles really there?      Or “natural variation”?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oes Pareto Model “fit”?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oks OK ??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arefu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have ~ 5.6 million data point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 is sampling variation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can we assess it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owney (2001) Controversy:  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g Normal fits as well?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g problem, log normal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t heavy tail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.g. all moments     (expon’l, not poly’l, tail!)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mplications for  “Heavy tails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LRD” theory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dified theory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nning, Marron, Samorodnitzky and Smith (2002)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dea:  log normal (with changing parameters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RD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g normal fi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oks OK??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 is natural variation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resting Viewpoint:    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Gong, Liu, Misra and Towsley (2001)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Key idea:   “distributional fragility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Several “very different” distributions can all “fit in tails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Conclusions: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Careful tail fits not very interpretable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heavy tails” may be slippery concep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w address “sampling variation” issue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dd overlay of 100 data sets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e sample siz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rom given distribu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ves good intuitive idea of “sampling variation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eto Model clearly does not fit this data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verlay from Pareto Distribution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ves good intuitive idea of “sampling variation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ows “wiggles”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really ther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sampling artifac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ggests distribution not “heavy tailed”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finition is only asymptotic 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mplications for above theory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ew concept motivated by above analysis:  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veral “tail region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ear tail:   “very complete info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1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ich data, no envelop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r tail:   “sketchy info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lnSpc>
                <a:spcPct val="11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parse data, wide envelop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reme tail:   “no info”  -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yond range of data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mportant point:  have these regardless of “size of data set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fferent Viewpoint:    Look across time block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7 week days:    Sun.  -  Sat.     3 time block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r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8:00 AM – 12:00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ftern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12:00 – 4:00 PM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e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7:30 PM – 11:30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21 log – log CCDF </a:t>
            </a:r>
            <a:r>
              <a:rPr b="0" lang="en-US" sz="2800" spc="-1" strike="noStrike" u="sng">
                <a:solidFill>
                  <a:srgbClr val="b0ae6a"/>
                </a:solidFill>
                <a:uFillTx/>
                <a:latin typeface="Tahoma"/>
                <a:ea typeface="굴림"/>
                <a:hlinkClick r:id="rId1"/>
              </a:rPr>
              <a:t>plo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ll overlaid in blue, each highlighted in red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ructure amazingly similar!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iggles g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s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way!!!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uggests these are “important” pop’n structure!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23924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Internet Traffic Background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Gigantic (worldwide) Communic’ns Networks: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lnSpc>
                <a:spcPct val="2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  <a:ea typeface="굴림"/>
              </a:rPr>
              <a:t>Telephone Network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lnSpc>
                <a:spcPct val="2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  <a:ea typeface="굴림"/>
              </a:rPr>
              <a:t>Interne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oth based on “connections” between 2 points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deeper distributional look:    Interesting candidate: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ouble Pareto Log Normal distribu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ed, W. J. (2001) 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ahoma"/>
                <a:ea typeface="굴림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ahoma"/>
                <a:ea typeface="굴림"/>
                <a:hlinkClick r:id="rId2"/>
              </a:rPr>
              <a:t>www.math.uvic.ca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ahoma"/>
                <a:ea typeface="굴림"/>
                <a:hlinkClick r:id="rId3"/>
              </a:rPr>
              <a:t>/faculty/reed/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4 parameter family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areto type tails,  “center” and “spread” like log-norma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pretable as “stopped geometric Brownian Motion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kes “physical sense”  (via sequence of “file updates”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ems a better fit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ut doesn’t model “wiggle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im’ed envelope shows DPLN actuall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oesn’t f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the data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Richer family:    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xture distributions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xture of 3 DPLN distributions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Parameters fit “visually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E.g. maximum likelihood looks slippery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mazingly good fi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or ~ 5.6 million data points!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pretation of Mixture parameters: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~ 55%, sizes 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bytes:   mayb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iny layout images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TML error status pages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navigation bars in multi-frame pages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~45%, sizes 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bytes:   mayb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st standard HTML text pages and images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~0.1%, sizes 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bytes:   mayb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oftware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ultimedia content (such as movies)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DF document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kes physical sense!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imilar lessons for log-norma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tribut’l fragility!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an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comp’t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y ~ 5 data pt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rious implications for current theory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obbly tail is not a “heavy tail” in classical sens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lassical Definition requires “convergence at a particular rate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t “wobbling between rates” (as modelled above)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Question from Downey (2001):    so where does LRD come from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Variable Tail Index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Idea: extended model, which allows “wiggly tails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Approach:  consider 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location dependent tail index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as “- slope of log – log CCDF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low Duration Dist’ns – log log CCDF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ail Index wobbles mostly between 1 &amp; 2, and outside, too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undamental Difference, I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479240"/>
            <a:ext cx="85345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anner of Equipment Usage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Telephone: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ach con’n h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le us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of ~2 wires)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gestion             no connection   (busy signal)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  <a:ea typeface="굴림"/>
              </a:rPr>
              <a:t>Internet: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ll connection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 resourc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transmissions split into small “packets”)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gestion              packet loss &amp; delays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  <a:ea typeface="굴림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048120" y="3352680"/>
                <a:ext cx="533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581280" y="5181480"/>
                <a:ext cx="609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Variable Tail Index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nhanced Theory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ernandez Campos, Marron, Samorodnitzky &amp; Smith (2002) “Variable Heavy Tailed Durations in Internet Traffic”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und bite version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or variable tail index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ten between 1 &amp; 2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ill get LRD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23924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undamental Difference, II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Distribution of duration (time) of connections: 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  <a:ea typeface="굴림"/>
              </a:rPr>
              <a:t>Telephone:</a:t>
            </a:r>
            <a:r>
              <a:rPr b="0" lang="en-US" sz="3200" spc="-1" strike="noStrike">
                <a:solidFill>
                  <a:srgbClr val="5b5249"/>
                </a:solidFill>
                <a:latin typeface="Tahoma"/>
                <a:ea typeface="굴림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(roughly) exponential distrib’n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39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(must speak  &amp;  how long can hold phone?) 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  <a:ea typeface="굴림"/>
              </a:rPr>
              <a:t>Internet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heavy tailed distributions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39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(very long and very short connections!) 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Fundamental Difference, III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752148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0">
              <a:lnSpc>
                <a:spcPct val="2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athematical Models: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Telephone: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  <a:ea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queueing theor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isson arrivals, exponential durations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lnSpc>
                <a:spcPct val="1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  <a:ea typeface="굴림"/>
              </a:rPr>
              <a:t>Internet: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  <a:ea typeface="굴림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Heavy Tail Conn’n Durations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ng Range Dependenc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523880" y="5105520"/>
                <a:ext cx="609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Internet Modes of Study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8305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et Structure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nnectivity Graph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7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et “Tomography”:   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se “measurements at edges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 infer “general structure and behavior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1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raffic measurements at one point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ime series of packet information at one loc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Internet Measurement – Modeling Goals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odels for simulation???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or “protocol fixing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2" marL="1342440" indent="-22392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QoS &amp; fixing gross inefficiencie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estbed for business applic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2" marL="1342440" indent="-22392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eb developer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lnSpc>
                <a:spcPct val="17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Goodness of Fit” of models???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do we know this works like real traffic?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re realistically: How bad is it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  <a:ea typeface="굴림"/>
              </a:rPr>
              <a:t>Our Data Collection Point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8305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ap” on Main Link at UNC (U. North Carolina)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eavy traffic both direc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35,000 web browser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unsite (mirror site for large data bases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me indication of scale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1998 peak traffic:   ~3 minutes for 1 mil. Packet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001 peak traffic:    ~1 minute for 1 mil. Packet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7:06:40Z</dcterms:created>
  <dc:creator>cwpark</dc:creator>
  <dc:description/>
  <dc:language>en-US</dc:language>
  <cp:lastModifiedBy> </cp:lastModifiedBy>
  <dcterms:modified xsi:type="dcterms:W3CDTF">2005-05-31T04:42:07Z</dcterms:modified>
  <cp:revision>562</cp:revision>
  <dc:subject/>
  <dc:title>Joint Distribution of Internet Flow Sizes and Durations</dc:title>
</cp:coreProperties>
</file>