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4240" y="42192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930-F062-46D1-9B19-C8F7CF895758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66680" y="324000"/>
            <a:ext cx="12016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../StatAdvent/UNC2001RS2MiceEleT11Combine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Hailuoto Workshop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  <a:ea typeface="굴림"/>
              </a:rPr>
              <a:t>A Statistician’s Adventures </a:t>
            </a: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  <a:ea typeface="굴림"/>
              </a:rPr>
              <a:t>in Internetland</a:t>
            </a: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. S. Marron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partment of Statistics and Operations Research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iversity of North Carolina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DFB4-FD70-4D42-BA2A-88C983421EA9}" type="datetime3">
              <a:rPr b="0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July 30, 2026</a:t>
            </a:fld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xperience with Hurst parameter estimatio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2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y Data:  Excellent,  (Poisson Data is flat, FGN linear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 Data:    More challenging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udied ~30    two hour time blocks,   2002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2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  Estimation makes sense (~ 0.8 – 0.9) for many case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2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.e. FGN is a reasonable mod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2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But some there were very strange cases (H &gt;&gt; 1)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Real Data (“nice”):</a:t>
            </a:r>
            <a:r>
              <a:rPr b="1" lang="en-US" sz="20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2002 Apr 13 Sat 19:30 – 21:30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5800" y="1600200"/>
            <a:ext cx="7924680" cy="4648320"/>
            <a:chOff x="685800" y="1600200"/>
            <a:chExt cx="7924680" cy="46483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9139" t="50469" r="14612" b="4060"/>
            <a:stretch/>
          </p:blipFill>
          <p:spPr>
            <a:xfrm>
              <a:off x="685800" y="1600200"/>
              <a:ext cx="79246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>
              <a:off x="685800" y="1600200"/>
              <a:ext cx="792468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143000" y="2209680"/>
            <a:ext cx="144792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Real Data (“ugly”):</a:t>
            </a:r>
            <a:r>
              <a:rPr b="1" lang="en-US" sz="20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2002 Apr 13 Sat 1 pm – 3 p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5b5249"/>
              </a:solidFill>
              <a:latin typeface="Tahoma"/>
              <a:ea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11480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11480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8489" t="49537" r="14151" b="4007"/>
          <a:stretch/>
        </p:blipFill>
        <p:spPr>
          <a:xfrm>
            <a:off x="609480" y="144792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220968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4038480"/>
            <a:ext cx="16002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xplanatory Tool:  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굴림"/>
              </a:rPr>
              <a:t>Si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  <a:ea typeface="굴림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nificance of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  <a:ea typeface="굴림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 crossings of the derivative of the smooths in scale space: Chaudhuri and Marron (1999)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ploratory smoothing method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Are bumps really there?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nsider all smoothing level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udy (simultaneous) C. I.s for slope (derivative) of smooth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mbine with statistical inference and visualizatio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굴림"/>
              </a:rPr>
              <a:t>Blue: slope significantly upwards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굴림"/>
              </a:rPr>
              <a:t>Red: slope significantly downwards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4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  <a:ea typeface="굴림"/>
              </a:rPr>
              <a:t>Purple: insignificant slope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굴림"/>
              </a:rPr>
              <a:t>Si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  <a:ea typeface="굴림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r</a:t>
            </a: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 Example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3970080" cy="294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971880" cy="295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3080" y="1523880"/>
            <a:ext cx="386856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tish Incomes Da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 Density Estim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des “really there”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3480" y="1523880"/>
            <a:ext cx="378792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lower’s Fossil Da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inear Regress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valley “not ther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53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34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053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Dependent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굴림"/>
              </a:rPr>
              <a:t>Si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  <a:ea typeface="굴림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r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rk, Marron, and Rondonotti (2004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Zer compares data with white noi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appropriate in time seri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pendent SiZer compares data with an assumed mod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ness of fit tes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0">
              <a:lnSpc>
                <a:spcPct val="2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Dep’ent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굴림"/>
              </a:rPr>
              <a:t>Si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  <a:ea typeface="굴림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r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: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굴림"/>
              </a:rPr>
              <a:t>2002 Apr 13 Sat 1 pm – 3 pm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8896" t="5726" r="12046" b="6393"/>
          <a:stretch/>
        </p:blipFill>
        <p:spPr>
          <a:xfrm>
            <a:off x="685800" y="144792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Zoomed view (to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red region</a:t>
            </a: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, i.e. “flat top”)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37" t="4126" r="9223" b="6393"/>
          <a:stretch/>
        </p:blipFill>
        <p:spPr>
          <a:xfrm>
            <a:off x="68580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urther Zoom:  finds </a:t>
            </a:r>
            <a:r>
              <a:rPr b="1" i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very</a:t>
            </a: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 periodic behavior!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6637" t="4126" r="9790" b="6393"/>
          <a:stretch/>
        </p:blipFill>
        <p:spPr>
          <a:xfrm>
            <a:off x="60948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Revisit: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굴림"/>
              </a:rPr>
              <a:t>2002 Apr 13 Sat 1 pm – 3 pm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5b5249"/>
              </a:solidFill>
              <a:latin typeface="Tahoma"/>
              <a:ea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11480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11480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8489" t="49537" r="14151" b="4007"/>
          <a:stretch/>
        </p:blipFill>
        <p:spPr>
          <a:xfrm>
            <a:off x="609480" y="144792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220968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038480"/>
            <a:ext cx="16002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A Menu of Interesting Issue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797868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n Count Time Seri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ng Range dependenc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int Process of Flow Start Tim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uration Distributions (heavy tails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vy tail Durations            LR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lationship between Size and Duration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me series of packets within flows?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952880" y="4191120"/>
                <a:ext cx="4572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Quick Check:   “Delete” periodic time block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676520"/>
            <a:ext cx="8229600" cy="4572000"/>
            <a:chOff x="533520" y="1676520"/>
            <a:chExt cx="8229600" cy="457200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rcRect l="8199" t="49777" r="14611" b="3193"/>
            <a:stretch/>
          </p:blipFill>
          <p:spPr>
            <a:xfrm>
              <a:off x="533520" y="1676520"/>
              <a:ext cx="82296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 txBox="1"/>
            <p:nvPr/>
          </p:nvSpPr>
          <p:spPr>
            <a:xfrm>
              <a:off x="533520" y="167652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14400" y="2362320"/>
            <a:ext cx="175248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Possible Physical Explanation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IP “Port Scan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mmon device of hacke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arching for “break in point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nd query to every possible (within UNC domain)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1446120" indent="-30456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P addres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446120" indent="-30456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rt Numb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plies can indicate system weakness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Internet Traffic i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굴림"/>
              </a:rPr>
              <a:t> hard to model</a:t>
            </a: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xperience with Hurst parameter estimatio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udied ~30    two hour time blocks,   2002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  Estimation makes sense (~ 0.8 – 0.9) for many case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.e. FGN is a reasonable mod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But some there were very strange cases (H &gt;&gt; 1)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udied ~30    two hour time blocks,   2003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raffic appears “similar”, using e.g. Dependent SiZer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But H estimates much smaller  (~ 0.7),  across all time blocks 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5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y???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Wavelet Spectrum: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2003 Sat 9:30 – 11:30 pm</a:t>
            </a:r>
            <a:r>
              <a:rPr b="1" lang="en-US" sz="20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343400"/>
            <a:ext cx="1676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1523880"/>
            <a:ext cx="8077320" cy="4800600"/>
            <a:chOff x="609480" y="1523880"/>
            <a:chExt cx="8077320" cy="48006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rcRect l="8199" t="50352" r="14611" b="4793"/>
            <a:stretch/>
          </p:blipFill>
          <p:spPr>
            <a:xfrm>
              <a:off x="609480" y="1523880"/>
              <a:ext cx="807732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609480" y="1523880"/>
              <a:ext cx="8077320" cy="480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14400" y="2209680"/>
            <a:ext cx="1676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3505320"/>
            <a:ext cx="16765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xplanation of Shoulder: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굴림"/>
              </a:rPr>
              <a:t>different protocols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jor Components of Traffic: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ransmission Control Protocol (TCP),  often ~80%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cknowledges packets” for “sure transfer”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eb browsing (HTTP), FTP, email, … 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User Datagram Protocol (UDP),  often ~15%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Unacknowledged for “data streaming”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Video, music, …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Wavelet Spectra: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all 2003 packet</a:t>
            </a:r>
            <a:r>
              <a:rPr b="1" lang="ko-KR" sz="2000" spc="-1" strike="noStrike">
                <a:solidFill>
                  <a:srgbClr val="00ff00"/>
                </a:solidFill>
                <a:latin typeface="Tahoma"/>
                <a:ea typeface="굴림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굴림"/>
              </a:rPr>
              <a:t>TCP vs. UDP 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880" y="2743200"/>
            <a:ext cx="4724640" cy="3505320"/>
            <a:chOff x="380880" y="2743200"/>
            <a:chExt cx="4724640" cy="35053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rcRect l="10080" t="7324" r="54779" b="50703"/>
            <a:stretch/>
          </p:blipFill>
          <p:spPr>
            <a:xfrm>
              <a:off x="380880" y="2743200"/>
              <a:ext cx="472464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380880" y="2743200"/>
              <a:ext cx="4724640" cy="350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39280" y="1633680"/>
            <a:ext cx="83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ay all time blocks, and sub-spectra for TCP and UD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895480"/>
            <a:ext cx="373392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2002 TCP Dominat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UDP creates major hump at medium sc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  ~  1 se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xplanation of UDP Bump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1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lubster”   -    File Sharing Applic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lnSpc>
                <a:spcPct val="1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replacement for Napst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lnSpc>
                <a:spcPct val="1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nsfers big files by TC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lnSpc>
                <a:spcPct val="1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oes “handshaking” by UD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lnSpc>
                <a:spcPct val="1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ork around for server (could be shut down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lnSpc>
                <a:spcPct val="1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uge fraction of traffic (just to “stay in touch”)?!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Blubster sub-spectrum: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굴림"/>
              </a:rPr>
              <a:t>2003 Sat 9:30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3520" y="1447920"/>
            <a:ext cx="8153280" cy="5105160"/>
            <a:chOff x="533520" y="1447920"/>
            <a:chExt cx="8153280" cy="51051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0080" t="5724" r="14611" b="4793"/>
            <a:stretch/>
          </p:blipFill>
          <p:spPr>
            <a:xfrm>
              <a:off x="533520" y="1447920"/>
              <a:ext cx="815328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533520" y="1447920"/>
              <a:ext cx="8153280" cy="510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Zoomed (convent’al)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  <a:ea typeface="굴림"/>
              </a:rPr>
              <a:t>Si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  <a:ea typeface="굴림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r</a:t>
            </a: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 View of Blubster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1523880"/>
            <a:ext cx="8076960" cy="4953240"/>
            <a:chOff x="533520" y="1523880"/>
            <a:chExt cx="8076960" cy="49532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8201" t="10520" r="8025" b="7988"/>
            <a:stretch/>
          </p:blipFill>
          <p:spPr>
            <a:xfrm>
              <a:off x="533520" y="1523880"/>
              <a:ext cx="807696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 txBox="1"/>
            <p:nvPr/>
          </p:nvSpPr>
          <p:spPr>
            <a:xfrm>
              <a:off x="533520" y="1523880"/>
              <a:ext cx="8076960" cy="495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inal Blubster Oddity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ffect shows up for “packet count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t for “byte count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ason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3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lubster handshake packets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al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3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ot significant f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of total byt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Violation of “conventional wisdom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3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ually “byte behavior”    ~    “packet behavior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Long Range Dependence Controversy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1800" y="1479240"/>
            <a:ext cx="79027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Model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Queuing Theory          Short Range Dep’c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ggregation of Mice and Elephant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eavy tail Durations            LRD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ndelbrot, Taqqu, Paxson, Willinger,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re recentl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ggregation of point Processes          Poiss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eveland, et al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91120" y="2209680"/>
                <a:ext cx="457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5880" y="5029200"/>
                <a:ext cx="533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Wavelet Spectrum :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굴림"/>
              </a:rPr>
              <a:t>packet vs. byte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3520" y="1447920"/>
            <a:ext cx="8153280" cy="5029200"/>
            <a:chOff x="533520" y="1447920"/>
            <a:chExt cx="8153280" cy="5029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rcRect l="10080" t="5724" r="14611" b="4793"/>
            <a:stretch/>
          </p:blipFill>
          <p:spPr>
            <a:xfrm>
              <a:off x="533520" y="1447920"/>
              <a:ext cx="81532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 txBox="1"/>
            <p:nvPr/>
          </p:nvSpPr>
          <p:spPr>
            <a:xfrm>
              <a:off x="533520" y="1447920"/>
              <a:ext cx="815328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A deeper look at sampling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Revisit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ea typeface="굴림"/>
                <a:hlinkClick r:id="rId1"/>
              </a:rPr>
              <a:t>Mice-Elephant Sampl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,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Over wide range of scales: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Random Sampling…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ut “not representative”…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Artifact of: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2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uge Sample Siz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2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Very Heavy Tail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Explanation of Controversy – Zooming Autocorrelation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706428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pends on “Scale”   (i.e. binwidth , m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971880" cy="295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92320" y="2530440"/>
            <a:ext cx="40651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e Scales:  (&lt; 1 m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  White Noise – Poiss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 Scales:  (~ 10 m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ce “lifts up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rse Scale:  (&gt; 1 sec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t with L. R. 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Long Range Dependence Theory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lf-Similar: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: Hurst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crement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R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857680" y="1600200"/>
                <a:ext cx="2476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  <m:r>
                          <m:t xml:space="preserve">)</m:t>
                        </m:r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d</m:t>
                        </m:r>
                      </m:lim>
                    </m:limUpp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81280" y="5492880"/>
                <a:ext cx="28958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81080" y="4521240"/>
                <a:ext cx="5562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971800" y="3684600"/>
                <a:ext cx="3048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00200" y="5560920"/>
                <a:ext cx="1752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H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Drawbacks of Conventional Time Series Methods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1800" y="1479240"/>
            <a:ext cx="79027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lumsy at Modeling L. R. D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.g. ARMA etc. all S. R. D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sumption of Stationari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ly need “local stationarity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sumption of Linear Process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7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oesn’t make physical sen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7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stead have “aggregation of flows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relation” for heavy tailed            distn’s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943600" y="5334120"/>
                <a:ext cx="99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An H estimation approach:    Wavelet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2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2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66680" y="1477800"/>
                <a:ext cx="5257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19240" y="4970520"/>
                <a:ext cx="5738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" name="" descr=""/>
          <p:cNvPicPr/>
          <p:nvPr/>
        </p:nvPicPr>
        <p:blipFill>
          <a:blip r:embed="rId1"/>
          <a:srcRect l="9753" t="0" r="14163" b="0"/>
          <a:stretch/>
        </p:blipFill>
        <p:spPr>
          <a:xfrm>
            <a:off x="1066680" y="2133720"/>
            <a:ext cx="5943600" cy="280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9720" y="5715000"/>
            <a:ext cx="315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wavelet coefficie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stimation of H,  Based on Wavelet Spectrum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perti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eighted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linear regressio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stimation of H: Abry &amp; Veitch (1998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bust to nonstationarities (linear trend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95280" y="2666880"/>
                <a:ext cx="2146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19320" y="1981080"/>
                <a:ext cx="39621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68440" y="3809880"/>
                <a:ext cx="36910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410080" y="3276720"/>
                <a:ext cx="762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5042520" y="1981080"/>
            <a:ext cx="219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: uncorrelat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Example Wavelet Spectrum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  <a:ea typeface="굴림"/>
              </a:rPr>
              <a:t>(FGN, H=0.9)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9076" t="49695" r="14814" b="4571"/>
          <a:stretch/>
        </p:blipFill>
        <p:spPr>
          <a:xfrm>
            <a:off x="685800" y="1600200"/>
            <a:ext cx="7924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06:40Z</dcterms:created>
  <dc:creator>cwpark</dc:creator>
  <dc:description/>
  <dc:language>en-US</dc:language>
  <cp:lastModifiedBy> </cp:lastModifiedBy>
  <dcterms:modified xsi:type="dcterms:W3CDTF">2005-06-01T05:02:48Z</dcterms:modified>
  <cp:revision>563</cp:revision>
  <dc:subject/>
  <dc:title>Joint Distribution of Internet Flow Sizes and Durations</dc:title>
</cp:coreProperties>
</file>