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816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488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144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816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488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160" y="456840"/>
            <a:ext cx="71485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16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4880" y="147924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144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16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4880" y="3970080"/>
            <a:ext cx="260604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456840"/>
            <a:ext cx="71485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360" y="397008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360" y="1479240"/>
            <a:ext cx="394992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1440" y="3970080"/>
            <a:ext cx="8094600" cy="227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-457200" algn="ctr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57200" indent="-457200" algn="ctr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457200" indent="-457200" algn="ctr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457200" indent="-457200" algn="ctr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457200" indent="-4572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457200" indent="-457200" algn="ctr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198440" y="1230480"/>
            <a:ext cx="7820280" cy="0"/>
          </a:xfrm>
          <a:prstGeom prst="line">
            <a:avLst/>
          </a:prstGeom>
          <a:ln w="28440">
            <a:solidFill>
              <a:srgbClr val="0f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539560" y="6629400"/>
            <a:ext cx="7552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C9FA-D8BE-4385-9A34-CC96C631E1C5}" type="slidenum">
              <a:rPr b="0" lang="ko-KR" sz="1000" spc="-1" strike="noStrike">
                <a:solidFill>
                  <a:srgbClr val="2a3d7a"/>
                </a:solidFill>
                <a:latin typeface="Arial"/>
                <a:ea typeface="굴림"/>
              </a:rPr>
              <a:t>&lt;number&gt;</a:t>
            </a:fld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228600" y="228600"/>
          <a:ext cx="7621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76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-16560" y="11430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ahoma"/>
              </a:rPr>
              <a:t>UNC, Stat &amp; O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4240" y="42192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3" marL="1712880" indent="-22860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198440" y="1230480"/>
            <a:ext cx="7820280" cy="0"/>
          </a:xfrm>
          <a:prstGeom prst="line">
            <a:avLst/>
          </a:prstGeom>
          <a:ln w="28440">
            <a:solidFill>
              <a:srgbClr val="0f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39560" y="6629400"/>
            <a:ext cx="7552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A536-9EA0-426E-86E0-9457A24D6D35}" type="slidenum">
              <a:rPr b="0" lang="ko-KR" sz="1000" spc="-1" strike="noStrike">
                <a:solidFill>
                  <a:srgbClr val="2a3d7a"/>
                </a:solidFill>
                <a:latin typeface="Arial"/>
                <a:ea typeface="굴림"/>
              </a:rPr>
              <a:t>&lt;number&gt;</a:t>
            </a:fld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228600"/>
          <a:ext cx="7621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76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-16560" y="11430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ahoma"/>
              </a:rPr>
              <a:t>UNC, Stat &amp; O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4674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  <a:ea typeface="굴림"/>
              </a:rPr>
              <a:t>U. C. Davis,   F. R. G. Workshop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Object Oriented Data Analys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J. S. Marr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Dept. of Statistics and Operations Research, University of North Carol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C22D-B04E-4AF8-B489-C3EEC403C991}" type="datetime3"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July 30, 2026</a:t>
            </a:fld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Object Representatio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dmarks (hard to fi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undary Rep’ns (no correspondenc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al represen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“skeleto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etize as “atoms” called M-r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3-d m-rep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2783160" cy="3110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76720" y="3352680"/>
            <a:ext cx="2746080" cy="3070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172200" y="3352680"/>
            <a:ext cx="2746440" cy="307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" y="1447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447920"/>
            <a:ext cx="86104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dder – Prostate – Rectum    (multiple objects, J. Y. Jeong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l Atoms provide “skeleton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ied Boundary from “spokes”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“surface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Illuminating Viewpoint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9259"/>
          <a:stretch/>
        </p:blipFill>
        <p:spPr>
          <a:xfrm>
            <a:off x="838080" y="2209680"/>
            <a:ext cx="7467840" cy="2675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14840" y="1676520"/>
            <a:ext cx="7017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 Space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Feature Spa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01880" y="4952880"/>
            <a:ext cx="25304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here 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ata objec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88760" y="4952880"/>
            <a:ext cx="3516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e conceptualiz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opulation stru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a “point clouds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PCA for m-reps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550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jor issue:  m-reps live 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cations, radius and ang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“average” of:                          =  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ural Data Structure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e Groups   ~   Symmetric sp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mooth, curved manifol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181480" y="1523880"/>
                <a:ext cx="32767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O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O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962520" y="3048120"/>
                <a:ext cx="2438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9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PCA for m-reps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A on non-Euclidean spac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.e. on Lie Groups / Symmetric Spa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. Fletcher:   Principal Geodesic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:  replace “linear summary of data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“geodesic summary of data”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PGA for m-reps, Bladder-Prostate-Rectum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8055000" cy="17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der – Prostate – Rectum,  1 person, 17 d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G 1                   PG 2                  PG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nalysis by Ja Yeon Jeo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2716200" cy="3035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26942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PGA for m-reps, Bladder-Prostate-Rectum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8055000" cy="17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8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der – Prostate – Rectum,  1 person, 17 d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G 1                   PG 2                  PG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884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nalysis by Ja Yeon Jeo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27162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PGA for m-reps, Bladder-Prostate-Rectum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8055000" cy="17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8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der – Prostate – Rectum,  1 person, 17 d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G 1                   PG 2                  PG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884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nalysis by Ja Yeon Jeo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747880" cy="307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2716200" cy="3035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2692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Classification (i.e. Discrimination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8094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ground:  Two Class (Binary) ver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“training data” from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 +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from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ass 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a “rule” for assigning new data to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onical Example:  Disease Diagno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Patients are “Healthy” or “Il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d based on measu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Classification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effective Metho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-4460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sher Linear Discri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-4460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ussian Likelihood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s Useful Metho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-4460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est Neighb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-44604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ural 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“black boxes”, no “directions” or intui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Object Oriented Data Analysis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479600"/>
            <a:ext cx="845820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“atom” of a statistical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urse:    Nu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variate Analysis Course :    Ve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Data Analysis:    Cur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generally: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ata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Classification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ly Fashionable Metho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Vector Mach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s Based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High Te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Weighted Discrimination (DW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ly designed for HDLSS data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s “data piling” problem of SVM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ves more suitable optimization problem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Classification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1800" y="1479240"/>
            <a:ext cx="50832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ly Fashionable Metho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168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Based Appro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Vector Machi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3809880" cy="2690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733920" cy="2637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105520" y="1447920"/>
            <a:ext cx="373356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Classification (Cont.)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13132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ison of Linear Methods (toy dat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60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al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2440" indent="-22392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llent, but need dir’n in dim = 50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560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al Data Piling (J. Y. Ahn, D. Peñ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2440" indent="-22392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reat separ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generalizability??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560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Vecto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2440" indent="-22392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paration, gen’ity, but some data piling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560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Weighted Discri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2440" indent="-22392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s data piling, good gen’ity, Gaussians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33720" y="2057400"/>
                <a:ext cx="6553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istance Weighted Discriminatio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 rot="5400000">
            <a:off x="2197080" y="1002240"/>
            <a:ext cx="4899240" cy="5941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6095880" y="1600200"/>
            <a:ext cx="5335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172200" y="1523880"/>
            <a:ext cx="68580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1371600"/>
            <a:ext cx="1828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ximal Data Piling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Maximal Data Piling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276720" cy="52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d boggl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. Y. Ahn has    character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ula ~ F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shable?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54864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istance Weighted Discriminatio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095880" y="1600200"/>
            <a:ext cx="5335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440" y="1523520"/>
            <a:ext cx="8094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Optimization Probl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precisely work in appropriate penalty for viol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ization Method  (Michael Todd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rder Cone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6120" indent="-441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Convex gen’tion of quadratic prog’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6120" indent="-441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 greedy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6120" indent="-441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existing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781680" y="1523880"/>
                <a:ext cx="175284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Simulation Compariso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31440" y="1479240"/>
            <a:ext cx="397044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ove Gaussia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array of dim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M Subst’ly wo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D – Bayes Opti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D close to M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095880" y="1600200"/>
            <a:ext cx="5335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62450" b="30313"/>
          <a:stretch/>
        </p:blipFill>
        <p:spPr>
          <a:xfrm>
            <a:off x="5029200" y="1371600"/>
            <a:ext cx="3781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Simulation Compariso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31440" y="1479240"/>
            <a:ext cx="397044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Outlier Mixtu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ter for M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M &amp; DWD much more sol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’ns are “robus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M &amp; DWD simi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095880" y="1600200"/>
            <a:ext cx="5335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Simulation Compariso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1440" y="1479240"/>
            <a:ext cx="394020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Wobble Mixtu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ter for M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M less g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D slightly b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ll metho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me toge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larger d 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095880" y="1600200"/>
            <a:ext cx="5335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495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31440" y="1479240"/>
            <a:ext cx="485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e Images 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with M. Benito &amp; D. Peñ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ed using land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e – Female Differ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imination Ru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7306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Object Oriented Data Analysis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479600"/>
            <a:ext cx="84582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Imag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4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s as Data Objec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4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 Representation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-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4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st multivariate analysi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D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sepa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es “make sens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rbage at end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trapolation effect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6483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-4204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esting summar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mp between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 DWD dir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separation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0480" indent="-420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eness vs. Femal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12120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I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560" y="1523520"/>
            <a:ext cx="43434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 Compari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mp between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 SVM dir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distinguis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eness vs. Femal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not as well as DW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27760" y="2055960"/>
            <a:ext cx="312552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47242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of difference: Project onto norm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M has “small gap”    (feels noise artifact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D “more informative” (feels real structure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0" t="22303" r="0" b="22303"/>
          <a:stretch/>
        </p:blipFill>
        <p:spPr>
          <a:xfrm>
            <a:off x="1143000" y="1371600"/>
            <a:ext cx="71676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in Face Recognition, V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523520"/>
            <a:ext cx="4114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Wor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“drivers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regions of inter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 to Discr’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is “best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ons for human percep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9718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WD &amp; Microarrays for Gene Expression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52352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ip due to time pres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have seen thi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D provides excellent too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457200">
              <a:lnSpc>
                <a:spcPct val="14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ing Data Sets (caBIG fun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457200">
              <a:lnSpc>
                <a:spcPct val="14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ization of HDLS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457200">
              <a:lnSpc>
                <a:spcPct val="14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DLSS hypothesis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’s talk informally if you are inter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Discrimination for m-rep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8055000" cy="172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ification for Lie Groups – Symm. Sp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168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. K. Sen &amp; S. Josh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“separating plane” (for SVM-DWD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39718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Trees as Data Points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55000" cy="27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ain Blood Vessel Trees  -  E. Bullit &amp; H. W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Understanding of Popul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?        PC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llenge:    Very Non-Euclid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09680" y="4419720"/>
            <a:ext cx="48006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Trees as Data Points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1440" y="1479600"/>
            <a:ext cx="7978680" cy="22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 of Tree Population:  Frechét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A on Trees   (based on “tree lines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ory in Place    -    Implement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3078000" cy="23079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307800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mptotics: Simple Paradoxes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     dim’al “Standard Normal” dist’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clidean Distance to Origin (as            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ata lie roughly on surface of sphere of radi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Yet origin is point of “highest density”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Paradox resolv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sity w. r. t. Lebesgue Measure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219320" y="1523880"/>
                <a:ext cx="249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05520" y="3200400"/>
                <a:ext cx="9144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867280" y="1523880"/>
                <a:ext cx="25909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019920" y="3657600"/>
                <a:ext cx="2044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238880" y="4267080"/>
                <a:ext cx="444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Object Oriented Data Analysis,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79600"/>
            <a:ext cx="84582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ical Go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ing population var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4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cipal Component Analysis 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rimination (a.k.a. Classifica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Series of Data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mptotics: Simple Paradoxes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   dim’al “Standard Normal” dist’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.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uclidean Dist. between      and      (as          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tends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n-rand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an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extend to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do they all go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we can only perceive 3 dim’n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219320" y="1523880"/>
                <a:ext cx="22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934320" y="3048120"/>
                <a:ext cx="1066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486400" y="1941480"/>
                <a:ext cx="19810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876920" y="3962520"/>
                <a:ext cx="3276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429000" y="1905120"/>
                <a:ext cx="401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572000" y="2971800"/>
                <a:ext cx="401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791320" y="2971800"/>
                <a:ext cx="469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24080" y="4551480"/>
                <a:ext cx="1143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mptotics: Simple Paradoxes,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   dim’al “Standard Normal” dist’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.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im’al Angles   (as             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-“Everything is orthogonal”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Where do they all go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gain our perceptual limit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Again 1st order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n-rand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219320" y="1447920"/>
                <a:ext cx="2905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648320" y="2819520"/>
                <a:ext cx="1066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562720" y="1981080"/>
                <a:ext cx="20574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498840" y="3422520"/>
                <a:ext cx="43592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gle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352680" y="1981080"/>
                <a:ext cx="401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’s: Geometrical Representation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,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y Subspace Generated by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perplane through 0, of dimension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s are “nearly equidistant to 0”, &amp; dis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in plane, can “rotate towards          Unit Simplex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 Gaussian data se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“near Unit Simplex Vertices”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ness”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pears only in rot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simple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209680" y="2992320"/>
                <a:ext cx="187560" cy="1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419720" y="1447920"/>
                <a:ext cx="91440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600200" y="1447920"/>
                <a:ext cx="22096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981080" y="4343400"/>
                <a:ext cx="6098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438280" y="3657600"/>
                <a:ext cx="3733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 rot="5400000">
            <a:off x="5181480" y="1904760"/>
            <a:ext cx="3244680" cy="37022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029200" y="5867280"/>
            <a:ext cx="3886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P. Hall &amp; A. Neem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’s: Geometrical Representation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                              , l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y Hyperplane Generated by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mensional hyperpla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s are pairwise equidistant,    dis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s lie at vertices of        “regular       hedr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ain “randomness in data”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nly in r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prisingly rigid structure in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990720" y="2590920"/>
                <a:ext cx="5331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419720" y="1447920"/>
                <a:ext cx="91440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600200" y="1447920"/>
                <a:ext cx="22096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586320" y="3657600"/>
                <a:ext cx="7524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rad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124080" y="3276720"/>
                <a:ext cx="5763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~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4267080" cy="3200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981080" y="4114800"/>
                <a:ext cx="390600" cy="1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3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’s: Geometrical Representation,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31800" y="1479600"/>
            <a:ext cx="790272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ulation View:  shows “rigidity after rotation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 rot="5400000">
            <a:off x="2293560" y="1820520"/>
            <a:ext cx="4479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3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’s: Geometrical Representation, I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1800" y="1479600"/>
            <a:ext cx="79027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aightforward Generaliza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Gaussian data:    only need mo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independent:    use “mixing condition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ld Eigenvalue condition on Theoretical Co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with J. Ahn, K. Muller &amp; Y. Ch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based on simple “Laws of Large Numbers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057400" y="4419720"/>
                <a:ext cx="2016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3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’s: Geometrical Representation, I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1479600"/>
            <a:ext cx="83059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nation of Observed (Simulation) Behavi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thing similar for very high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popn’s are 2 simplices  (i.e. regula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hedr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re same distance from the other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everything is a support v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all sensible directions show “data pilin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“sensible methods are all nearly the same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ing  1 - N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3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Asy’s: Geometrical Representation, 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479600"/>
            <a:ext cx="83059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rther Consequences of Geometric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 Inefficiency of DWD for uneven sample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otivates “weighted version”, work in prog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 DWD more “stable” than S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based on “deeper limiting distributions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reflects intuitive idea “feeling sampling variation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omething like “mean vs. median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 1-NN rule inefficiency is quantifi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3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The Future of Geometrical Representation?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479600"/>
            <a:ext cx="83059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ersion of “optimality” resul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guity” approach?    Params depend 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s of Converg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s of DW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 other functions of distance than inve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still early day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3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Some Carry Away Lessons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479600"/>
            <a:ext cx="83059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oms of the Analysis:   Object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exts deserve further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D is attractive for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ass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ness” in HDLSS data is only in r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odulo rotation, have context simplex shap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6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put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ymptotics to wo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Object Oriented Data Analysis, I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479600"/>
            <a:ext cx="84582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 Statistical Challenge,  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High Dimension Low Sample Size (HDL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mension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&gt;&gt;  sample size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variate Analysis” nearly use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’t “normalize the dat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d of Opportunity for Statistici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for “creative statistician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Object Oriented Data Analysis, V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79600"/>
            <a:ext cx="84582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 Statistical Challenge,  I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may live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on-Euclidean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e Group / Symmetric Sp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s/Graphs as data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esting Issu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“the mean”  (pop’n center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3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quantify “pop’n variation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Statistics in Image Analysis, 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Generation Probl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o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g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about single imag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Statistics in Image Analysis, II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Generation Probl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ulations of Im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4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 Population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04840" indent="-533160">
              <a:lnSpc>
                <a:spcPct val="14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imination (a.k.a. Classif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x Data Structures (&amp; Spa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50000">
              <a:srgbClr val="fefefe"/>
            </a:gs>
            <a:gs pos="100000">
              <a:srgbClr val="c9dd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1485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1" lang="en-US" sz="2400" spc="-1" strike="noStrike">
                <a:solidFill>
                  <a:srgbClr val="00007f"/>
                </a:solidFill>
                <a:latin typeface="Tahoma"/>
              </a:rPr>
              <a:t> Statistics in Imaging</a:t>
            </a:r>
            <a:endParaRPr b="1" lang="en-US" sz="2400" spc="-1" strike="noStrike">
              <a:solidFill>
                <a:srgbClr val="00007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1479240"/>
            <a:ext cx="8094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HDL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High Dim, Low Sample Size)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x 3-d Objects Hard to Repre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-4460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need d = 100’s of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x 3-d Objects Costly to Seg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006200" indent="-4460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have n = 10’s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17:06:40Z</dcterms:created>
  <dc:creator>cwpark</dc:creator>
  <dc:description/>
  <dc:language>en-US</dc:language>
  <cp:lastModifiedBy> </cp:lastModifiedBy>
  <dcterms:modified xsi:type="dcterms:W3CDTF">2005-08-15T03:15:05Z</dcterms:modified>
  <cp:revision>719</cp:revision>
  <dc:subject/>
  <dc:title>Joint Distribution of Internet Flow Sizes and Durations</dc:title>
</cp:coreProperties>
</file>