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310-03F5-4361-9AEB-F73E766A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0BF-3A76-4295-BFAA-89EABD5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885-FCF7-4A4E-A215-F66F23D7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C4B-E252-4C2E-905E-55D68E30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D6D-DDE7-49AA-BE83-155E789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D7D-C6FE-43C9-BFA7-6A91208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0AA-1137-4BAE-9710-B66D89A4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8BF-7CE1-475D-9466-41E035A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954-AA6F-46B6-A4B5-AA0D2F8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971-DE37-4CE6-B42B-7628CF2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F6E-88AA-453A-95FE-CE06868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D35-1D38-4EC8-A3E4-00C0579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4A0-BFA3-426C-881C-D27D31F30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investigate the distribution of file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lly, a distribution called “Double Pareto - Lognormal” is used in an attempt to model http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ing Downey’s Model in a Tre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286000"/>
                <a:ext cx="594360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the root node of a tre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t ea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eration, a random nod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presenting a fi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tree is chosen uniformly and a new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ild/file is crea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Label the new edge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multiplicative factor M governing the siz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new fi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The size of a file is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ed by the edge labels on the path fro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oot to the corresponding nod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’s result in continuous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12680" y="1981080"/>
                <a:ext cx="711684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fter time t the logarthmic transform of fi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ze 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normal distribution with me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variance 2k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nection to Brownian motion: whe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</m:t>
                        </m:r>
                        <m:r>
                          <m:t xml:space="preserve">suitably</m:t>
                        </m:r>
                        <m:r>
                          <m:t xml:space="preserve">normalized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get aproximately geometric Browni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re realist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zenmacher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lax the assumption that all files are updates of a single initial fil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allow for 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orest Fi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71560" y="1981080"/>
                <a:ext cx="559764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ystem begins with a collection of one 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re files whose sizes are drawn from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ribution 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New files are generated a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with probability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, add a new file with siz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drawn from distribution 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with probabil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s before select a fi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S with size X and create a new file with siz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XM where M drawn from distribution 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orest Fi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now we have the possibility of a forest rather than just a singl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zenmacher claims that if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both lognormal, the continuous analogue of the model yields file sizes with “Double Pareto-Lognormal” (dPln)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l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is due to Reed who used the model to fit different kinds of data including incom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it ar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 initial state X(0) be distributed log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a geometric Brownian motion (with initial state X(0)) evolve for an exponentially distribut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tribution of the final “killed” state is dP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l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17760" y="2165400"/>
                <a:ext cx="610704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has four parameters: 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υ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df has the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υ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αυ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υ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ατ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βυ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υ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ατ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ln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44520" y="1981080"/>
                <a:ext cx="665172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istribution is that of the product of independ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ndom variables U and V where logV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υ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U follows what Reed calls a double Pare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ribution with density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u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is property allows for convenient simul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ln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" y="2975040"/>
                <a:ext cx="77724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-law behavior in both tail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seems the dPln may be a good fit for the dat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believe the Recursive Forest File is a reasonabl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ly, Mitzenmacher notes that file sizes tend to exhibit a power-law tail as does the dP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of the talk is drawn from three pap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ey, A. B. (2000) The structural cause of file size distributions, Wellesley College Tech. Report CSD-TR25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d, W. J. (2001) The Double Pareto-Lognormal Distribution - A New Parametric Model for Siz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zenmacher, M. (2001) Dynamic Models for File Sizes and Double Pareto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: 734,814 http response sizes gathered around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likelihood estimation was attempted using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w, we estimate the model by adjusting the parameters so the plot of the empirical logCCDF matches the theoretical plot of the logCC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he Parameters to fit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89080" y="1981080"/>
                <a:ext cx="676440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start with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,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 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,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becau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istribution with these parameters gives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me general shap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usting </m:t>
                        </m:r>
                        <m:r>
                          <m:t xml:space="preserve">τ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ecall that for 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dPl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υ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 where logV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υ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t turns out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increasing 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spreads the hum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usting </m:t>
                        </m:r>
                        <m:r>
                          <m:t xml:space="preserve">α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ecal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o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controls heaviness of right ta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he Parameters to fit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3151080"/>
                <a:ext cx="77724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djusting </m:t>
                        </m:r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 shifts the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usting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: Recal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o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controls heaviness of left ta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il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3468600"/>
                <a:ext cx="7772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with slope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is drawn through the endpo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theoretical plo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657520"/>
                <a:ext cx="7315200" cy="27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aking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 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,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, we simul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ta and plot the corresponding empiric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ccd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10 simulations, it seems the envelope wil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encompass the </m:t>
                        </m:r>
                        <m:r>
                          <m:t xml:space="preserve">wiggles</m:t>
                        </m:r>
                        <m:r>
                          <m:rPr>
                            <m:lit/>
                            <m:nor/>
                          </m:rPr>
                          <m:t xml:space="preserve"> in the ta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ln theoretically 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failed to fit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http data follow Downey’s or Mitzenmacher’s multiplicative 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file size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traffic patterns show characteristics of self-simi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models of such patterns assume that the distribution of file sizes is heavy-t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s distributions of files on individual comp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des that the distribution is lognormal and thus not heavy-t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view of Downey’s Multiplicative File Siz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10-3-0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se: most files were created from other files by copying, translating and filtering, or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changes affect file sizes multiplica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 Review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85800" y="2960640"/>
                <a:ext cx="777240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ose X is the original file size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 is the random modification facto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new file size is M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 Review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41600" y="1905120"/>
                <a:ext cx="593568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llowing action is repeated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Select a file 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th size 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niformly amo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all existing fil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Choose multiplicative factor M from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given distribution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Create a new file S' with size M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 Review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2666880"/>
                <a:ext cx="601992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t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the original file in the syst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e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's siz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 the size of the nth file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here 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from distribution D and m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wney Review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600200" y="2209680"/>
                <a:ext cx="60199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D is lognorm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owney argues for thi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lognormal for all 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not, then by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central limit theorem argument, 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proximately lognormal for large 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owney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s that m grows as 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 so convergence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lo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21:24:42Z</dcterms:created>
  <dc:creator>phduser</dc:creator>
  <dc:description/>
  <dc:language>en-US</dc:language>
  <cp:lastModifiedBy>phduser</cp:lastModifiedBy>
  <cp:lastPrinted>2001-12-06T23:02:29Z</cp:lastPrinted>
  <dcterms:modified xsi:type="dcterms:W3CDTF">2001-12-07T18:58:44Z</dcterms:modified>
  <cp:revision>8</cp:revision>
  <dc:subject/>
  <dc:title>Goal:</dc:title>
</cp:coreProperties>
</file>