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0"/>
            <a:ext cx="2980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320" y="686880"/>
            <a:ext cx="4581720" cy="343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02280"/>
            <a:ext cx="29797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8702280"/>
            <a:ext cx="29800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0482-B854-4BAA-8810-FD6EEC173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F4B9-3F37-4AC7-9BB3-0682623F7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9AC2-1A84-423F-855F-F2E897093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F432-2448-4DFF-B215-52D3CD0BD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F2BC-E2D0-4685-8CC3-D368F170F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E3F8-E71C-421B-8367-30A877E10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BED7-30E8-4DDE-B978-DF263530F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9743-965A-4459-AEB1-D18F73840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2171-15BF-40AE-805D-88308FBBD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3526-E51D-49CC-B2A4-4CA3D8091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B7C3-6A1F-45BB-B495-E1E6558B9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F412-816F-4ACE-97FB-0C9E780BA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4058-3318-46F0-9AAC-FFE1A5DDF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833F-6998-4764-B900-9F14584FF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A919-CF9E-47C5-9FBC-1C525B26B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12A4-38EC-4C68-921F-42E70EFB3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E294-330D-47DD-AB35-4EDDE51AE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CF65-E619-42F3-9FF5-03E7AC6A7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51A1-CD66-4C42-A227-358DA9096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81720" cy="34354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6880" y="4352400"/>
            <a:ext cx="55026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5560" y="8702640"/>
            <a:ext cx="298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8D61-FD65-45D6-905F-04A8A2E4E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553-2D46-4B09-97F6-8EEC9397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D49-AF72-4CBD-B208-11D74C2E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ECE-BECE-4D85-B496-90114EF9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0A3-15AC-485A-92BC-52AE4334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6AA-C22C-49CD-BD8E-55CC3020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F64-1A2C-444D-98F9-3DD59E6D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875-A2CF-48DD-8F2B-C13CF258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687-3B5F-45AF-8101-F896BAAC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832-A29B-41AB-A9D7-9580A3BC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CA7-6E6B-44B8-8989-409D1EB8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188-F29A-4A10-B6E6-C36C114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8F1-3709-4390-BEB2-3BE74C27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CE6D-1BBE-4ACE-B724-A831D9FBA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PLSCCAquest1RawaxMovie.avi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PLSCCAquest1RawaxMovie.avi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PLSCCAquest1RawaxMovie.avi" TargetMode="External"/><Relationship Id="rId2" Type="http://schemas.openxmlformats.org/officeDocument/2006/relationships/hyperlink" Target="file:///PLSCCAquest1RawaxDirsMovie.av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PLSCCAquest1RawaxMovie.avi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LSCCAquest0RawaxMovie.avi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LSCCAquest0RawaxMovie.avi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LSCCAquest0RawaxMovie.avi" TargetMode="External"/><Relationship Id="rId2" Type="http://schemas.openxmlformats.org/officeDocument/2006/relationships/hyperlink" Target="file:///PLSCCAquest0PCAaxMovie.av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LSCCAquest0PCAaxMovie.avi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LSCCAquest0PCAaxMovie.avi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LSCCAquest0PCAaxMovie.avi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990720"/>
            <a:ext cx="7620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D Oral Exam for XiaoXiao L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rsday, September 03, 200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cus:  Important Dir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ata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CA, PLS, CC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41520" y="22860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PC 1 Directions?  Hint: differ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17095" t="0" r="17095" b="0"/>
          <a:stretch/>
        </p:blipFill>
        <p:spPr>
          <a:xfrm>
            <a:off x="0" y="1947960"/>
            <a:ext cx="4576680" cy="4910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17095" t="0" r="1709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31800" y="228600"/>
            <a:ext cx="74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PC 1 Directions?        Ans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17095" t="0" r="17095" b="0"/>
          <a:stretch/>
        </p:blipFill>
        <p:spPr>
          <a:xfrm>
            <a:off x="0" y="1947960"/>
            <a:ext cx="4576680" cy="491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rcRect l="17095" t="0" r="1709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41520" y="22860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PC 1 Directions?  Hint: differ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17095" t="0" r="17095" b="0"/>
          <a:stretch/>
        </p:blipFill>
        <p:spPr>
          <a:xfrm>
            <a:off x="0" y="1947960"/>
            <a:ext cx="4576680" cy="4910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rcRect l="17095" t="0" r="1709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31800" y="228600"/>
            <a:ext cx="74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PC 1 Directions?        Ans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17095" t="0" r="17095" b="0"/>
          <a:stretch/>
        </p:blipFill>
        <p:spPr>
          <a:xfrm>
            <a:off x="0" y="1947960"/>
            <a:ext cx="4576680" cy="4910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17095" t="0" r="1709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11280" y="228600"/>
            <a:ext cx="62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oy Data Set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3-d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637200" y="228600"/>
            <a:ext cx="785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oy Data Set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3-d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onships betw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’s and 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37200" y="228600"/>
            <a:ext cx="7858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oy Data Set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3-d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onships betw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’s and 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x space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3-d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37200" y="228600"/>
            <a:ext cx="785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oy Data Set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3-d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onships betw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’s and 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x space:  3-d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dire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637200" y="228600"/>
            <a:ext cx="7858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oy Data Set:  3-d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onships betw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’s and 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x space:  3-d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dire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    PLS,    CCA,     x space PC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37200" y="228600"/>
            <a:ext cx="7858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oy Data Set:  3-d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onships betw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’s and 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x space:  3-d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directions?    Labeled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 -   x space PC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  -  P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Blue  -  C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   &amp;    relate to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380880"/>
            <a:ext cx="725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int Cloud in 3d sp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eature Co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3520" y="380880"/>
            <a:ext cx="725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int Cloud in 3d sp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eature Co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Scatterplot Matrix Vi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rcRect l="0" t="7263" r="0" b="6052"/>
          <a:stretch/>
        </p:blipFill>
        <p:spPr>
          <a:xfrm>
            <a:off x="741240" y="2273400"/>
            <a:ext cx="74883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3520" y="380880"/>
            <a:ext cx="7257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int Cloud in 3d sp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eature Co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C Coord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ich is wh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3520" y="380880"/>
            <a:ext cx="725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int Cloud in 3d sp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C Coord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Explain Scatter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rcRect l="0" t="7263" r="0" b="6052"/>
          <a:stretch/>
        </p:blipFill>
        <p:spPr>
          <a:xfrm>
            <a:off x="893880" y="1447920"/>
            <a:ext cx="748800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380880"/>
            <a:ext cx="72579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int Cloud in 3d sp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C Coord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Explain Scatter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elong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rcRect l="0" t="7263" r="0" b="6052"/>
          <a:stretch/>
        </p:blipFill>
        <p:spPr>
          <a:xfrm>
            <a:off x="893880" y="1447920"/>
            <a:ext cx="748800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33520" y="380880"/>
            <a:ext cx="725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int Cloud in 3d sp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C Coord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Explain Scatter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using common aspect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rcRect l="0" t="7263" r="0" b="6052"/>
          <a:stretch/>
        </p:blipFill>
        <p:spPr>
          <a:xfrm>
            <a:off x="817560" y="2273400"/>
            <a:ext cx="74883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41520" y="22860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PC 1 Directions?  Hint: differ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17095" t="0" r="17095" b="0"/>
          <a:stretch/>
        </p:blipFill>
        <p:spPr>
          <a:xfrm>
            <a:off x="0" y="1947960"/>
            <a:ext cx="4576680" cy="4910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rcRect l="17095" t="0" r="1709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31800" y="228600"/>
            <a:ext cx="74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PC 1 Directions?        Ans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17095" t="0" r="17095" b="0"/>
          <a:stretch/>
        </p:blipFill>
        <p:spPr>
          <a:xfrm>
            <a:off x="0" y="1947960"/>
            <a:ext cx="4576680" cy="491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rcRect l="17095" t="0" r="17095" b="0"/>
          <a:stretch/>
        </p:blipFill>
        <p:spPr>
          <a:xfrm>
            <a:off x="4567320" y="1947960"/>
            <a:ext cx="4576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04:16:19Z</dcterms:created>
  <dc:creator>UNC</dc:creator>
  <dc:description/>
  <dc:language>en-US</dc:language>
  <cp:lastModifiedBy>marron</cp:lastModifiedBy>
  <dcterms:modified xsi:type="dcterms:W3CDTF">2009-09-04T02:56:46Z</dcterms:modified>
  <cp:revision>10</cp:revision>
  <dc:subject/>
  <dc:title>PowerPoint Presentation</dc:title>
</cp:coreProperties>
</file>