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1C9-6BF9-4FD9-A1DB-AF53648D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58D-3100-43BC-B491-7F93003D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5F9-85BD-4A03-B19D-FDD613FF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70E-F75A-4546-9ACB-3CCE10CE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103-2F50-44B4-99D1-564981D6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EE0-8C93-4CE6-A100-00A1E2D3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F00-77D9-42BE-BCF6-E903D114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C6B-793D-4704-B181-7E8F00D7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37D0-391D-4FAB-BC1F-D6A893FF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8724-7E48-4735-94D0-65B2F36D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B81-A1A6-4913-9C3E-DCAEDA6E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7C1-674B-44D3-AEE9-BEFD82D0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0795-9969-4058-814D-A882E4C40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tat-or.unc.edu/postscript/marron/teaching/stor155-2007/Stor155-ClassEg1.xl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at-or.unc.edu/postscript/marron/teaching/stor155-2007/Stor155-07Home.html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at-or.unc.edu/postscript/marron/teaching/stor155-2007/Stor155-07HWC1.doc" TargetMode="External"/><Relationship Id="rId2" Type="http://schemas.openxmlformats.org/officeDocument/2006/relationships/hyperlink" Target="http://www.stat-or.unc.edu/postscript/marron/teaching/stor155-2007/Stor155-07Home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at-or.unc.edu/postscript/marron/teaching/stor155-2007/Stor155-07HWC1.doc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s – OR 155,  Sec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9714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 S. Marron, Prof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 of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perations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tatist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ing Insight from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milar to text’s defin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of Managing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he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get quantitative about the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vorite Qu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never good at math, but statistics is easy, since it is just common sen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al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s” of “Individua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each of you in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ndividual is associated with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“variab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scores on HW1, HW2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“Data Structu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  Data organization meth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“matrix” (mathematical ob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e.    2-d Array,          i. e.    spread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“Data Structu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1.2 (answer questions in text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37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s on pages 22-23, 38-39 of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{Note: odd answers in back, Sec. S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Important Variable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cal”  -  puts into set of “slo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ale /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r, So, Jr,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”  -  an actual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HW score, height,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in or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turn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 order assig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atory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A 1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Summaries for Categoric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ies  =  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Freq.  =  Counts /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uts on scale of [0,1]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 C2:  For the data of 1.3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is the frequency of M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is the relative freq. of M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xplain in 15 words or less why (b) is the “better summar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{Ask for answer by email on Wednesday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atory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A 2:  Visual Displays of Categoric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Picture allows quick understanding of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 Charts  -  not recom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 Graphs  -  heights are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Problem 1.13 (bar graphs, same) 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i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et data from CD, to avoid retyping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stretching of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om to 2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 Wizard  (note it makes gues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itl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ddle size, location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need to turn in only 1 p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Web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postscript/marron/teaching/stor155-2007/Stor155-07Ho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on’t need to write down, it is on hand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undamental to all parts of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figure it out immediate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 Graph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1.14    (bars in both original order, and sorted),    using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ed to type in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 Deliberately Skipp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al Graphics Folkl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aningful informatio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conveyed with bar ch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 Deliberately Skipp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 &amp; Leaf P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al Graphics Folkl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trictive and arbitrary histogr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pencil and paper artifa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Web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ggle:   mar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“access to course material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 “Stor 155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undamental to all parts of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figure it out immediate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ggested Use Of These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the Power Point to your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print befor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What:  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o class and write notes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ry to get these up the night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 ideas &amp;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HW “Trap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toge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, if the relationship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don’t be the “yes, I get it” pers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W “Consortium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do HW 1, and I’ll do HW 2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with electronic H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p: HW is abou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don’t learn on your off week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up to Speed o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 C1: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ass Problem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crosoft Word Fil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only turn in one printed page (per problem p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call instructions o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urse web p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you can also write on that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your name &amp;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ighl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s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600200" y="2133720"/>
            <a:ext cx="838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up to Speed o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 C1: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ass Problem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crosoft Word 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art C1.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n’t type in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pload inst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instructions on Class Web P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load Excel's "Data Analysis Toolpak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ore “intro to Excel” screen sh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Use menus as on 07-03-01, pgs 29 &amp; 3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In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Today’s Mate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1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eading for Next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 14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Administrator</cp:lastModifiedBy>
  <dcterms:modified xsi:type="dcterms:W3CDTF">2007-04-19T13:18:27Z</dcterms:modified>
  <cp:revision>29</cp:revision>
  <dc:subject/>
  <dc:title>Slide 1</dc:title>
</cp:coreProperties>
</file>