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0FCF-BA97-4A22-B9ED-42CC291BE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47CE-2DAF-49B2-9FF0-EA0D658FD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24EC-A468-4E7A-AA8F-0AA94874A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CECB-1A2D-4E33-B3B2-DC05F0FD0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CE26-E758-46F2-9D68-C3AE6A610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658A-16E8-43E5-B9E8-283C43BB9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A16C-44B7-4DDC-BE42-15DAEBA5E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CC29-60BF-4191-9508-97DDC4027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E37E-CDFC-471C-A099-6DE1B3023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5B4C-A197-435B-84E3-E9CEBEE6F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D577-9AD7-4D9F-8E90-2D968214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1C8A-B63B-4C28-81DE-F1F8FD20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5758A-8D4E-4417-BD99-408FC26252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stat-or.unc.edu/webspace/postscript/marron/Teaching/stor155-2007/Stor155-07Home.html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stat-or.unc.edu/webspace/postscript/marron/Teaching/stor155-2007/Stor155Eg2Raw.xls" TargetMode="External"/><Relationship Id="rId2" Type="http://schemas.openxmlformats.org/officeDocument/2006/relationships/hyperlink" Target="http://stat-or.unc.edu/webspace/postscript/marron/Teaching/stor155-2007/Stor155Eg2Done.xls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stat.sc.edu/~west/applets/histogram.html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stat-or.unc.edu/webspace/postscript/marron/Teaching/stor155-2007/Stor155Eg4Done.xls" TargetMode="Externa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bcs.whfreeman.com/ips5e/" TargetMode="Externa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stat-or.unc.edu/webspace/postscript/marron/Teaching/stor155-2007/Stor155Eg5Done.xls" TargetMode="External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stat-or.unc.edu/webspace/postscript/marron/Teaching/stor155-2007/Stor155Eg5Raw.xls" TargetMode="External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r 155,  Section 2, Last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rse Organization &amp; Web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tat-or.unc.edu/webspace/postscript/marron/Teaching/stor155-2007/Stor155-07Home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Statist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types and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going in EXC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oratory Data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 Grap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umber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“bins”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 heights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Interv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3                               (0,1], (1,2], (2,3], (3,4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5         0          1          2          3         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"/>
          <p:cNvCxnSpPr>
            <a:stCxn id="64" idx="1"/>
            <a:endCxn id="64" idx="1"/>
          </p:cNvCxnSpPr>
          <p:nvPr/>
        </p:nvCxnSpPr>
        <p:spPr>
          <a:xfrm>
            <a:off x="456840" y="40381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6" name=""/>
          <p:cNvSpPr/>
          <p:nvPr/>
        </p:nvSpPr>
        <p:spPr>
          <a:xfrm>
            <a:off x="1828800" y="5410080"/>
            <a:ext cx="632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209680" y="28195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3581280" y="525744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4952880" y="525744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324480" y="525744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7696080" y="525744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 put numbers into “bins”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 heights are counts, or “frequenci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5         0          1          2          3         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"/>
          <p:cNvCxnSpPr>
            <a:stCxn id="73" idx="1"/>
            <a:endCxn id="73" idx="1"/>
          </p:cNvCxnSpPr>
          <p:nvPr/>
        </p:nvCxnSpPr>
        <p:spPr>
          <a:xfrm>
            <a:off x="456840" y="40381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5" name=""/>
          <p:cNvSpPr/>
          <p:nvPr/>
        </p:nvSpPr>
        <p:spPr>
          <a:xfrm>
            <a:off x="1828800" y="5410080"/>
            <a:ext cx="632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209680" y="28195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581280" y="525744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4952880" y="525744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6324480" y="525744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7696080" y="525744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371600" y="3505320"/>
            <a:ext cx="2590920" cy="19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4191120"/>
            <a:ext cx="518184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219320" y="4419720"/>
            <a:ext cx="358128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219320" y="5105520"/>
            <a:ext cx="51814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219320" y="5409720"/>
            <a:ext cx="3124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 put numbers into “bins”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 heights are counts, or “frequenci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5         0          1          2          3         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7" idx="1"/>
            <a:endCxn id="87" idx="1"/>
          </p:cNvCxnSpPr>
          <p:nvPr/>
        </p:nvCxnSpPr>
        <p:spPr>
          <a:xfrm>
            <a:off x="456840" y="40381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9" name=""/>
          <p:cNvSpPr/>
          <p:nvPr/>
        </p:nvSpPr>
        <p:spPr>
          <a:xfrm>
            <a:off x="1828800" y="5410080"/>
            <a:ext cx="632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2209680" y="28195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3581280" y="5257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952880" y="53337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6324480" y="5333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7696080" y="53337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81280" y="4724280"/>
            <a:ext cx="13716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81280" y="4038480"/>
            <a:ext cx="13716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324480" y="4724280"/>
            <a:ext cx="13716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81280" y="3429000"/>
            <a:ext cx="13716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24480" y="3962520"/>
            <a:ext cx="137160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19320" y="3200400"/>
            <a:ext cx="259056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3809880"/>
            <a:ext cx="533412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43000" y="4419720"/>
            <a:ext cx="26668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1219320" y="4343040"/>
            <a:ext cx="5333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1219320" y="3733560"/>
            <a:ext cx="266688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ffalo Snowfall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ffalo, N. Y. (Annual) Snowfal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w Da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tat-or.unc.edu/webspace/postscript/marron/Teaching/stor155-2007/Stor155Eg2Raw.x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3 years,   ranging from   ~30  -  ~120     (inch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gram Analysis (pre-done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stat-or.unc.edu/webspace/postscript/marron/Teaching/stor155-2007/Stor155Eg2Done.x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ffalo Snowfall Data,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L default (of bin edg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round numbers for bin ed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er to interp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“centered around 90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data between 50 and 1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ymetric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ffalo Snowfall Data,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077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er b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sen by 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nwidth = 5,   &lt;&lt; ~13  from EXCEL defa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cer edge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centered around 84 (now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ore preci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 graph rougher (fewer points in each b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ggests 3 main group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alled “modes” or “clusters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an’t see this above: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n width is importa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ffalo Snowfall Data, I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b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sen by 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nwidth = 30,   &gt;&gt; ~13 from EXCEL defa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 graph is “smooth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ince many points in each b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one mode (cluster)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symmetr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different from above: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n width is importa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ffalo Snowfall Data, I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’s under the hood (how to do this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l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ta Analysi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istogram (&amp; Chart Ou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ay need Data Analysis “Add-in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age pic (especially bar wid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ma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in,  m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 range:  create first two &amp; dr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gram, using input bin ed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 H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W: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1.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Use Excel and hist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et data from CDr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o both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1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xcel Default b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1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Bins set to:  0,10,20,…,2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ich gives answers closer to answers in back of boo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urn in only one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 now for something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letely diffe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is class too “monotone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ier to understa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m environment enhances learn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does it induce somnole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“somnolence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gle defini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eepiness, a condition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miconsciousness approaching com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ing In Text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ximate Reading for Today’s Mater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s  14-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ximate Reading for Next Cla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s  40-5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 now for something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letely diffe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last class’s Student Questionnair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asked you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j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In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groun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 now for something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letely diffe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respon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447920" y="2209680"/>
          <a:ext cx="5943600" cy="440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209680"/>
                    <a:ext cx="5943600" cy="44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 now for something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letely diffe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K, will try to send your mind in a diffe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pefully, a mental break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ot on the Homework Assignment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 now for something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letely diffe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xperim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ll out any coins you have with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of you ha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= 1  penn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= 1  nicke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= 1  di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= 1 quar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most frequent deno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 now for something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letely diffe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 data (into Spreadsheet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ea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mped on co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hosen denomin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as person h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into spreadsh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at “distribution” using hist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 now for something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letely diffe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ted Ans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ext Book, Problem 1.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eft Ske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out as predic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:  most skewed dist’ns seem to b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ight Ske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 Binwidt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ce Example from the Webster West, U.S.C.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tat.sc.edu/~west/applets/histogram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Binwidth with slid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mooth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out righ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smooth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ritical 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isual impres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 Binwidth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dalgo Stamp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Mexico in 180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sources of pap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mo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2, 5, 7, 10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419720" y="2209680"/>
            <a:ext cx="41148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 Binwidth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modes (i.e. clusters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tion:  Answe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pends on binwid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 serious and curr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stical research proble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seen all of 2,3,5,7,10 in the literatu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mps Data Hist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mod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ution: Answer also depends on b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.e. “shift” of bi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114800" y="1828800"/>
            <a:ext cx="48006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 31,  Student Poll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295280"/>
            <a:ext cx="51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indicated on “Student Info” for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800" y="2971800"/>
            <a:ext cx="2209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hanges from the pa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Public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d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280" y="1701720"/>
          <a:ext cx="6096240" cy="4907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701720"/>
                    <a:ext cx="6096240" cy="490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 B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is cour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several binwidths, to “get the ide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kness of EXCEL  (we will see several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process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conven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ison of 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 Example:  Study Habits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:  Compare Study Habits of Males vs. Females (measured by some “survey score”, perhaps of questionable value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tat-or.unc.edu/webspace/postscript/marron/Teaching/stor155-2007/Stor155Eg4Done.x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dy Habits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L default histogra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s look similar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eful:    Binwidth very big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eful:    Different bin range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smaller binwidths, and common sc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dy Habits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ter Choice:  Binwidths = 10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a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ns for bo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difference, easy to s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males higher “on averag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les are “more sprea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“exceptional value”,    really true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gs to look for (in histo’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 Center Point  (Study Habits 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 Spread (Study Habits 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 -  Symmetric vs. Ske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Skew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 Skew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s  -  Unexpect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lu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liers  -  “unusual data point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952880" y="3352680"/>
            <a:ext cx="1524240" cy="533520"/>
          </a:xfrm>
          <a:custGeom>
            <a:avLst/>
            <a:gdLst/>
            <a:ahLst/>
            <a:rect l="l" t="t" r="r" b="b"/>
            <a:pathLst>
              <a:path w="960" h="336">
                <a:moveTo>
                  <a:pt x="960" y="336"/>
                </a:moveTo>
                <a:lnTo>
                  <a:pt x="0" y="336"/>
                </a:lnTo>
                <a:lnTo>
                  <a:pt x="48" y="144"/>
                </a:lnTo>
                <a:lnTo>
                  <a:pt x="96" y="48"/>
                </a:lnTo>
                <a:lnTo>
                  <a:pt x="192" y="0"/>
                </a:lnTo>
                <a:lnTo>
                  <a:pt x="288" y="96"/>
                </a:lnTo>
                <a:lnTo>
                  <a:pt x="384" y="192"/>
                </a:lnTo>
                <a:lnTo>
                  <a:pt x="672" y="240"/>
                </a:lnTo>
                <a:lnTo>
                  <a:pt x="912" y="28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60800" y="3962520"/>
            <a:ext cx="1586160" cy="531720"/>
          </a:xfrm>
          <a:custGeom>
            <a:avLst/>
            <a:gdLst/>
            <a:ahLst/>
            <a:rect l="l" t="t" r="r" b="b"/>
            <a:pathLst>
              <a:path w="999" h="335">
                <a:moveTo>
                  <a:pt x="0" y="335"/>
                </a:moveTo>
                <a:cubicBezTo>
                  <a:pt x="333" y="335"/>
                  <a:pt x="666" y="335"/>
                  <a:pt x="999" y="335"/>
                </a:cubicBezTo>
                <a:lnTo>
                  <a:pt x="907" y="0"/>
                </a:lnTo>
                <a:lnTo>
                  <a:pt x="763" y="48"/>
                </a:lnTo>
                <a:lnTo>
                  <a:pt x="667" y="192"/>
                </a:lnTo>
                <a:lnTo>
                  <a:pt x="427" y="240"/>
                </a:lnTo>
                <a:lnTo>
                  <a:pt x="43" y="28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 Data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book Applets:    from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ublisher’s 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Variable Statistical Calculat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Set:  Service Times at a Call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gram: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hold mouse button, and slide left-righ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ad range of binwdiths  (12 – 25 is “best”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bin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ion is Right Ske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 Outl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ison of Histograms H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W:  1.35b, 1.34, 1.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ork in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this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et data from CDr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Use EXCEL and hist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dd answers in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You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choose the b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(if you miss something in answers, change th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urn in at most one page for 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1.31, 1.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oratory Data Analysis 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Plots”,  i.e. “Time Ser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when time structure is importa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ot variable as a function of ti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ten useful to “connect the dot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38280" y="33526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2133360" y="525780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2743200" y="4343040"/>
            <a:ext cx="3808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124080" y="434340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581280" y="411480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62520" y="4114800"/>
            <a:ext cx="3808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343400" y="4647960"/>
            <a:ext cx="5335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876920" y="426672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5334120" y="3429000"/>
            <a:ext cx="3808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715000" y="34290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172200" y="35812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6629400" y="388584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7010280" y="3886200"/>
            <a:ext cx="136800" cy="136440"/>
          </a:xfrm>
          <a:prstGeom prst="diamond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6553080" y="4114800"/>
            <a:ext cx="136800" cy="136440"/>
          </a:xfrm>
          <a:prstGeom prst="diamond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6095880" y="3505320"/>
            <a:ext cx="136800" cy="136440"/>
          </a:xfrm>
          <a:prstGeom prst="diamond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5638680" y="3352680"/>
            <a:ext cx="136800" cy="136800"/>
          </a:xfrm>
          <a:prstGeom prst="diamond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5257080" y="4191120"/>
            <a:ext cx="136440" cy="136440"/>
          </a:xfrm>
          <a:prstGeom prst="diamond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799880" y="4572000"/>
            <a:ext cx="136440" cy="136440"/>
          </a:xfrm>
          <a:prstGeom prst="diamond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4267080" y="4648320"/>
            <a:ext cx="136800" cy="136440"/>
          </a:xfrm>
          <a:prstGeom prst="diamond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3885480" y="4038480"/>
            <a:ext cx="136440" cy="136800"/>
          </a:xfrm>
          <a:prstGeom prst="diamond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3504600" y="4495680"/>
            <a:ext cx="136440" cy="136800"/>
          </a:xfrm>
          <a:prstGeom prst="diamond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3047400" y="4267080"/>
            <a:ext cx="136440" cy="136800"/>
          </a:xfrm>
          <a:prstGeom prst="diamond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2666880" y="4952880"/>
            <a:ext cx="136800" cy="136800"/>
          </a:xfrm>
          <a:prstGeom prst="diamond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 Time Serie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hly Airline Passenger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tat-or.unc.edu/webspace/postscript/marron/Teaching/stor155-2007/Stor155Eg5Done.x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Tre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long term growth, over ye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Vari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ppears proportional to tren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onal Effect”  -  12 Month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Peak in summer, less in win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rline Passenger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esting variation: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rans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bilizes var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log of product is s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s changing variation prop’l to tr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10 is “most interpretabl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log10(1000) = 3,   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ly useful trick (there are oth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 31,  Student Poll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you taken an AP Exam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 ~10% had  &amp;  grades generally 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don’t worry if you haven’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rline Passenger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ook under the h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tat-or.unc.edu/webspace/postscript/marron/Teaching/stor155-2007/Stor155Eg5Raw.x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hart Wiz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t Type:  Line  (or could do  X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subtype for points &amp; 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menu for first log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hough could just type it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g down to repeat for whole colum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 Series H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W:  1.36, 1.3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6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Use EXC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 31,  Student Poll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male:    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le:    5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esting Point: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from all of UNC:    ~60 - 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on about which courses to take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jor Concept:  Dis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ion”   =   “Patterns of dat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  “Way data is spread ou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 Bar Graph is visual display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ategoric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“distribu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oratory Data Analysis 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ual Display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Quantita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stribu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m and Leaf Pl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rom last ti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)   Not Recomme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ain motivation was pencil and paper statistical analysis, but now have better graphical methods readily accessi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imited special case of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ual Disp: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Quantitativ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Dist’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Apply bar graph ide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reating categor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ed “class intervals” or “classes” or “bin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umber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bins”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 heights are counts, or “frequenci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5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61" idx="1"/>
            <a:endCxn id="61" idx="1"/>
          </p:cNvCxnSpPr>
          <p:nvPr/>
        </p:nvCxnSpPr>
        <p:spPr>
          <a:xfrm>
            <a:off x="456840" y="40381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3T01:07:03Z</dcterms:created>
  <dc:creator> </dc:creator>
  <dc:description/>
  <dc:language>en-US</dc:language>
  <cp:lastModifiedBy>Faye</cp:lastModifiedBy>
  <dcterms:modified xsi:type="dcterms:W3CDTF">2007-01-23T04:25:59Z</dcterms:modified>
  <cp:revision>70</cp:revision>
  <dc:subject/>
  <dc:title>Slide 1</dc:title>
</cp:coreProperties>
</file>