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9DF-6E40-43F4-9145-83E008D9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602-F46B-40C1-9BA1-6E9FD70B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CE9-56B8-49EE-9156-A2C6CF37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F6D-9379-43B9-963F-4E81BD52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385-C7DE-41A9-99A4-934C4A15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7E7-5F8B-4916-ADCA-ADDA7937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986-9B72-44A8-B685-756DD4BC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0DC-1179-465D-9B1D-E8BF5FBE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1B4-8B8D-4C60-BCEA-3741B7F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666-960B-4FAD-A827-87609ED2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06A-9DB9-478F-9C53-19A8967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E6E-13F8-43EA-B651-C49135F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4118-1043-4A93-BB0E-9893BC896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-07Home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at.sc.edu/~west/applets/box.html" TargetMode="External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uf.rice.edu/~lane/stat_sim/descriptive/index.html" TargetMode="External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(how are data “spread out”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Display:    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width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lots  =  Time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rganization &amp;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stat-or.unc.edu/webspace/postscript/marron/Teaching/stor155-2007/Stor155-07Hom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 Betw’n Mean &amp; Me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Distribution:  Essentially no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Skewed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area                                                  50%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since “feels tails more strongl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3497400" cy="218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19520" y="5334120"/>
                <a:ext cx="2872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590920" y="31240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952520" y="3124080"/>
            <a:ext cx="17528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00200" y="4647960"/>
            <a:ext cx="2590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91120" y="4266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124080" y="495288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426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 Betw’n Mean &amp; Me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s  (unusual valu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Web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stat.sc.edu/~west/applets/bo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els outliers much more stro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“range of most of 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notion of “center”?   (perhaps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very minim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ness Termin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 is “resistant to the effect of outli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 Betw’n Mean &amp; Me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cher web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r’s Web Site:  Statistical Applets:  Mean &amp;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ymmetric distribu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r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n outlie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feels it much more stro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 for “bad data”:   can be very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lus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 jumps more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re stable (better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using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oy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3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Using Exce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fe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cation of data on 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fe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cation of data in sort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breaks tie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eraging center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Centerpoint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W:   1.46 a,  1.47,   1.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EXC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eck out this small quick movie cl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2578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ggestions for other things to show here are very welcome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vie Clip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i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k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rto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s”  (again there are sev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biggest       -  smal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s only “outli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“bulk of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 non-resi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962520" y="2209680"/>
                <a:ext cx="304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248520" y="2209680"/>
                <a:ext cx="304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09480" y="3200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124080"/>
            <a:ext cx="10980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124080"/>
            <a:ext cx="10980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90360" y="3581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581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99072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84872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“average squared distance to   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:    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:    units are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g.   For     in feet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in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2057400"/>
                <a:ext cx="61722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467480" y="3886200"/>
                <a:ext cx="319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133720" y="5867280"/>
                <a:ext cx="384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81480" y="5791320"/>
                <a:ext cx="460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:    STD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i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resistant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use quite a lot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reasons described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7080" y="1676520"/>
                <a:ext cx="1382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40-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64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ve View of S. 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web example (manipulate histogra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ruf.rice.edu/~lane/stat_sim/descriptive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D r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ered at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right near middle”  (densely packed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“edges of data”    (U shaped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outside of data”       (big spike + outl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enerally “sensible measure of spre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– S. D.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3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the data set in 1.46 (i.e. 1.37), find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ariance      (16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ndard Deviation      (40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EXC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quartile Range   =   I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“quartiles”,   Q1 and 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dea:  shows where are 25% &amp; 75% “through the 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                   25%                       25%                    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       Q2 = median      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R = Q3 –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8229600" cy="1695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33526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32767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029200" y="3352680"/>
            <a:ext cx="533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53080" y="33526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8195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34340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867280" y="51055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il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t Hidalgo Stamp Thickness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-or.unc.edu/webspace/postscript/marron/Teaching/stor155-2007/Stor155Eg6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kewness g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 &lt;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an “feels farther points more strongl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near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 quite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kes sense from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il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6Raw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mpute as separate functions fo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ata Analysis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scriptive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gives many other measur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k-th largest &amp; smallest” to get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 - 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  -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Information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2 &amp; 4  (maybe 1 &amp;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2, 3 &amp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 &amp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6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QUA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top shopp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seems to need explicit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for Defining “Outli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ver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ve Q3 + 1.5 * I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Q1 – 1.5 * I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tamp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6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liers at “low e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t “high e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Number Sum. &amp; Outliers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Visual Display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legacy from pencil &amp; paper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upported in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e won’t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use: comparing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Figure      from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class too “monoton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underst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m environment enhances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does it induce somnol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“somnolenc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ess, a condi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nsciousness approaching co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74704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use: comparing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Figure      from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better software package than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221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major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udent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co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362320" y="1400040"/>
          <a:ext cx="678168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400040"/>
                    <a:ext cx="678168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about a business manager jo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many managers does it take to replace a light bul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about a business manager jo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many managers does it take to replace a light bul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wo. One to find out if it needs changing, and one to tell an employee to change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joblatino.com/jokes/manage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What happens to da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amp; summa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n data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and scal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panned and zoom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d b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ed by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76520" y="4267080"/>
                <a:ext cx="64767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↦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657600" y="5105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6248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029200"/>
            <a:ext cx="7596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5029200"/>
            <a:ext cx="7632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5029200"/>
            <a:ext cx="7596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5029200"/>
            <a:ext cx="7632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6172200"/>
            <a:ext cx="7596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6172200"/>
            <a:ext cx="7596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6172200"/>
            <a:ext cx="7632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6172200"/>
            <a:ext cx="7632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51814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518148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5181480"/>
            <a:ext cx="2819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518148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n linear summ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points,      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data”: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s,        and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 scale, not shift”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9880" y="3124080"/>
                <a:ext cx="432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038480" y="3733920"/>
                <a:ext cx="3310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105520" y="3124080"/>
                <a:ext cx="533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24080" y="5181480"/>
                <a:ext cx="308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24280" y="5105520"/>
                <a:ext cx="914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00600" y="5791320"/>
                <a:ext cx="22208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IQ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Useful Linear Trans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put data sets on “common sca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Mean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center at 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y S.D.     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give common SD = 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038480" y="5029200"/>
                <a:ext cx="30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3657600"/>
                <a:ext cx="4032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is called “z-sco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      is interpre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Ds from the me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676520" y="5029200"/>
                <a:ext cx="4539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43600" y="1295280"/>
                <a:ext cx="239544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276720" y="3276720"/>
                <a:ext cx="276048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time:  work in Excel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eri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out any coins you have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of you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1  pe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1  nick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1  d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1 quar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ost frequent deno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fall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7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data have same (EXCEL default) histogram shape as raw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axes and bin edges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trans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shape” doesn’t depend on “sca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at-or.unc.edu/webspace/postscript/marron/Teaching/stor155-2007/Stor155Eg7Raw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AVERAGE and 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Formula in cell 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 down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Mean and SD cells fixed using $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tand’d data have mean 0 &amp; S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  “8.247E-16    =    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4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data in 1.17,  use EXCEL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ive the list of standardized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ive the Z-score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mean          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i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median        (-0.2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ii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smallest       (-1.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v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largest          (2.7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59a,    1.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data (into Spreadshee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e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mped on c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osen deno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s person 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into spread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“distribution” using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ed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ext Book, Problem 1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ft 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out as predi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most skewed dist’ns seem to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ght 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merical Summa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ributi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“center”, “spread”, “skew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xt, Sec.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at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bscripts allow “indexing numbers” in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124080" y="4724280"/>
                <a:ext cx="27432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 flipV="1">
            <a:off x="2666880" y="5334120"/>
            <a:ext cx="8384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5334120"/>
            <a:ext cx="15242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”  (note there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v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” = Averag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letter “Sigma”, for “su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L, use “AVERAGE”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362320" y="2819520"/>
                <a:ext cx="26668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38280" y="3962520"/>
                <a:ext cx="221004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flipV="1">
            <a:off x="609480" y="480060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” = Value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    “in middle”?  (n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better “middl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:    use function “MEDI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3-04T22:13:46Z</dcterms:modified>
  <cp:revision>118</cp:revision>
  <dc:subject/>
  <dc:title>Slide 1</dc:title>
</cp:coreProperties>
</file>