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A83-A4D6-4B64-8F4C-83CB0EC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961-BADE-4380-AD3C-0413A91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1D7-939A-436D-B000-F9B44860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6B6-40ED-4693-9898-798AF2E4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D71-F7EF-4FDD-ADA7-844565A5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720-62E7-498E-B7BA-A6DBF34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57F-0B5D-4F9D-A5AE-B70CAF7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B93-7201-4899-9D85-5D4CEBF6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205-3BAD-4B9B-A669-3A7E1926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221-751A-419B-97BF-32F897BD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0C4-881E-4FEB-83CA-8E3DD39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1C2-394B-4E63-B23A-DAF081C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8DC-E161-43D3-98AA-34395831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Home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normaldemo1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ampsHistLoc.m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Summari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:   Mean, Me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:   Range, Variance, S.D., I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Number Summary    &amp;    Outlie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&amp;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rganization &amp;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-07Ho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density cu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“relative frequen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data between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        =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638680" y="4952880"/>
                <a:ext cx="1067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257800" y="5486400"/>
                <a:ext cx="17524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62520" y="5638680"/>
                <a:ext cx="6858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rcRect l="0" t="42063" r="0" b="0"/>
          <a:stretch/>
        </p:blipFill>
        <p:spPr>
          <a:xfrm>
            <a:off x="1905120" y="2743200"/>
            <a:ext cx="5333760" cy="14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43200" y="403848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3962520"/>
                <a:ext cx="311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densit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relative freq. of everything is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1.80  (a: l = w = 1    b: 0.25     c: 0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81,   1.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 with pencil and paper, no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Useful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urve”    =    “Gaussian Dens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:    “like a mo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f “sand dumped from a tru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, worse, description:   “bell shap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Daily Maximum Temperatures in Melbourne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8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Histogram is “mound shap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“small scale random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odel with “Normal Densit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normal curves, index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”, i.e.  Mean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”, i.e. Stand. Deviation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   &amp;     are called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“mu”  ~ m       Greek “sigma” ~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71800" y="5181480"/>
                <a:ext cx="378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3352680"/>
                <a:ext cx="4669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238880" y="4267080"/>
                <a:ext cx="457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3581280" y="3809880"/>
            <a:ext cx="18288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391520" y="4724280"/>
            <a:ext cx="457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809880" y="5181480"/>
                <a:ext cx="381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Normal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” (pans) indexed b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” (zooms) index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nteractive graphical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sc.edu/~west/applets/normal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area under curve is always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943600" y="2590920"/>
                <a:ext cx="533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477120" y="34290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“function”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constant  =  3.14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umber  =  2.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95480" y="1676520"/>
                <a:ext cx="120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24280" y="4419720"/>
                <a:ext cx="317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1066680" y="35049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86000" y="380988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14800" y="342864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,  but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86600" y="6019920"/>
                <a:ext cx="57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6019920"/>
                <a:ext cx="1725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05320" y="6095880"/>
                <a:ext cx="1330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  Choose             to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” fit to data            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“good” choice of normal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5780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733920" y="160020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48120" y="5562720"/>
                <a:ext cx="3124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it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Melbourne Daily Max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8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curve,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good” approximati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419720" y="3429000"/>
                <a:ext cx="2743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64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102-112, 123-1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it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8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hosen (not default) histogram b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ice comparison b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nger range to avoid the “More”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 with density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o steps, in cols F an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se NORMDIS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l J, check same as col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5:    A study of distance runners found a mean weight of 63.1 kg, with a standard deviation of 4.8 kg.  Assuming that the distribution of weights is normal, use EXCEL to draw the density curve of the weight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data (into Spreadshee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mped on c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osen deno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s person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into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“distribution” using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ortunately I lost the da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save fil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d to Strange Locatio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way, I can’t find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on’t be able to fin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pecial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Marr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having a lot of trouble creating time plots. Is there any way that you could walk me through creating one again or demonstrate on Tuesday? I read over the notes and the book but that didn't help. Tha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lots”,  i.e. “Time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when time structure is import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variable as a function of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ful to “connect the d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133360" y="52578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4343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343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81280" y="41148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1148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46479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4266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3341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429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629400" y="38858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010280" y="388620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553080" y="411480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95880" y="350532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638680" y="3352680"/>
            <a:ext cx="13680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257080" y="4191120"/>
            <a:ext cx="13644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799880" y="4572000"/>
            <a:ext cx="13644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67080" y="464832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85480" y="40384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4600" y="44956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47400" y="42670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66880" y="4952880"/>
            <a:ext cx="13680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Passeng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5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Type:  Line  (or could do  X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ubtype for points &amp;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enu for first log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could just type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down to repeat for whol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ling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:     Section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 Approximate histogram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idealized cur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“density cur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ly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ized Cur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dalgo Stamps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ing Bin Movie (made # modes chang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ampsHistLoc.m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dealized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ampsHistLocKDE.m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opulation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hows why histogram modes appear and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1-24T15:13:04Z</dcterms:modified>
  <cp:revision>181</cp:revision>
  <dc:subject/>
  <dc:title>Slide 1</dc:title>
</cp:coreProperties>
</file>