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355-6529-411F-85F2-D0AE4982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AAD-8B8C-43DB-8CD2-768E3C2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79F-91D1-47C1-BBD4-055AA4A1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544-BF42-4F05-902B-0CD97D3A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FC9-2796-4250-A91D-43AFD0C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014-8BD4-4C69-8CF4-F293C81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3B1-DDB8-4602-952B-87E65D1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0CC-7627-4859-A5C4-6CD967D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1D-25EE-4A0D-8A09-CBD408A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449-164B-4C42-84A2-5F5319D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932-6686-40FE-9615-0901197E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224-632A-4233-8790-5CE4CE5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EBC-CBE1-4ACA-A697-0C42C7F27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cs.whfreeman.com/ips5e/" TargetMode="External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9.xls" TargetMode="External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X2_zsnPkq8&amp;mode=related&amp;search=" TargetMode="External"/><Relationship Id="rId2" Type="http://schemas.openxmlformats.org/officeDocument/2006/relationships/hyperlink" Target="http://www.youtube.com/watch?v=8X2_zsnPkq8&amp;mode=related&amp;search=" TargetMode="External"/><Relationship Id="rId3" Type="http://schemas.openxmlformats.org/officeDocument/2006/relationships/hyperlink" Target="http://www.youtube.com/watch?v=8X2_zsnPkq8&amp;mode=related&amp;search=" TargetMode="External"/><Relationship Id="rId4" Type="http://schemas.openxmlformats.org/officeDocument/2006/relationships/hyperlink" Target="http://www.youtube.com/watch?v=8X2_zsnPkq8&amp;mode=related&amp;search=" TargetMode="External"/><Relationship Id="rId5" Type="http://schemas.openxmlformats.org/officeDocument/2006/relationships/hyperlink" Target="http://www.youtube.com/watch?v=8X2_zsnPkq8&amp;mode=related&amp;search=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9.xl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9.xls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eosc.psu.edu/people/faculty/personalpages/tbralower/index.html" TargetMode="External"/><Relationship Id="rId2" Type="http://schemas.openxmlformats.org/officeDocument/2006/relationships/hyperlink" Target="http://www.geosc.psu.edu/people/faculty/personalpages/tbralower/index.html" TargetMode="External"/><Relationship Id="rId3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cs.whfreeman.com/ips5e/" TargetMode="Externa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Excel Comput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Plots (i.e. Time Se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 Distributions:  Densities (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Density Curve (very useful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Normal Den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mean and s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Approach:        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nside cover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s area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an’t use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ed by “compu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job description in the early 1900’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0.72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286000" y="4267080"/>
                <a:ext cx="1600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3962520" y="1371600"/>
            <a:ext cx="4960800" cy="396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4800600"/>
            <a:ext cx="2438280" cy="7621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29000" y="3809520"/>
            <a:ext cx="2819520" cy="1295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Version (used for above pi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ame Publisher’s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ips5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ur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above e.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is “cutoff poi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s Area below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6705720" y="3809880"/>
            <a:ext cx="2184120" cy="1743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29955" t="39428" r="5286" b="10285"/>
          <a:stretch/>
        </p:blipFill>
        <p:spPr>
          <a:xfrm>
            <a:off x="3657600" y="3809880"/>
            <a:ext cx="2184480" cy="1743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29955" t="39428" r="5286" b="10285"/>
          <a:stretch/>
        </p:blipFill>
        <p:spPr>
          <a:xfrm>
            <a:off x="380880" y="3809880"/>
            <a:ext cx="2184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 for EXCEL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Use Excel to check 68 - 95 - 99.7% 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9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rea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   (use Exce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7     (Hint:  the % above 130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0% - % below 1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9      (see discussion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Don’t just “twiddle EXCEL until answer appears”.    Understand i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ind blowing video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year old Skateboarding Tw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8X2_zsnPkq8&amp;mode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lated&amp;searc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y ever mi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explore far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s to Devin Coley for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Frequencies:     “Quanti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iven area, find “cutoff”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“quanti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4191120" y="2819520"/>
            <a:ext cx="4427280" cy="353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388620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5334120"/>
            <a:ext cx="5105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58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of Quant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Clas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9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”    is    “Are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mean and S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71-83, 102-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23-127,  132-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Are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Choose an “alarm level”, which will give only 1 %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9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Area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5,    1.101,    1.107,    1.1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16 a   (-0.674,  0.6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18   (4.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agno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Normal Model “goo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  =  Normal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look at plot which is approximat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data from Norm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, for data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“Theoretical Proportion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“Theoretical Z-scor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Sorted Data (Y-axis)  v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 Z – scores (X-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962520" y="1447920"/>
                <a:ext cx="13716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24080" y="3352680"/>
                <a:ext cx="32767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2680" y="4648320"/>
                <a:ext cx="4694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INV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2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how to compute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a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bourne Winter Temperat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ian is good, so looks ~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OK, to use normal model for the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trendline helps in assessing 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Stat Course Exam Scor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ed distribu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show up cl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model unreliab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plot 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 =  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 = 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Bimod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 is flat near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linear near p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s to two normal subpopulai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up fast a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Quantile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major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en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62320" y="1400040"/>
          <a:ext cx="678168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00040"/>
                    <a:ext cx="6781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V="1">
            <a:off x="1447920" y="5790960"/>
            <a:ext cx="26668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Views of Norma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Model to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            &amp;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Data to Mod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andardi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Normal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different resca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ose scale depending on n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715000" y="2514600"/>
                <a:ext cx="1085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809880" y="2514600"/>
                <a:ext cx="1143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05520" y="4495680"/>
                <a:ext cx="2057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about a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iology jok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eventh grade Biology teacher arranged a demonstration for his class. He took two earth worms and in front of the class he did the following: He dropped the first worm into a beaker of water where it dropped to the bottom and wriggled about. He dropped the second worm into a beaker of Ethyl alchohol and it immediately shriveled up and died. He asked the class if anyone knew what this demonstration was intended to show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 asked the class if anyone knew what this demonstration was intended to show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boy in the second row immediately shot his arm up and, when called on said: "You're showing us that if you drink alcohol, you won't have worm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Look beyond single quantities, to how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How do HW scores “relat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am sc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1:  Useful graphical dev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2360" y="15238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necting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752480"/>
          <a:ext cx="5257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5257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to switch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, an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lines/cu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86200" y="1676520"/>
          <a:ext cx="48006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676520"/>
                    <a:ext cx="4800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:  “Scatterpl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Chart Wizard  (colored bar 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ype:  XY (sc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ype conrols points only, or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steps similar to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 massage the pic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 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related Intro. Stat.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tual sc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W score predict Final Ex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HW,             =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op half of HW sc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W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tter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er H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s much more “rand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3048120"/>
                <a:ext cx="5511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19720" y="3124080"/>
                <a:ext cx="366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nking about “X causes Y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X the “Explanatory Var.”  or “Indep. V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Y the “Response Var.”  or “Dep. V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of “Y as function of X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though not always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Sometimes thin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imes:  “Explore Relation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“normal distribu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an         &amp;  standard deviation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brevi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001000" y="2514600"/>
                <a:ext cx="441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76720" y="251460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14800" y="4572000"/>
                <a:ext cx="1911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cores 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W predict Midterm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HW,                   = M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better HW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tter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for each HW, wider range of MT1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HW doesn’t predict MT1 as well as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” in scatterplot may not be outliers in either individu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W = 72,  MT1 =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d HW, but good MT1?, fluke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33720" y="2286000"/>
                <a:ext cx="44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86400" y="2286000"/>
                <a:ext cx="426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cores 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T1 predict MT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T1,                = M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less “causation”, more “explor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igher MT1 associated with higher M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MT1, wider range of M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not good predic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Outl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1 = 100,    MT2 = 56   (oop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1 = 23,    MT2 = 74  (woke up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09680" y="2286000"/>
                <a:ext cx="44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57800" y="2286000"/>
                <a:ext cx="426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Aspect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: 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 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Class Score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s. High values of HW is “b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:  Data follows different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Example: Bralower’s Fossi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1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lower’s Fossi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1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ra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erly of Geological S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Global Climate, millions of years a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s of Isotopes of Stron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Ice Ages, via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 meter differe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unction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Direction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bigg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Y b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bigg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Y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X = alcohol consumption,  Y = Driv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ativ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Strength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How close are points to lying on a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Score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10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is “closely related to H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ly related to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 re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idter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Z-score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ubtracting mean  &amp;  dividing by s.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                                    (mean 0,  s.d.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a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  “      is         sd’s above the me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86200" y="2390760"/>
                <a:ext cx="1523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00400" y="4495680"/>
                <a:ext cx="23623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514600" y="3809880"/>
                <a:ext cx="2362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33720" y="5181480"/>
                <a:ext cx="54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00400" y="5181480"/>
                <a:ext cx="477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idea for Normal Curv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s are on              sca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91120" y="1981080"/>
                <a:ext cx="1170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5867280"/>
                <a:ext cx="1295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257800" y="3505320"/>
            <a:ext cx="3360600" cy="2679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86200" y="3200400"/>
            <a:ext cx="312408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2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m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3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143000" y="2438280"/>
                <a:ext cx="1295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90720" y="5181480"/>
                <a:ext cx="1676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304560" y="39625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9955" t="39428" r="5286" b="10285"/>
          <a:stretch/>
        </p:blipFill>
        <p:spPr>
          <a:xfrm>
            <a:off x="5486400" y="1219320"/>
            <a:ext cx="3360600" cy="268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29955" t="39428" r="5286" b="10285"/>
          <a:stretch/>
        </p:blipFill>
        <p:spPr>
          <a:xfrm>
            <a:off x="5486400" y="4038480"/>
            <a:ext cx="336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Version (used for above pic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ublisher’s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ips5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ur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lations are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86  (a: 234-298,    b: 234, 29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1-29T02:03:19Z</dcterms:modified>
  <cp:revision>190</cp:revision>
  <dc:subject/>
  <dc:title>Slide 1</dc:title>
</cp:coreProperties>
</file>