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360C-2CEF-41D5-9175-73999128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5DE-9B7A-426C-9127-843D3B83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E48-EC5A-4A0B-87B0-11C83E09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76A1-FCFA-492C-8A0F-31AB9E99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7442-04B3-4826-BA92-C7867EAD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B55-49AF-40C5-B655-FB8545EA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E7D0-7E88-4E42-903D-A8B44DB5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915-CB85-4FC2-AE4A-19BC293A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BB6-1837-49FE-9C5B-6409ACFC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1794-0A03-4515-AD6B-89EF4880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ADB-B3E1-460B-8BC0-85BCFD72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562-51B2-4875-AEB9-E356E6AA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50A6-D070-4775-8610-AEC074ECD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17.xls" TargetMode="External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5QlDkgmtw8" TargetMode="External"/><Relationship Id="rId2" Type="http://schemas.openxmlformats.org/officeDocument/2006/relationships/hyperlink" Target="http://www.youtube.com/watch?v=G5QlDkgmtw8" TargetMode="External"/><Relationship Id="rId3" Type="http://schemas.openxmlformats.org/officeDocument/2006/relationships/hyperlink" Target="http://www.youtube.com/watch?v=G5QlDkgmtw8" TargetMode="External"/><Relationship Id="rId4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155,  Section 2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Presidential Election Po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s &amp;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tie above ideas toge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ic Freezing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for stomach ul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sthetiz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balloon in 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with freezing coo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ic Free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Experiment,    19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patients, all c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popular, and better than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re were some skeptic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it a Placebo Effect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was fact of “some type of treatment” enough for “c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ic Free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,  196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Experi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me treated others not, shows 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 better with no treat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:   Eliminates other sources of bias, i.e. lurking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andomly choose: treated or n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ic Free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ind”   Patient doesn’t know if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ot a balloon in stomach or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groups got that, bu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group got freezing cool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v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Double Blind”:   Doctor doesn’t know if treated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mebody else controls freezing cool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  since doctor decides if “cur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ic Free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Group:    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Group:        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ly:                         Treatment   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ymptoms:            29%          2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:                    47%          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24 Month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pse:                      45%          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ic Free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trong effect of treatment over control is apparent.  All placebo eff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uild tools to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within natural vari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ing t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dif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ic Free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ous case for eliminating “ineffective treatme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ed importa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uble blind controlled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are commonly used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ch ulcers currently very effectively treated with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psi Challenge:  Try a blind taste test of Pepsi vs. Coca-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sful ad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thought Pepsi tasted be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were surprised by blind test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psi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a careful “double blind approac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te test Pepsi vs. C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“taster” doesn’t know which is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“blind” part of experi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ame for “giv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“double blind” p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psi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:  Groups of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do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ach job o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rer (put your name and others on slip, pour cups outside room, and stays 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r   (also puts names on slip, goes to get cups after po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ter   (always inside ro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r:   record results on their s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231-240, 256-2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259-271, 277-2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psi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“double blind”, i.e. “no knowledge of doctor” by pourer filling cups in room, so that giver does not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“color association” by random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rer do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tch tasting (no telegraphing with big grin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fter tas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ompare notes, check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report, and analyze result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. 3.4: Basics of “Inferenc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 Build foundation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istical in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 quantit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f uncertainty and varia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Concep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 mean         , SD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, but can get information fro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72000" y="4419720"/>
                <a:ext cx="3873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172200" y="4419720"/>
                <a:ext cx="3808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 flipV="1">
            <a:off x="1447920" y="4647960"/>
            <a:ext cx="3047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447920" y="4647960"/>
            <a:ext cx="4724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al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page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here think about parameters: 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sually random), described by corresponding “statistic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ean       ,  SD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become important to keep these ap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95680" y="4419720"/>
                <a:ext cx="3812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324480" y="4419720"/>
                <a:ext cx="3225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886200" y="2209680"/>
                <a:ext cx="3873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495680" y="2209680"/>
                <a:ext cx="3812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“all vo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am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teres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%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Candidat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igger than 50% or no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“voters asked by polls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      =  %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reful to keep these straigh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14400" y="3505320"/>
                <a:ext cx="4255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52680" y="5181480"/>
                <a:ext cx="297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“estimate” o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ility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construct models of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when sample is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random sampling also reduces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105520" y="2895480"/>
                <a:ext cx="3524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76520" y="2819520"/>
                <a:ext cx="253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:    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eming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ent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“all possible measurem’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thought experiment on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teres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opulation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opulation 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828800" y="4648320"/>
                <a:ext cx="4255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828800" y="5257800"/>
                <a:ext cx="380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:    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“measurem’ts actually mad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mean of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SD of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76520" y="4419720"/>
                <a:ext cx="357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676520" y="3733920"/>
                <a:ext cx="3985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:    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will model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ness” is just a model for 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600200" y="2743200"/>
                <a:ext cx="358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676520" y="3581280"/>
                <a:ext cx="29196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191120" y="3505320"/>
                <a:ext cx="457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191120" y="2819520"/>
                <a:ext cx="3762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.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Mathematic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825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Model for “possible values”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Distribution of        in “repeated samplings” (thought experiment on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:    Distribution of        in “repeated samplings” (again thought experi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876920" y="4648320"/>
                <a:ext cx="358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886280" y="3236760"/>
                <a:ext cx="42696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3:    Produc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s is done is critical to conclu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3.1:     Statistical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ain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al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Mathematic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Distribu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tudy these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shape”: often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Gives measure of “bi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Gives measure of “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 and 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05320" y="304920"/>
            <a:ext cx="5230800" cy="6248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41360" y="2322360"/>
            <a:ext cx="2149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ned from 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. 3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 and 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from previou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“Estimate % of males at UNC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17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everal approaches to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 bad, one sen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 % Males at UN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ing proportions (on [0,1] sc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 Grid (for histograms on [0,1] nu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Pa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mean of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SD (spread) of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(appear n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 % Males at UN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4 way to collect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from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at door and 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1 “less spread and to lef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up names in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3 “more to righ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d to be best, can we se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 % Males at UN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comparison:  Q4 vs. each other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“interleaved histogra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 &amp; Q4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1 has smaller cen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“biased”, since Class       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ss spr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“drawn from smaller poo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334120" y="3581280"/>
                <a:ext cx="36576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572000" y="4724280"/>
                <a:ext cx="388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6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715000" y="4267080"/>
                <a:ext cx="3808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 % Males at UN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2 &amp; Q4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have Q2 big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s bias in doo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Q2 is “more spread”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s “spread in doors chosen” + “sampling spr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173400" y="2819520"/>
                <a:ext cx="3713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021120" y="4572000"/>
                <a:ext cx="3940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 % Males at UN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3 &amp; Q4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 for Q3 is big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s “more people think of male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Q3 is “more spread”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s “more variation in human choi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191040" y="2811600"/>
                <a:ext cx="36763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029040" y="4562640"/>
                <a:ext cx="39225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4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 % Males at UN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k under the h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an interleaved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Chart Wi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Bar (and interleaved sub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colors are in “seri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d earlier on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ool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Anal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sto’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 % Males at UN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ques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 “natural variation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model this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“binomial” part of this exam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we will study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:    “random error” is smaller than “unintentional bias”,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rge enough sample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ar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ample sizes:   ~1,000 - 3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 now  &lt;&lt;  50,000 used in 194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surveys are much che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us many more done now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 and 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.66 (Hi bias – hi var, lo bias – lo var, lo bias – hi var, hi bias – lo v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.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ool movie suggested by Sander Buitela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G5QlDkgmtw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treet scene in Amster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Photography convey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Plein” = Pl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otball dribble” =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4: 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quantify (get numerical)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to answering questions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 what is “natural 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random sampl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which effects are “significa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Represent “how likely” something is by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(will use for a while, since simplicity gives easy insigh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 a die (6 sided cube, faces 1,2,…,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of 6 faces is a “4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say “chances of a 4”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out of 6”           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at number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find such for harder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029200" y="4267080"/>
                <a:ext cx="1066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y to make this prec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ist Approac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ny replications (repeat of die roll), expect about          of total will be   4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  (attach buzzwords to idea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“outcomes” from 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experi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#s on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roll die, observe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733920" y="3124080"/>
                <a:ext cx="5601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 flipV="1">
            <a:off x="1905120" y="4723920"/>
            <a:ext cx="1676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343400" y="52578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fy “how likely” outcomes are by assigning “probabiliti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a number between 0 and 1, to each outcome, reflecting “how likely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means    “can’t happ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½   means   “happens hal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means   “must happ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9:  Match one of the proba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0, 0.01, 0.3, 0.6, 0.99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ith each statement about an ev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ossible, can’t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ertain, will happen on every t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ery unlikely, but will occur once in a long w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vent will occur more often than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ccu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(&amp; will) calculate using “probabi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es term “scientific sampl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rovement over quota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ed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Type:    compare “treatment” with “placebo”, a “sham treatment” that controls for psychological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ink you are better, just because you are treated, so you are better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a “blind”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ed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Refin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Blind” experiment mea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i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ient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ctor knows is real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possible doctor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f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method for choosing groups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Treatment and Contr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“just choose so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means “make each equally like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f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lus:    Eliminates bia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effects of “lurking variab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ame as random choice of sampl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pay price of added variabilit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ell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Faye</cp:lastModifiedBy>
  <dcterms:modified xsi:type="dcterms:W3CDTF">2007-02-08T22:39:51Z</dcterms:modified>
  <cp:revision>233</cp:revision>
  <dc:subject/>
  <dc:title>Slide 1</dc:title>
</cp:coreProperties>
</file>