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DFE-4C9B-4836-A9F0-8902EFA7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C30-0486-462D-9C75-9E150E67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876-8204-4AEC-B8F5-ABF87416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D60-2ADD-446C-B8E3-DC497E97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276-A987-4D20-9F6E-FF2B0DD9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05B-E669-4F7D-AD67-890A0638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083-2D21-4771-A77A-723CA475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A1B-E771-4733-B42C-FECEF56B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F2C-0F04-4341-9500-94EAC692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68D-8E43-44C6-82EF-3E5F5183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F7C-9516-4372-AE00-DCFE6374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BC5-B930-4DFD-B967-B8E4E714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C80E-2E08-4CCC-96E8-660DC9E2A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LauraRoseDemolitioncall.wma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ing Data:  How to S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Blind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“parameters”       ,     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“statistics”                ,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eep these separ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410080" y="4191120"/>
                <a:ext cx="3873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019920" y="4191120"/>
                <a:ext cx="380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4648320"/>
                <a:ext cx="3808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019920" y="4648320"/>
                <a:ext cx="3222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629400" y="4191120"/>
                <a:ext cx="4255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629400" y="4572000"/>
                <a:ext cx="297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-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erminology (to carry this furth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t of outc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:  “an even #”, is the event {2, 4,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etting on even don’t care about #, only even or 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events are our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utcome is an event:  the set containing just that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event is the more general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on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comes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“event with everything that can 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event} = sum of probs of outcomes i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209680" y="4724280"/>
                <a:ext cx="23623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lu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assigns number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e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, P, is a “function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on a set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function in math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-in             ge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:        P{event}  =  “how like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410080" y="2895480"/>
                <a:ext cx="2438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4952880" y="3429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040" y="472428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7314840" y="35053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086600" y="4800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ie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pace  =  {1, 2, 3, 4, 5,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en #” is the event  {2, 4, 6} (a “se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“even”}  =  P{2, 4, 6}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{2} + P{4} + P{6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1/6 + 1/6 + 1/6  =  3/6  =  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s, since expect “even # hal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248520" y="3581280"/>
                <a:ext cx="8380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o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3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d you here about the constipated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d you here about the constipated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He worked it out with a penc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d you here about the constipated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He worked it out with a penc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pologies for the juvenile natu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d you here about the constipated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He worked it out with a penc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pologies for the juvenile natu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But there is an important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231-240, 256-2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259-271, 277-2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Did you here about the constipated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He worked it out with a penc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pologies for the juvenile natu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But there is an important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The pencil is a powerfu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mathematical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The pencil is a powerfu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mathematical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An old stud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I was once “good in ma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But suddenly lost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Reason: tried to do too much in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Reason: never learned power of the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nd now for something </a:t>
            </a:r>
            <a:br>
              <a:rPr sz="4400"/>
            </a:b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letely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The pencil is a powerfu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mathematical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r us:  now is time to start using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 do PowerPoint i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You use pencil on HW (and exa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hange in mindset, from Exce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tretch ideas with more interes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Political Polls,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vie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dividual equally likely to be in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ossi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qually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for simple Probability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0880" y="4952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possibl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 population A, B, C,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s a v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4, so easy to work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114800" y="4572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91120" y="45720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67080" y="4572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343400" y="4572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opulation A, B, C, 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. R. S. of siz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pac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(A,B), (A,C), (A,D), (B,C), (B,D), (C,D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, i.e. possible samples of siz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62120" y="426708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62120" y="42670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ssign P, using “equally likely”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,B} = P{A,C} = … = P{C,D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/(#samples)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eresting even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in sample”  =  {(A,C),(B,C),(D,C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 of samples with C in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C in sample}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happens “half the tim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038480" y="1295280"/>
                <a:ext cx="388332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th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09680" y="2666880"/>
                <a:ext cx="54864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Probability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W    C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bby, Bob, Mei-Ling, Sally and Roberto work for a firm.  Two will be chosen at random to attend an overseas meeting.  The choice will be made by drawing names from a hat (this is an S. R. S. of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rite down all possible choices of 2 of the 5 names.  This is the sample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andom choice makes all choices equally likely.  What is the probability of each choice?  (1/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prob. that Sally is chosen?  (4/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prob. that neither Bob, nor Roberto is chosen?  (3/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chance of being in a poll of 1000, from S.R.S. out of 200,000,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rude estimate of # of U. S. vo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each sample is equally likely 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  this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,733 digits, too big for easy handling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157480" y="4191120"/>
                <a:ext cx="5211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638680" y="5029200"/>
                <a:ext cx="2286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7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flipV="1">
            <a:off x="3124080" y="4876920"/>
            <a:ext cx="19051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4: 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quantify (get numerical)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o answering question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 what is “natural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random sampl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which effects are “significa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Represent “how likely” something is by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sense, since you are “equally likely to be in samp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62320" y="3657600"/>
                <a:ext cx="6400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!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8288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 interesting phone convers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oun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have prob.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hard to wor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prob’s we care about, such as “accuracy estimators”, need bett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look more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calculate “complicated prob’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omposing 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erms of 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alculating probs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using simple rules of probabilty to comb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962520" y="3352680"/>
            <a:ext cx="30477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I:   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{not A}  =  1 –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equally likely sampl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re gener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048120" y="3809880"/>
                <a:ext cx="46479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otal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A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62520" y="5410080"/>
                <a:ext cx="47242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prob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  <m:r>
                              <m:t xml:space="preserve">'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bs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Not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Book Terminology (sec. 4.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  =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complement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 theoretic te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 prefer “not”, since more intui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124080" y="2133720"/>
                <a:ext cx="5335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 flipV="1">
            <a:off x="2286000" y="2361960"/>
            <a:ext cx="12193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Not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Rework, using the “not”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7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II:   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{A or B}  =  P{A} + P{B} – P{A and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equally likely sampl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P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914400" y="3809880"/>
                <a:ext cx="69372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B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3352680" y="5105520"/>
            <a:ext cx="251460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5181480"/>
            <a:ext cx="2057400" cy="1067040"/>
          </a:xfrm>
          <a:prstGeom prst="ellipse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A = “4 or less” = {1, 2, 3,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B = “Odd” = {1, 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how rules work by calculating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:    P{not A} = P{5, 6} = 2/6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ule I:  P{not A} = 1 – P{A} = 1 – 4/6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“4 or less” = {1, 2, 3,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“Odd” = {1, 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how rule works by calculating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:    P{A or B} = P{1, 2, 3, 4, 5} = 5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ule II:  P{A or B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A} + P{B} – P{A and B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/6 + 3/6 – 2/6 = 5/6        (check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Bas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epresenting “how likely”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ie Roll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comes up 4}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 is “4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is 1/6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o eas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ally need rules for these simpl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y ar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igg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s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: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86 (0.31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A college has 60% Women and 40% smokers, and 50% women who don’t sm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hance that a randomly selected student is either a women or a non-smok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ms “&gt;60%”, but twice? Must be &lt; 100%, i.e. must be some overlap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ge Women – Smokers E.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W or NS} = P{W} + P{NS} = P{W &amp; NS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oice of letters make easy to work w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6 + (1 – 0.4) – 0.5 = 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swer is 70% Women or Non-Smok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rules are powerful when used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428640" y="19810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5812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“Or” Rule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C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building company bids on two large projects.  The president believes the chance of winning the 1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0.6, the chance of winning the 2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0.5, and the chance of winning both is 0.3.  What is the chance of winning at least one of the jobs?    (0.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Events A &amp; B are “mutually exclusive”, i.e. “disjoint”, when  P{A &amp; B}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no chance of seeing both at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Pic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or B} = P{A} + P{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suggests “new rule”, I say “special ca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3505320"/>
            <a:ext cx="12952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3429000"/>
            <a:ext cx="60948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Exclusive Or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C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oose an acre of land in Canada at random.  The probability is 0.35 that it is forest, and 0.03 that it is pas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the probability that the acre chosen is not forested?  (0.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the probability that it is either forest or pasture?  (0.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the probability that a randomly chosen acre in Canada is neither forest nor pasture?   (0.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y “how likely” outcomes are by assigning “probabilit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a number between 0 and 1, to each outcome, reflecting “how likel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means    “can’t 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   means   “happens hal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means   “must 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all probabilities (i.e. over all outcomes) is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die rolling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495680" y="3124080"/>
                <a:ext cx="12193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471920" y="3505320"/>
                <a:ext cx="11905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419720" y="5029200"/>
                <a:ext cx="12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483080" y="3886200"/>
                <a:ext cx="1168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471920" y="4267080"/>
                <a:ext cx="11905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483080" y="4648320"/>
                <a:ext cx="11685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72000" y="5791320"/>
                <a:ext cx="9320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 flipH="1">
            <a:off x="3733920" y="5562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3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Rules for assign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equent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at happe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 repit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qually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for   n  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one outcome}  =  1/n    (e.g. die ro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served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mmarize when people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“prob of dying” at a given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Rules for assign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Ch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ng “your assess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Odds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:    requires som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ey is prob’s need to sum to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Faye</cp:lastModifiedBy>
  <dcterms:modified xsi:type="dcterms:W3CDTF">2007-02-18T23:10:12Z</dcterms:modified>
  <cp:revision>248</cp:revision>
  <dc:subject/>
  <dc:title>Slide 1</dc:title>
</cp:coreProperties>
</file>