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A23-5B60-45D1-AA04-DDC74E63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D10-3239-49AE-9A56-B4FBA6C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0E4-78D3-4B55-B350-75511D39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95B-C9FC-484A-8DA4-3A067DF6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6F6-DE56-408A-A775-05CE216D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A21-063A-4AAC-91FA-65AF74C5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670-D406-4076-99F0-1DDD7A8D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349-D8B2-4DD8-AF85-21E5471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0A6-23E0-4514-B17B-FAD8AA0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532-6F2F-4161-AE38-FF4DC423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B3B-2203-407F-BCCE-434EB23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112-7BE7-4687-9307-2C0C962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4D1-23AB-4331-8C60-A94432A8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t155CokePepsiResults2007.xls" TargetMode="External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8.xls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-01-23.ppt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s of Prob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  ( 1 – P{opposite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   (glasses – footb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   (multiply conditional prob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 combination for re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a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ard ones in terms of easy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surprising disease testing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one more major concept at this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 not depend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,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B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 not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ce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 = 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 Toss a Coin, and somebody on South Pole doe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H(me) | T(SP)} = P{H(me)} =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way that can matter, 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 Toss a Coin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ss number indicated with subscri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&lt; 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have 5 Heads in a 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n’t it more likely to get a Tail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nna bet?!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2133720"/>
                <a:ext cx="289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?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H="1" flipV="1">
            <a:off x="3809880" y="2666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267080" y="2666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I Toss a Coin twic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amp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ll as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ndependence is good model for coin t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543800" y="762120"/>
                <a:ext cx="1060560" cy="23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4267080"/>
                <a:ext cx="70866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4952880" y="2133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l &amp; Ur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 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T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toss coin, and draw b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, so R &amp; H are independ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rue above, but works here, 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r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467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7631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6360" y="2666880"/>
                <a:ext cx="1544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604880" y="3468600"/>
                <a:ext cx="6091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14600" y="3962520"/>
                <a:ext cx="27385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H="1" flipV="1">
            <a:off x="3809520" y="2133360"/>
            <a:ext cx="350532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5200" y="2209680"/>
            <a:ext cx="91440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when  A  is independent of 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B  is independent of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90920" y="3505320"/>
                <a:ext cx="3429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38480" y="2209680"/>
                <a:ext cx="442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86200" y="4191120"/>
                <a:ext cx="426708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when  A  in independent of 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ollows that:   B  is independent of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independence”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 A  and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ormal treatments use symmetric version as defini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avoid hassles with 0 proba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Case of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A  and  B  indepen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&amp; B}  =  P{A | B} P{B}  =  P{B | A} P{A}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A}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When independent, just multiply probabil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:  Call this anoth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:    Only learn one, this is a special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find P{3 tosses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tosses ar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w this was reasonable last time,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 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3 tosses}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ave 3:   group with parenthes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24080" y="4952880"/>
                <a:ext cx="2819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66-271, 311-323, 277-2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91-305, 334-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find P{3 tosses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indep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“just multip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2819520"/>
                <a:ext cx="3581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495680" y="2209680"/>
                <a:ext cx="2908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581280" y="3505320"/>
                <a:ext cx="5181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81280" y="4343400"/>
                <a:ext cx="433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81280" y="5105520"/>
                <a:ext cx="3694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P{3 tosses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idea holds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rom now on will just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Independent, multiply 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 for Exclusive Or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just “add 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2163600"/>
                <a:ext cx="3505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29   (hint:  Calcu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amp;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these can be tricky to keep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ork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tually ex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work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special cas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ly exclusive      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A  and B  mutually exclu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0        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76920" y="266688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95288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C15    Suppose events A, B, C  all have probability 0.4,  A &amp; B are independent,  and A &amp; C are mutually exclu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or B}        (0.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or C}        (0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and B}        (0.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and C}      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, Section 4.3   (we are currently j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take probability to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probability structure of political poll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denoted as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quantity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on values at ran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math, since need all fractio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something to “get a hold o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 spirit to high school algeb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:  Tuesday, Feb.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Assignments  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Feb. 26,   8:30 – 12:00,  2:00 –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stead of Review 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8.5” x 11” sheet of paper with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Main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solving equa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jor break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nknown(s)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equation(s) with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quation(s) to find unknow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very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 study by simp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on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odel probabiliti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on discrete vs. continu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40    ((b) discrete,   (c) continuous,   (d) could be either, but discrete is more com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idea about “visualization” las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really lik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less enthusiasti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mode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thinkers” lov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’t connect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dn’t planned to continu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ere was another view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Marr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focus on something more intelligent in your "And now for something completely different" section once every two weeks, perhaps, instead of completely abolishing it?  I really enjoyed your discussion of how to view three dimensions in 2-D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s a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ata point is a digital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U. Carlos, III i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 to do here for confidentiality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 What distinguishes men from w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6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:  statistical problem of “classification”, i.e. “discrimin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“automatic disease diagnosi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easurm’ts on sick &amp; healthy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per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ke measm’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st to sick or healthy pop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Distance Weight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rron &amp; To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find “best separating direction” in high dimensional data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r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:  Male &amp;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new image:  classify make -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lass tast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d bias with 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blin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ed which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visualiz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through poin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separat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s “Femaleness” &amp; “Male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relation to “training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are about number that com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ion allows focusing on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keen to play?   (will calculat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X  takes on values   9,   -4    and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ould you want to play?, study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,    for X = “net winning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1/2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form:   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2133720" y="5105520"/>
          <a:ext cx="6476760" cy="1249200"/>
        </p:xfrm>
        <a:graphic>
          <a:graphicData uri="http://schemas.openxmlformats.org/drawingml/2006/table">
            <a:tbl>
              <a:tblPr/>
              <a:tblGrid>
                <a:gridCol w="1795320"/>
                <a:gridCol w="1560240"/>
                <a:gridCol w="1560600"/>
                <a:gridCol w="15606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     are between 0 a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get a prob. funct’n 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90720" y="5549760"/>
                <a:ext cx="1447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76520" y="5029200"/>
                <a:ext cx="304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distribution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is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ing tab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 O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6" name=""/>
          <p:cNvGraphicFramePr/>
          <p:nvPr/>
        </p:nvGraphicFramePr>
        <p:xfrm>
          <a:off x="3048120" y="243828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1/6+1/2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114800" y="251460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5257800" y="213372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352680" y="4495680"/>
                <a:ext cx="46483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41  &amp;  (c)   Find P{X = 3 | X &gt;= 2}    (3/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2    (0.144, …, 0.3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summarized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ball im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Perhaps no consensus preference between Pepsi and C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54% "significantly different from 50%?  (will develop methods to understand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of "marketing research"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Visual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410080" y="365760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33520" y="3881520"/>
          <a:ext cx="4724280" cy="27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81520"/>
                    <a:ext cx="47242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ilar to bar graphs (done bef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heights =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 Exampl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sider 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r continuous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abilities as are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“probability density curve”, 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babilities for continuous random variables, as areas under “probability density curve”,   f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rea(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culus n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038480"/>
                <a:ext cx="2666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895480" y="4952880"/>
                <a:ext cx="2057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 flipV="1">
            <a:off x="6324480" y="4114800"/>
            <a:ext cx="914400" cy="53352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60840" y="4046400"/>
            <a:ext cx="2735280" cy="339840"/>
          </a:xfrm>
          <a:custGeom>
            <a:avLst/>
            <a:gdLst/>
            <a:ahLst/>
            <a:rect l="l" t="t" r="r" b="b"/>
            <a:pathLst>
              <a:path w="1723" h="214">
                <a:moveTo>
                  <a:pt x="0" y="214"/>
                </a:moveTo>
                <a:cubicBezTo>
                  <a:pt x="56" y="205"/>
                  <a:pt x="234" y="189"/>
                  <a:pt x="341" y="160"/>
                </a:cubicBezTo>
                <a:cubicBezTo>
                  <a:pt x="448" y="131"/>
                  <a:pt x="552" y="57"/>
                  <a:pt x="640" y="43"/>
                </a:cubicBezTo>
                <a:cubicBezTo>
                  <a:pt x="728" y="29"/>
                  <a:pt x="779" y="64"/>
                  <a:pt x="869" y="75"/>
                </a:cubicBezTo>
                <a:cubicBezTo>
                  <a:pt x="959" y="86"/>
                  <a:pt x="1089" y="104"/>
                  <a:pt x="1179" y="107"/>
                </a:cubicBezTo>
                <a:cubicBezTo>
                  <a:pt x="1269" y="110"/>
                  <a:pt x="1317" y="109"/>
                  <a:pt x="1408" y="91"/>
                </a:cubicBezTo>
                <a:cubicBezTo>
                  <a:pt x="1499" y="73"/>
                  <a:pt x="1657" y="19"/>
                  <a:pt x="1723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648320"/>
            <a:ext cx="26668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3505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248520" y="48006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876920" y="5866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idea as “idealized distributions”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iscussion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8,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 Notes, Jan.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Uniform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cho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an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f(x)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“equally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oose C, want: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P{X in [0,1]}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ant C = 1.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4724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15000" y="44953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4864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4120" y="4724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53341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24480" y="4495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 Random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4    (0.73, 0, 0.73, 0.2,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6    (1, ½, 1/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raw at random from a norm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is the normal curve (studi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ome earlier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895480" y="1676520"/>
                <a:ext cx="120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Perhaps no consensus as to which is swe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different from the past, when Pepsi was noticeably 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have driven old Pepsi challenge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ke figured this out, and matched Pepsi in swee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286000" y="4267080"/>
                <a:ext cx="1600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ro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0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, 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CEL, use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bove:     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  =NORMDIST(1.3,1,0.5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0.73     (as in pic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7, 4.58  (0.965,   ~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ost people believe they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ous cola drinkers, because now flavor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ast, was sweetness driven, and there were many advertising caused mispercep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People tend to get it right or not???  (less cl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71% right.  Seems like it, but again is that significantly different from 50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Those who think they know tend to be righ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ho thought they knew:   right 71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Those who don't think they know seem to right as well.  Wonder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ho didn't:   also right 70% of time?   Why?   "Natural sampling variation"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difference between people who thought they knew, and those who did not think 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 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Coin toss was fair (or is 57% heads significantly different from %50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ccurate are those ideas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uild tools to asses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“hypo tests” and “P-val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t this example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2-19T04:36:17Z</dcterms:modified>
  <cp:revision>270</cp:revision>
  <dc:subject/>
  <dc:title>Slide 1</dc:title>
</cp:coreProperties>
</file>