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9AF-7952-4AAC-B9DB-8D1901DB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C44-2E9E-4DE3-A567-1FE930B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050-0BCC-4789-A0B3-41561AE6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BF1-27A9-48C7-9E9C-D2E33861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C54-C080-43E2-BA69-AA8C4A8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A3B-D1BD-44AC-9220-5488758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CDD-C285-4453-8188-8D52207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444-7E26-44D7-BFD9-C193B6B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63F-5C8A-4836-999A-997E6A4B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CF4-7446-4E14-BF59-F58843E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0C4-2AEF-44EB-AFFD-BA04598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C65-D6F7-4A0A-ABC7-5F331D8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FD4C-D864-4439-A5EC-239D547D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-01-23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airplane_landing_on_the_405.wmv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Home.html" TargetMode="External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Challe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re results “significant” vs. “random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Prob’s = Unconditional Prob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 (of prob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vs.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probability wi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entries to calculate prob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idea as “idealized distributions”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iscussion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8,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 Notes, Jan.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Uniform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cho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an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f(x)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“equally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oose C, want: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P{X in [0,1]}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ant C = 1.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724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44953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4864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34120" y="4724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3341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4495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 Random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4    (0.73, 0, 0.73, 0.2,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6    (1, ½, 1/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raw at random from a norm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is the normal curve (studi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ome earlier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1676520"/>
                <a:ext cx="120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86000" y="4267080"/>
                <a:ext cx="1600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ro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0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, 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CEL, use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bove:     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  =NORMDIST(1.3,1,0.5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0.73     (as in pic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7, 4.58  (0.965,   ~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77-286, 291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91-305, 334-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major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en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362320" y="1400040"/>
          <a:ext cx="678168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00040"/>
                    <a:ext cx="6781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V="1">
            <a:off x="2133720" y="6095880"/>
            <a:ext cx="35049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hotographer for a national magazine was assigned to get photos of a great forest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oke at the scene was too thick to get any good shots, so he frantically called his home office to hire a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"It will be waiting for you at the airport!" he was assured by his ed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 soon as he got to the small, rural airport, sure enough, a plane was warming up near the run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 jumped in with his equipment and yelled, "Let's go! Let's go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ilot swung the plane into the wind and soon they were in the a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"Fly over the north side of the fire," said the photographer, "and make three or four low level passes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"Why?" asked the pi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"Because I'm going to take pictures! I'm a photographer, and photographers take pictures!" said the photographer with great exas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ter a long pause the pilot said, "You mean you're not the instructor?“     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 and Var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random variables)         Text, Sec. 4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Abo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tended from populations to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:      frequentis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peated dra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334120" y="4305240"/>
                <a:ext cx="2514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Prob.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able summary of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on by random variable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ies:    P{X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  big difference between X  and x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3276720" y="22860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V="1">
            <a:off x="228600" y="2666880"/>
            <a:ext cx="3124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343400" y="27432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257800" y="335232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Prob.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summary of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ower of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any prob., by summing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3276720" y="2286000"/>
          <a:ext cx="5105160" cy="12333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 to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43000" y="4419720"/>
                <a:ext cx="7162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85800" y="2057400"/>
                <a:ext cx="33526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43000" y="5410080"/>
                <a:ext cx="4343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43000" y="3200400"/>
                <a:ext cx="7488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 to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334120" y="2209680"/>
                <a:ext cx="21333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5638680" y="342900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7467120" y="3048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30481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9400" y="4267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:  Tuesday, Feb.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Assignments  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Feb. 26,   8:30 – 12:00,  2:00 –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stead of Review 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8.5” x 11” sheet of paper with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bove Die Rolling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distribu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/3)(9) + (1/6)(0) +(1/2)(-4)  =  3 -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ver large number of plays) winnings per play = $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hap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4495680" y="213372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  mean is 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bove game “expect” $1 (per p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ution: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9,    4.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“fairness” of games (e.g. gamb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Caution:  Expected Valu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what is expected 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play, but instead is average ove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ay what happens in one or a few plays, only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ng ru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you owe mafia $5000, clean out safe at work.  If you give to mafia, you go to jail, so decide to try to raise additional $5000 by gamb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n make even bets, where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n really do this, e.g. bets 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roulette at a casi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 Practical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make one large b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omething in betw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Winnings)  =  P{lose} x $0 + P{win} x $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2 x $0 + 0.48 x $2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se $0.04 for every dollar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se $0.04 for every dollar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gambling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the casinos, been to Las Vega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xpected value works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s, you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ely 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ould make fewer, not more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get $10,0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$5000 bet                  0.48 ~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$2500 bets             ~ (0.4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1/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$1250 bets            ~ (0.4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1/1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”                      “no ch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(?)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to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big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f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st chance at w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Folk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lly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s walk in, place one huge be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or stud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based on HW, not text o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ed by modifying HW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W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looking over H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about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,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will play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only play o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don’t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ng 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V="1">
            <a:off x="762120" y="28191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38080" y="2895120"/>
            <a:ext cx="5181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ells t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about half of 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rest to ~ one (randomly chosen)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xpected Value is clearly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people play?      Totally irrat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 buy faint ho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mongous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wor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oy of think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urs in North Carol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and deep) philosophical bal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ly volu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tax burden bor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ly by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lose revenue to other sta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lose in long run (expected valu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people do it.  Are they nu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many times they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 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ahead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uld be worth price paid for the thr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societal challe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om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ly consu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ri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pays about 2 x Expect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Company keeps the 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very prof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e.g. car insurance is required by la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ble, since if lose, can lo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y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purchase is totally against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only play 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C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y many 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 works for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ar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ing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Fun Movi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05 Landing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roperties of the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mean “preserves linear transform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3505320"/>
                <a:ext cx="7543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b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809880" y="2133720"/>
                <a:ext cx="3353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05120" y="4343400"/>
                <a:ext cx="65530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roperties of the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harder, so won’t d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can add means to get mean of s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mean “preserves su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733920" y="2514600"/>
                <a:ext cx="3440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“double the stakes”, then 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2X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$1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ice the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37" name=""/>
          <p:cNvGraphicFramePr/>
          <p:nvPr/>
        </p:nvGraphicFramePr>
        <p:xfrm>
          <a:off x="4648320" y="16002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886200" y="3505320"/>
                <a:ext cx="3581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“play twice”, then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abo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n’t playing twice different from doubling 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ut not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43" name=""/>
          <p:cNvGraphicFramePr/>
          <p:nvPr/>
        </p:nvGraphicFramePr>
        <p:xfrm>
          <a:off x="4648320" y="144792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3276720"/>
                <a:ext cx="5875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osted Old Ex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effective:  read over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:  read test, think, then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.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:  Random Variables  X &amp; Y are independent when knowled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 of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hange ch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s of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.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71,   4.72    (Indep., Dep., D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                are independent draws from the same distribution, with mean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s more mathematics to make precise, but this is the main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2133720"/>
                <a:ext cx="1981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7120" y="2819520"/>
                <a:ext cx="444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19520" y="3733920"/>
                <a:ext cx="2666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r>
                          <m:rPr>
                            <m:lit/>
                            <m:nor/>
                          </m:rPr>
                          <m:t xml:space="preserve">}  cSub { size 8{n rightarrow  infinity } } </m:t>
                        </m:r>
                      </m:e>
                    </m:func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 flipH="1" flipV="1">
            <a:off x="457200" y="46479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" y="411480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Law of Lar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his is the foundation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view of 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ought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ased on many replications, so limit work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sider discrete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stribution is summarized by a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2438280" y="3429000"/>
          <a:ext cx="5105160" cy="12333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705720" y="25909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4920" y="2362320"/>
                <a:ext cx="556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371600" y="3429000"/>
                <a:ext cx="6386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71600" y="4800600"/>
                <a:ext cx="6934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371600" y="4294080"/>
                <a:ext cx="6477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705720" y="28195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33520" y="2286000"/>
                <a:ext cx="548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371600" y="3352680"/>
                <a:ext cx="7010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371600" y="5257800"/>
                <a:ext cx="2743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90920" y="3171960"/>
                <a:ext cx="38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 flipH="1" flipV="1">
            <a:off x="3200400" y="40381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952880" y="40381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1/2)*5^2+(1/6)*1^2+(1/3)*8^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able Excel form,             e.g. for exam (but there are m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01" name=""/>
          <p:cNvGraphicFramePr/>
          <p:nvPr/>
        </p:nvGraphicFramePr>
        <p:xfrm>
          <a:off x="4648320" y="16002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09480" y="29718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924680" y="3429000"/>
                <a:ext cx="611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H="1">
            <a:off x="4800600" y="3733920"/>
            <a:ext cx="3124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89548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45716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800600" y="3581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about Old Ex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lightly les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covere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 different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op date used to be earl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something we haven’t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by emai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tandard deviation is square root of variance (same units as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sqrt((1/2)*5^2+(1/6)*1^2+(1/3)*8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12" name=""/>
          <p:cNvGraphicFramePr/>
          <p:nvPr/>
        </p:nvGraphicFramePr>
        <p:xfrm>
          <a:off x="4724280" y="380988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6:    Find the variance and standard deviation of the distribution in 4.59.       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굴림"/>
              </a:rPr>
              <a:t>1.21, 1.1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ignore shifts”  var(            ) = var 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cales come through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.d. on scale of data, var is squ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238880" y="2514600"/>
                <a:ext cx="77328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34120" y="1676520"/>
                <a:ext cx="2971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7704000" y="3019320"/>
            <a:ext cx="897120" cy="25884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048120"/>
            <a:ext cx="896760" cy="25848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3276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01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and 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import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 Variance of sum is sum of var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more natural”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19520" y="2514600"/>
                <a:ext cx="3809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71800" y="5638680"/>
                <a:ext cx="3809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“double the stakes”, g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“play twice”, but see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wic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playing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uces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dea, will do more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38" name=""/>
          <p:cNvGraphicFramePr/>
          <p:nvPr/>
        </p:nvGraphicFramePr>
        <p:xfrm>
          <a:off x="4724280" y="13716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3809880"/>
                <a:ext cx="1636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334120" y="4495680"/>
                <a:ext cx="35049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7:  Suppose that the random variable X models winter daily maximum temperatures, and that X has mean 5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 and standard deviation 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)  Let Y be the temp. in degrees Fahrenheit  What is the mean of X?  (4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nt:  Recall the conversion:   C=(5/9)(F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about Old Ex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last word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knew everything on the practice exa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exam only about “method” of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ative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ent exam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sider 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r continuous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abilities as are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“probability density curve”, 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babilities for continuous random variables, as areas under “probability density curve”,   f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rea(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culus n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14400" y="4038480"/>
                <a:ext cx="2666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95480" y="4952880"/>
                <a:ext cx="2057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6324480" y="4114800"/>
            <a:ext cx="914400" cy="53352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60840" y="4046400"/>
            <a:ext cx="2735280" cy="339840"/>
          </a:xfrm>
          <a:custGeom>
            <a:avLst/>
            <a:gdLst/>
            <a:ahLst/>
            <a:rect l="l" t="t" r="r" b="b"/>
            <a:pathLst>
              <a:path w="1723" h="214">
                <a:moveTo>
                  <a:pt x="0" y="214"/>
                </a:moveTo>
                <a:cubicBezTo>
                  <a:pt x="56" y="205"/>
                  <a:pt x="234" y="189"/>
                  <a:pt x="341" y="160"/>
                </a:cubicBezTo>
                <a:cubicBezTo>
                  <a:pt x="448" y="131"/>
                  <a:pt x="552" y="57"/>
                  <a:pt x="640" y="43"/>
                </a:cubicBezTo>
                <a:cubicBezTo>
                  <a:pt x="728" y="29"/>
                  <a:pt x="779" y="64"/>
                  <a:pt x="869" y="75"/>
                </a:cubicBezTo>
                <a:cubicBezTo>
                  <a:pt x="959" y="86"/>
                  <a:pt x="1089" y="104"/>
                  <a:pt x="1179" y="107"/>
                </a:cubicBezTo>
                <a:cubicBezTo>
                  <a:pt x="1269" y="110"/>
                  <a:pt x="1317" y="109"/>
                  <a:pt x="1408" y="91"/>
                </a:cubicBezTo>
                <a:cubicBezTo>
                  <a:pt x="1499" y="73"/>
                  <a:pt x="1657" y="19"/>
                  <a:pt x="1723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648320"/>
            <a:ext cx="26668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505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48006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2388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876920" y="5866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2-22T02:48:05Z</dcterms:modified>
  <cp:revision>286</cp:revision>
  <dc:subject/>
  <dc:title>Slide 1</dc:title>
</cp:coreProperties>
</file>