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9DD-49CE-43FA-B31A-E4D949B7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5D4-3A94-464D-9257-39C7F122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81D-38C2-4543-A745-14D943D7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2D4-06B6-4AB3-8EAD-5D7E5CDF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F4E-11BB-487D-9299-0C0F1507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37B-7A88-4F25-87C2-66C43AC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3A2-43FB-46B4-9645-ABA879E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0FE-D729-4621-BD03-36FBCA17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063-15DE-40DB-B463-AA7AA72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529-7670-4E1D-A4EC-4CA4095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7F7-E160-4323-AA2C-DE27849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791-7D75-4556-B21F-152A7CE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DC4B-B727-4C61-95EF-AD4E0C358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9.xl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9.xls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0.xls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0.xls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0.xls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7.xls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7.xls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7.xls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jstor.org/view/00031305/di020595/02p0003c/9?frame=noframe&amp;userID=9802e672@unc.edu/01cce4405a00501ba35f9&amp;dpi=3&amp;pageJump=1&amp;config=jstor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ies modeled with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in Excel: NORMDIST &amp; NORMIN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, i.e. Expect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“average over many play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sider discrete 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stribution is summarized by a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2438280" y="3429000"/>
          <a:ext cx="5105160" cy="12333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nect via frequentis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705720" y="259092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4920" y="2362320"/>
                <a:ext cx="556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1600" y="3429000"/>
                <a:ext cx="6386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28800" y="4800600"/>
                <a:ext cx="6018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nect via frequentis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4294080"/>
                <a:ext cx="6477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705720" y="281952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520" y="2286000"/>
                <a:ext cx="5486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71600" y="3352680"/>
                <a:ext cx="7010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371600" y="5257800"/>
                <a:ext cx="2743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90920" y="3171960"/>
                <a:ext cx="3809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H="1" flipV="1">
            <a:off x="3200400" y="403812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952880" y="403812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1/2)*5^2+(1/6)*1^2+(1/3)*8^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ptable Excel form,             e.g. for exam (but there are m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09480" y="2971800"/>
                <a:ext cx="5943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924680" y="3429000"/>
                <a:ext cx="611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H="1">
            <a:off x="4800600" y="3733920"/>
            <a:ext cx="3124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89548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57164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00600" y="3581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419720" y="1523880"/>
          <a:ext cx="3657600" cy="1067040"/>
        </p:xfrm>
        <a:graphic>
          <a:graphicData uri="http://schemas.openxmlformats.org/drawingml/2006/table">
            <a:tbl>
              <a:tblPr/>
              <a:tblGrid>
                <a:gridCol w="1555920"/>
                <a:gridCol w="702360"/>
                <a:gridCol w="698400"/>
                <a:gridCol w="700920"/>
              </a:tblGrid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tandard deviation is square root of variance (same units as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sqrt((1/2)*5^2+(1/6)*1^2+(1/3)*8^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4419720" y="3505320"/>
          <a:ext cx="3657600" cy="1066680"/>
        </p:xfrm>
        <a:graphic>
          <a:graphicData uri="http://schemas.openxmlformats.org/drawingml/2006/table">
            <a:tbl>
              <a:tblPr/>
              <a:tblGrid>
                <a:gridCol w="1555920"/>
                <a:gridCol w="702360"/>
                <a:gridCol w="698400"/>
                <a:gridCol w="700920"/>
              </a:tblGrid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6:    Find the variance and standard deviation of the distribution in 4.59.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굴림"/>
              </a:rPr>
              <a:t>(0.752, 0.86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ignore shifts”  var(            ) = var (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s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cales come through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.d. on scale of data, var is squ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238880" y="2514600"/>
                <a:ext cx="77328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334120" y="1676520"/>
                <a:ext cx="2971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7704000" y="3019320"/>
            <a:ext cx="897120" cy="258840"/>
          </a:xfrm>
          <a:custGeom>
            <a:avLst/>
            <a:gdLst/>
            <a:ahLst/>
            <a:rect l="l" t="t" r="r" b="b"/>
            <a:pathLst>
              <a:path w="565" h="163">
                <a:moveTo>
                  <a:pt x="565" y="157"/>
                </a:moveTo>
                <a:cubicBezTo>
                  <a:pt x="518" y="143"/>
                  <a:pt x="490" y="114"/>
                  <a:pt x="451" y="87"/>
                </a:cubicBezTo>
                <a:cubicBezTo>
                  <a:pt x="423" y="47"/>
                  <a:pt x="357" y="7"/>
                  <a:pt x="309" y="0"/>
                </a:cubicBezTo>
                <a:cubicBezTo>
                  <a:pt x="249" y="4"/>
                  <a:pt x="193" y="10"/>
                  <a:pt x="135" y="27"/>
                </a:cubicBezTo>
                <a:cubicBezTo>
                  <a:pt x="119" y="38"/>
                  <a:pt x="105" y="42"/>
                  <a:pt x="86" y="49"/>
                </a:cubicBezTo>
                <a:cubicBezTo>
                  <a:pt x="49" y="86"/>
                  <a:pt x="85" y="45"/>
                  <a:pt x="65" y="81"/>
                </a:cubicBezTo>
                <a:cubicBezTo>
                  <a:pt x="59" y="93"/>
                  <a:pt x="43" y="114"/>
                  <a:pt x="43" y="114"/>
                </a:cubicBezTo>
                <a:cubicBezTo>
                  <a:pt x="36" y="136"/>
                  <a:pt x="26" y="139"/>
                  <a:pt x="5" y="147"/>
                </a:cubicBezTo>
                <a:cubicBezTo>
                  <a:pt x="3" y="152"/>
                  <a:pt x="0" y="163"/>
                  <a:pt x="0" y="163"/>
                </a:cubicBezTo>
                <a:lnTo>
                  <a:pt x="565" y="1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048120"/>
            <a:ext cx="896760" cy="258480"/>
          </a:xfrm>
          <a:custGeom>
            <a:avLst/>
            <a:gdLst/>
            <a:ahLst/>
            <a:rect l="l" t="t" r="r" b="b"/>
            <a:pathLst>
              <a:path w="565" h="163">
                <a:moveTo>
                  <a:pt x="565" y="157"/>
                </a:moveTo>
                <a:cubicBezTo>
                  <a:pt x="518" y="143"/>
                  <a:pt x="490" y="114"/>
                  <a:pt x="451" y="87"/>
                </a:cubicBezTo>
                <a:cubicBezTo>
                  <a:pt x="423" y="47"/>
                  <a:pt x="357" y="7"/>
                  <a:pt x="309" y="0"/>
                </a:cubicBezTo>
                <a:cubicBezTo>
                  <a:pt x="249" y="4"/>
                  <a:pt x="193" y="10"/>
                  <a:pt x="135" y="27"/>
                </a:cubicBezTo>
                <a:cubicBezTo>
                  <a:pt x="119" y="38"/>
                  <a:pt x="105" y="42"/>
                  <a:pt x="86" y="49"/>
                </a:cubicBezTo>
                <a:cubicBezTo>
                  <a:pt x="49" y="86"/>
                  <a:pt x="85" y="45"/>
                  <a:pt x="65" y="81"/>
                </a:cubicBezTo>
                <a:cubicBezTo>
                  <a:pt x="59" y="93"/>
                  <a:pt x="43" y="114"/>
                  <a:pt x="43" y="114"/>
                </a:cubicBezTo>
                <a:cubicBezTo>
                  <a:pt x="36" y="136"/>
                  <a:pt x="26" y="139"/>
                  <a:pt x="5" y="147"/>
                </a:cubicBezTo>
                <a:cubicBezTo>
                  <a:pt x="3" y="152"/>
                  <a:pt x="0" y="163"/>
                  <a:pt x="0" y="163"/>
                </a:cubicBezTo>
                <a:lnTo>
                  <a:pt x="565" y="1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3276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and 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importa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 Variance of sum is sum of var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more natural”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19520" y="2514600"/>
                <a:ext cx="38098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43160" y="5638680"/>
                <a:ext cx="34671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“double the stakes”, g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“play twice”, but see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wic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playing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uces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dea, will do more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66880" y="3809880"/>
                <a:ext cx="1636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334120" y="4495680"/>
                <a:ext cx="35049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4572000" y="1371600"/>
          <a:ext cx="3657600" cy="1066680"/>
        </p:xfrm>
        <a:graphic>
          <a:graphicData uri="http://schemas.openxmlformats.org/drawingml/2006/table">
            <a:tbl>
              <a:tblPr/>
              <a:tblGrid>
                <a:gridCol w="1555920"/>
                <a:gridCol w="702360"/>
                <a:gridCol w="698400"/>
                <a:gridCol w="700920"/>
              </a:tblGrid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77-286, 291-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91-305, 334-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7:  Suppose that the random variable X models winter daily maximum temperatures, and that X has mean 5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 and standard deviation 10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.  Let Y be the temp. in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)  What is the mean of Y?  (4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nt:  Recall the conversion:   C=(5/9)(F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7: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b)  What is the standard deviation of Y?  (1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major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en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362320" y="1400040"/>
          <a:ext cx="678168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00040"/>
                    <a:ext cx="67816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 flipV="1">
            <a:off x="1143000" y="5715000"/>
            <a:ext cx="57150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ldn’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k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3643" t="22777" r="5464" b="10513"/>
          <a:stretch/>
        </p:blipFill>
        <p:spPr>
          <a:xfrm>
            <a:off x="1981080" y="1523880"/>
            <a:ext cx="67485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teresting and Relevant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s Ra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nkings Published by Sever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’ve been #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we great ot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ll take a careful loo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Extend probability tools to distributions we care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in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s in 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:   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ameters, like          for Normal dis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00600" y="5715000"/>
                <a:ext cx="990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∧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2895480" y="5638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638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629400" y="540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629400" y="540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much more than political po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oin to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aw “independence” was 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hooting free throws (in 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 p  always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independent?   (turns out to be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on Binomial 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,   5.2   (a. no, n?, b. yes, c. y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work out a formula for Binomial Prob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results are summarized in Exce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9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d numbers are points taken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or each problem in br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evenly divided among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total in lower right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ose sum to total on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core out of 1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4600" y="2895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90920" y="3505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3733560"/>
            <a:ext cx="1904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=x}: 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&lt;=x}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90920" y="3809880"/>
            <a:ext cx="1981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9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is spreadsheet for details of other parts, and some important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lides on BINOMDI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llustrate things like P{X &lt; 3}  =  P{X &lt;= 2}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number line, and filled in do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4    (0.1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work, using the Binomial Distribution:  4.52c,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” of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a bar graph, where heights are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:  connected to previous histogram by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requentist 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via histogram of repeated samp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istribution Shapes using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 different p,  note several ranges of p are sh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:  different n,  note really “live in different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probability histogram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lumn of xs (e.g. B9:B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Probs (using BINOMDIST, C9:J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with Chart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Chart &amp; Chart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steps, check “series” care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ome calculation, can show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:                                 (# trials x P{S}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D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to (center &amp; spread) of each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3048120"/>
                <a:ext cx="2895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666880" y="3657600"/>
                <a:ext cx="4800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657600" y="4419720"/>
                <a:ext cx="2801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3962520" y="3505320"/>
            <a:ext cx="7617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4191120"/>
            <a:ext cx="22096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4952880"/>
            <a:ext cx="18288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on Mean and Vari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early for letter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ill change a 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th good grades will rel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ith bad grades will w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’t belie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 &amp; C” average to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Class HW on %Males at UN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7.x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e Theoretical Means in E115:H1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 Sample Means in E110:H1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:  Sample Mean smaller – course not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:  Sample Mean bigger – bias towar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:  Sample Mean bigger – bias towar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4:  Sample Mean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ifferences are “significa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Class HW on %Males at UN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7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oretical SDs in E116:H115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 Sample SDs in E112:H11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:  Sample SDs smaller – course population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:  Sample SDs bigger – variety of doors (different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:  Sample SDs bigger – variety of choices (diff. 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4:  Sample SDs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ifferences are “significa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Class HW on %Males at UN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7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Histograms  (se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of plot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view of above ideas (for sampl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:  mean too small, not enough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:  mean too big, too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:  mean too big, too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4:  looks “about right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teresting and Relevant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s Ra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nkings Published by Sever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’ve been #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we great ot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ll take a careful look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ing Arti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sis of Data from the Places Rated Alman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:   Richard A. Becker; Lorraine Denby; Robert McGill; Allan R. Wil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blished in: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 American Statistici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Vol. 41, No. 3. (Aug., 1987), pp. 169-18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yperlink to J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data base used in ra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carefu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an unbiase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d several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teresting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“be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“be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base had 8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should we weight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cho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st choose s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ypical appro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we make our city “be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“be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der all possible ra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.e. all sets of we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laces can be #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laces can be “wor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laces can be #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34 cities are “b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luding Raleigh Durham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laces can be “wor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n longer lis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t Raleigh Durham no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ea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1219320"/>
          <a:ext cx="5554440" cy="54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219320"/>
                    <a:ext cx="555444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laces can be #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laces can be “worst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ing f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ral cities on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l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very skeptical of such ra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: what happens if weight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nk:  what motivates the r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derstand how other people can have different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Just different “personal weight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 – 100  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 – 100  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 – 84         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Sc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 – 100        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 – 84         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– 64            Recommend Drop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not, let’s talk personall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-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I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00400" y="1447920"/>
          <a:ext cx="5638680" cy="46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447920"/>
                    <a:ext cx="563868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3-23T02:12:53Z</dcterms:modified>
  <cp:revision>314</cp:revision>
  <dc:subject/>
  <dc:title>Slide 1</dc:title>
</cp:coreProperties>
</file>