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AF6E-3B52-4847-802A-AD013E097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BAE2-5940-4A97-8895-CB26363D6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23BE-BBED-49C5-A7BD-5E9501361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C274-4E57-4B3D-BB8F-D62D3C313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8DFA-D0D0-443F-92CA-4A4005B50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C01A-59C6-4126-A83B-3EDC88AF8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8069-2225-4966-BEA0-6876FD414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CEF0-9BB2-4E1D-8C08-1C033E46A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BE0F-C17D-48A6-870F-4C8E5183B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2C51-C311-452E-A42E-259E69FE6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EF1C-1F27-4602-97F3-629F79729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78D5-0E71-4678-8860-DC6C8BBDA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A8F8C-D4EE-4DA9-B6F5-0722C3053B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stat-or.unc.edu/webspace/postscript/marron/Teaching/stor155-2007/Stor155Eg22.xls" TargetMode="External"/><Relationship Id="rId2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8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stat-or.unc.edu/webspace/postscript/marron/Teaching/stor155-2007/Stor155Eg22.xls" TargetMode="External"/><Relationship Id="rId2" Type="http://schemas.openxmlformats.org/officeDocument/2006/relationships/slideLayout" Target="../slideLayouts/slideLayout8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bcs.whfreeman.com/ips5e/" TargetMode="External"/><Relationship Id="rId2" Type="http://schemas.openxmlformats.org/officeDocument/2006/relationships/slideLayout" Target="../slideLayouts/slideLayout8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stat-or.unc.edu/webspace/postscript/marron/Teaching/stor155-2007/Stor155Eg17.xls" TargetMode="External"/><Relationship Id="rId2" Type="http://schemas.openxmlformats.org/officeDocument/2006/relationships/hyperlink" Target="http://stat-or.unc.edu/webspace/postscript/marron/Teaching/stor155-2007/Stor155Eg23.xls" TargetMode="External"/><Relationship Id="rId3" Type="http://schemas.openxmlformats.org/officeDocument/2006/relationships/slideLayout" Target="../slideLayouts/slideLayout8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stat-or.unc.edu/webspace/postscript/marron/Teaching/stor155-2007/Stor155Eg23.xls" TargetMode="External"/><Relationship Id="rId2" Type="http://schemas.openxmlformats.org/officeDocument/2006/relationships/slideLayout" Target="../slideLayouts/slideLayout8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ebaumsworld.com/2006/07/robotdance.html" TargetMode="External"/><Relationship Id="rId2" Type="http://schemas.openxmlformats.org/officeDocument/2006/relationships/slideLayout" Target="../slideLayouts/slideLayout8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8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hyperlink" Target="http://stat-or.unc.edu/webspace/postscript/marron/Teaching/stor155-2007/Stor155Eg24.xls" TargetMode="External"/><Relationship Id="rId2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 155,  Section 2, Last T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nomial Distrib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rmal Approxi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inuity Corr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rtions (different scale from “counts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ion of Sample Me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w of Averages, Part 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rmal Data  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Normal M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w of Averages, Part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ything (averaged)   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Nor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dence Interv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ice of margin of error,    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ac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ose 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onfidenc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ten 0.9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e.g. FDA likes this number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ving new drugs, and i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a common standard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lication in many field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take margin of error to include tha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art of sampling distrib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5334120" y="1371600"/>
                <a:ext cx="484200" cy="3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dence Interv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 For confidence level  0.95,  w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0.95 = Ar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margin of err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4191120" y="5638680"/>
                <a:ext cx="380880" cy="3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84" name="" descr=""/>
          <p:cNvPicPr/>
          <p:nvPr/>
        </p:nvPicPr>
        <p:blipFill>
          <a:blip r:embed="rId1"/>
          <a:srcRect l="43263" t="19428" r="43263" b="65140"/>
          <a:stretch/>
        </p:blipFill>
        <p:spPr>
          <a:xfrm>
            <a:off x="685800" y="2286000"/>
            <a:ext cx="3308400" cy="24652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4572000" y="2819520"/>
                <a:ext cx="42228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2209680" y="5867280"/>
                <a:ext cx="36216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7" name=""/>
          <p:cNvSpPr/>
          <p:nvPr/>
        </p:nvSpPr>
        <p:spPr>
          <a:xfrm>
            <a:off x="2362320" y="2438280"/>
            <a:ext cx="0" cy="3353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2666880" y="3733920"/>
            <a:ext cx="190512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2819520" y="3048120"/>
            <a:ext cx="16761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rot="16200000">
            <a:off x="2666880" y="4419000"/>
            <a:ext cx="304920" cy="914400"/>
          </a:xfrm>
          <a:custGeom>
            <a:avLst/>
            <a:gdLst>
              <a:gd name="textAreaLeft" fmla="*/ 194760 w 304920"/>
              <a:gd name="textAreaRight" fmla="*/ 305280 w 30492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rot="16200000">
            <a:off x="1752480" y="4419000"/>
            <a:ext cx="304920" cy="914400"/>
          </a:xfrm>
          <a:custGeom>
            <a:avLst/>
            <a:gdLst>
              <a:gd name="textAreaLeft" fmla="*/ 194760 w 304920"/>
              <a:gd name="textAreaRight" fmla="*/ 305280 w 30492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3047760" y="5791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 flipV="1">
            <a:off x="2819160" y="502884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904760" y="50288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dence Interv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ation:    Recall NORMINV takes areas (probs), and return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utoff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sue:  NORMINV works with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ower ar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: lower 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clu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42517" t="20571" r="42517" b="62854"/>
          <a:stretch/>
        </p:blipFill>
        <p:spPr>
          <a:xfrm>
            <a:off x="4724280" y="3657600"/>
            <a:ext cx="3665520" cy="2637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 flipH="1">
            <a:off x="6858000" y="3276720"/>
            <a:ext cx="1295280" cy="19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2209680" y="5028840"/>
            <a:ext cx="25146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724280" y="502920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dence Interv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adapt needed probs to lower areas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inner area = 0.95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ght tail = 0.0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Shaded Area = 0.97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need to compu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4419720" y="5326200"/>
                <a:ext cx="4267080" cy="99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ORMINV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75</m:t>
                        </m:r>
                        <m:r>
                          <m:t xml:space="preserve">,</m:t>
                        </m:r>
                        <m:r>
                          <m:t xml:space="preserve">μ</m:t>
                        </m:r>
                        <m:r>
                          <m:t xml:space="preserve">,</m:t>
                        </m:r>
                        <m:f>
                          <m:num>
                            <m:r>
                              <m:t xml:space="preserve">σ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104" name="" descr=""/>
          <p:cNvPicPr/>
          <p:nvPr/>
        </p:nvPicPr>
        <p:blipFill>
          <a:blip r:embed="rId1"/>
          <a:srcRect l="42517" t="20571" r="42517" b="62854"/>
          <a:stretch/>
        </p:blipFill>
        <p:spPr>
          <a:xfrm>
            <a:off x="4816440" y="2286000"/>
            <a:ext cx="3665520" cy="2637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5791320" y="342900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57600" y="3048120"/>
            <a:ext cx="198108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7586640" y="33523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52880" y="2362320"/>
            <a:ext cx="12193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5791320" y="2743200"/>
            <a:ext cx="38088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172200" y="2743200"/>
            <a:ext cx="13716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dence Interv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o compu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problem:         is unkn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should answer depend on     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uracy” is only abou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p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ot center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another view of th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962520" y="1981080"/>
                <a:ext cx="4114800" cy="97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ORMINV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75</m:t>
                        </m:r>
                        <m:r>
                          <m:t xml:space="preserve">,</m:t>
                        </m:r>
                        <m:r>
                          <m:t xml:space="preserve">μ</m:t>
                        </m:r>
                        <m:r>
                          <m:t xml:space="preserve">,</m:t>
                        </m:r>
                        <m:f>
                          <m:num>
                            <m:r>
                              <m:t xml:space="preserve">σ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3581280" y="3352680"/>
                <a:ext cx="457200" cy="44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6934320" y="4038480"/>
                <a:ext cx="3632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dence Interv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ach to unknown   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ecen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i.e. look at              dist’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 concep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entered at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can calculate 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3581280" y="5562720"/>
                <a:ext cx="4678560" cy="97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ORMINV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75</m:t>
                        </m:r>
                        <m:r>
                          <m:t xml:space="preserve">,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f>
                          <m:num>
                            <m:r>
                              <m:t xml:space="preserve">σ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4572000" y="1447920"/>
                <a:ext cx="45720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4495680" y="1981080"/>
                <a:ext cx="1166760" cy="55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−</m:t>
                    </m:r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21" name="" descr=""/>
          <p:cNvPicPr/>
          <p:nvPr/>
        </p:nvPicPr>
        <p:blipFill>
          <a:blip r:embed="rId1"/>
          <a:srcRect l="42517" t="20571" r="42517" b="62854"/>
          <a:stretch/>
        </p:blipFill>
        <p:spPr>
          <a:xfrm>
            <a:off x="4876920" y="2514600"/>
            <a:ext cx="3665520" cy="26370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6934320" y="2286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7238520" y="2286000"/>
            <a:ext cx="76212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124080" y="4191120"/>
            <a:ext cx="4114800" cy="167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dence Interv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ation of: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ller Problem:   Don’t know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ach 1:    Estimate w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ds to com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 study l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ach 2:    Sometimes k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962520" y="1219320"/>
                <a:ext cx="4678200" cy="97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ORMINV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75</m:t>
                        </m:r>
                        <m:r>
                          <m:t xml:space="preserve">,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f>
                          <m:num>
                            <m:r>
                              <m:t xml:space="preserve">σ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6248520" y="2286000"/>
                <a:ext cx="457200" cy="3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6477120" y="5257800"/>
                <a:ext cx="36324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5867280" y="3048120"/>
                <a:ext cx="271440" cy="32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dence Interv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 Crop researchers plant 15 plots with a new variety of corn.  The yields, in bushels per acre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ume that       = 10 bushels / ac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7010280" y="1447920"/>
          <a:ext cx="1447920" cy="5024160"/>
        </p:xfrm>
        <a:graphic>
          <a:graphicData uri="http://schemas.openxmlformats.org/drawingml/2006/table">
            <a:tbl>
              <a:tblPr/>
              <a:tblGrid>
                <a:gridCol w="1447920"/>
              </a:tblGrid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9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0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8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4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7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0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0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5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3048120" y="4572000"/>
                <a:ext cx="4381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dence Interv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 Fi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90% Confidence Interval for the mean value     , for this type of cor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95% Confidence Interv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99% Confidence Interv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the CIs change as the confidence level incre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tion,  part 1 o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stat-or.unc.edu/webspace/postscript/marron/Teaching/stor155-2007/Stor155Eg22.x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3581280" y="2438280"/>
                <a:ext cx="4921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dence Interv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EXCEL shortcu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FID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areful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parameter      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2 tailed outer ar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for level = 0.90,         = 0.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4495680" y="3048120"/>
                <a:ext cx="45720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4419720" y="5943600"/>
                <a:ext cx="36324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42" name="" descr=""/>
          <p:cNvPicPr/>
          <p:nvPr/>
        </p:nvPicPr>
        <p:blipFill>
          <a:blip r:embed="rId1"/>
          <a:srcRect l="43263" t="19428" r="43263" b="65140"/>
          <a:stretch/>
        </p:blipFill>
        <p:spPr>
          <a:xfrm>
            <a:off x="5334120" y="3048120"/>
            <a:ext cx="3308400" cy="24652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 flipV="1">
            <a:off x="6095880" y="4190760"/>
            <a:ext cx="0" cy="1447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7924680" y="4190760"/>
            <a:ext cx="0" cy="1447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4572000" y="3505320"/>
            <a:ext cx="19810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5943240" y="3505320"/>
            <a:ext cx="609480" cy="1904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3505320"/>
            <a:ext cx="1524240" cy="1904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ding In Textb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ximate Reading for Today’s Materi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ges 382-396,  400-4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ximate Reading for Next Cla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ges 425-428,  431-43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dence Interv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HW:   6.5,  6.9,  6.13,  6.15,  6.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ice of Sample Siz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tional use of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argin of err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d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kground:             distrib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ll n                              Larg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rcRect l="28070" t="37674" r="29857" b="39558"/>
          <a:stretch/>
        </p:blipFill>
        <p:spPr>
          <a:xfrm>
            <a:off x="838080" y="4191120"/>
            <a:ext cx="3048120" cy="1652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3581280" y="2286000"/>
                <a:ext cx="53352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pic>
        <p:nvPicPr>
          <p:cNvPr id="154" name="" descr=""/>
          <p:cNvPicPr/>
          <p:nvPr/>
        </p:nvPicPr>
        <p:blipFill>
          <a:blip r:embed="rId2"/>
          <a:srcRect l="28070" t="37674" r="23885" b="37674"/>
          <a:stretch/>
        </p:blipFill>
        <p:spPr>
          <a:xfrm>
            <a:off x="5638680" y="4191120"/>
            <a:ext cx="3308400" cy="17938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4343400" y="3930480"/>
                <a:ext cx="914400" cy="85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n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56" name=""/>
          <p:cNvSpPr/>
          <p:nvPr/>
        </p:nvSpPr>
        <p:spPr>
          <a:xfrm>
            <a:off x="1295280" y="5486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2742840" y="5486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477120" y="4952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7162920" y="4952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3429000" y="4419720"/>
            <a:ext cx="83808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334120" y="4191120"/>
            <a:ext cx="114300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ice of Sample Siz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ld choose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to make     = desired va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S. D. is not very interpretable, so make “margin of error”,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desired va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 get:    “      is within  m  units of      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5% of the tim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5181480" y="1523880"/>
                <a:ext cx="525600" cy="77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σ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2819520" y="4800600"/>
                <a:ext cx="45720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7315200" y="4876920"/>
                <a:ext cx="423720" cy="47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ice of Sample Siz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 how do we find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ve for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(the equation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762120" y="2895480"/>
                <a:ext cx="7719840" cy="122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5</m:t>
                    </m:r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t xml:space="preserve">−</m:t>
                            </m:r>
                            <m:r>
                              <m:t xml:space="preserve">μ</m:t>
                            </m:r>
                          </m:e>
                        </m:d>
                        <m:r>
                          <m:t xml:space="preserve">≤</m:t>
                        </m:r>
                        <m:r>
                          <m:t xml:space="preserve">m</m:t>
                        </m:r>
                      </m:e>
                    </m:d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f>
                              <m:num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  <m:r>
                                  <m:t xml:space="preserve">−</m:t>
                                </m:r>
                                <m:r>
                                  <m:t xml:space="preserve">μ</m:t>
                                </m:r>
                              </m:num>
                              <m:den>
                                <m:r>
                                  <m:t xml:space="preserve">σ</m:t>
                                </m:r>
                                <m:r>
                                  <m:t xml:space="preserve">/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n</m:t>
                                    </m:r>
                                  </m:e>
                                </m:rad>
                              </m:den>
                            </m:f>
                          </m:e>
                        </m:d>
                        <m:r>
                          <m:t xml:space="preserve">≤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σ</m:t>
                            </m:r>
                            <m:r>
                              <m:t xml:space="preserve">/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1676520" y="4191120"/>
                <a:ext cx="3181320" cy="12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Z</m:t>
                            </m:r>
                          </m:e>
                        </m:d>
                        <m:r>
                          <m:t xml:space="preserve">≤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σ</m:t>
                            </m:r>
                            <m:r>
                              <m:t xml:space="preserve">/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ice of Sample Siz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phically, find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so th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Area = 0.95                       Area = 0.97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7238880" y="5562720"/>
                <a:ext cx="104940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σ</m:t>
                        </m:r>
                        <m:r>
                          <m:t xml:space="preserve">/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3581280" y="5638680"/>
                <a:ext cx="1051200" cy="100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σ</m:t>
                        </m:r>
                        <m:r>
                          <m:t xml:space="preserve">/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75" name="" descr=""/>
          <p:cNvPicPr/>
          <p:nvPr/>
        </p:nvPicPr>
        <p:blipFill>
          <a:blip r:embed="rId1"/>
          <a:srcRect l="31847" t="33907" r="33837" b="37674"/>
          <a:stretch/>
        </p:blipFill>
        <p:spPr>
          <a:xfrm>
            <a:off x="1676520" y="3352680"/>
            <a:ext cx="2361960" cy="206856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rcRect l="31847" t="33907" r="33837" b="37674"/>
          <a:stretch/>
        </p:blipFill>
        <p:spPr>
          <a:xfrm>
            <a:off x="5334120" y="3352680"/>
            <a:ext cx="2367000" cy="207324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1219320" y="2514600"/>
            <a:ext cx="137160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943600" y="2590920"/>
            <a:ext cx="304920" cy="19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505320" y="4648320"/>
            <a:ext cx="0" cy="1447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162920" y="46483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ice of Sample Siz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us solv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3200400" y="4648320"/>
                <a:ext cx="4724280" cy="101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σ</m:t>
                                </m:r>
                              </m:num>
                              <m:den>
                                <m:r>
                                  <m:t xml:space="preserve">m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NORMINV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975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0,1</m:t>
                                </m:r>
                              </m:e>
                            </m:d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2438280" y="2286000"/>
                <a:ext cx="5100840" cy="100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σ</m:t>
                        </m:r>
                        <m:r>
                          <m:t xml:space="preserve">/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ORMINV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75</m:t>
                        </m:r>
                        <m:r>
                          <m:t xml:space="preserve">,</m:t>
                        </m:r>
                        <m:r>
                          <m:t xml:space="preserve">0,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2819520" y="3460680"/>
                <a:ext cx="480060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n</m:t>
                        </m:r>
                      </m:e>
                    </m:rad>
                    <m:r>
                      <m:t xml:space="preserve">=</m:t>
                    </m:r>
                    <m:f>
                      <m:num>
                        <m:r>
                          <m:t xml:space="preserve">σ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NORMINV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75</m:t>
                        </m:r>
                        <m:r>
                          <m:t xml:space="preserve">,</m:t>
                        </m:r>
                        <m:r>
                          <m:t xml:space="preserve">0,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ice of Sample Siz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erical fine poi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 this fo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overage prob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0.9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und decimal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upward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be “sure of desired coverag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2057400" y="1752480"/>
                <a:ext cx="4724280" cy="101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σ</m:t>
                                </m:r>
                              </m:num>
                              <m:den>
                                <m:r>
                                  <m:t xml:space="preserve">m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NORMINV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975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0,1</m:t>
                                </m:r>
                              </m:e>
                            </m:d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89" name=""/>
          <p:cNvSpPr/>
          <p:nvPr/>
        </p:nvSpPr>
        <p:spPr>
          <a:xfrm flipV="1">
            <a:off x="3505320" y="2514600"/>
            <a:ext cx="1676160" cy="190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ice of Sample Siz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L Implement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 Example 22, Part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stat-or.unc.edu/webspace/postscript/marron/Teaching/stor155-2007/Stor155Eg22.x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HW:   6.22  (1945),  6.2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2057400" y="1447920"/>
                <a:ext cx="4724280" cy="101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σ</m:t>
                                </m:r>
                              </m:num>
                              <m:den>
                                <m:r>
                                  <m:t xml:space="preserve">m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NORMINV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975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0,1</m:t>
                                </m:r>
                              </m:e>
                            </m:d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pretation of Conf. Interv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Equivalent View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ion                  Distrib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9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c 1                               pic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rcRect l="32819" t="35034" r="36922" b="45545"/>
          <a:stretch/>
        </p:blipFill>
        <p:spPr>
          <a:xfrm>
            <a:off x="1219320" y="3048120"/>
            <a:ext cx="2647800" cy="21859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rcRect l="32819" t="35034" r="36922" b="45545"/>
          <a:stretch/>
        </p:blipFill>
        <p:spPr>
          <a:xfrm>
            <a:off x="5410080" y="3048120"/>
            <a:ext cx="2648160" cy="2187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1295280" y="5410080"/>
                <a:ext cx="76212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−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2438280" y="5410080"/>
                <a:ext cx="30492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3124080" y="5410080"/>
                <a:ext cx="762120" cy="30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+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5715000" y="5410080"/>
                <a:ext cx="45720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6705720" y="5334120"/>
                <a:ext cx="188640" cy="29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7543800" y="5410080"/>
                <a:ext cx="263520" cy="21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1371600" y="2133720"/>
                <a:ext cx="39204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4876920" y="2092320"/>
                <a:ext cx="99036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−</m:t>
                    </m:r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5" name=""/>
          <p:cNvSpPr/>
          <p:nvPr/>
        </p:nvSpPr>
        <p:spPr>
          <a:xfrm flipH="1">
            <a:off x="2895480" y="3657600"/>
            <a:ext cx="13716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257800" y="3581280"/>
            <a:ext cx="13716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pretation of Conf. Interv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0010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hematicall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c 1                            pic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p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1066680" y="5410080"/>
                <a:ext cx="769644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the</m:t>
                        </m:r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  <m:r>
                              <m:t xml:space="preserve">,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r>
                              <m:t xml:space="preserve">m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 ital </m:t>
                        </m:r>
                        <m:r>
                          <m:t xml:space="preserve">brackets</m:t>
                        </m:r>
                        <m:r>
                          <m:rPr>
                            <m:lit/>
                            <m:nor/>
                          </m:rPr>
                          <m:t xml:space="preserve">`μ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457200" y="2362320"/>
                <a:ext cx="815328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5</m:t>
                    </m:r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μ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≤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≤</m:t>
                        </m:r>
                        <m:r>
                          <m:t xml:space="preserve">μ</m:t>
                        </m:r>
                        <m:r>
                          <m:t xml:space="preserve">+</m:t>
                        </m:r>
                        <m:r>
                          <m:t xml:space="preserve">m</m:t>
                        </m:r>
                      </m:e>
                    </m:d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t xml:space="preserve">−</m:t>
                            </m:r>
                            <m:r>
                              <m:t xml:space="preserve">μ</m:t>
                            </m:r>
                          </m:e>
                        </m:d>
                        <m:r>
                          <m:t xml:space="preserve">≤</m:t>
                        </m:r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1143000" y="3733920"/>
                <a:ext cx="457200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≤</m:t>
                        </m:r>
                        <m:r>
                          <m:t xml:space="preserve">μ</m:t>
                        </m:r>
                        <m:r>
                          <m:t xml:space="preserve">≤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12" name=""/>
          <p:cNvSpPr/>
          <p:nvPr/>
        </p:nvSpPr>
        <p:spPr>
          <a:xfrm flipH="1">
            <a:off x="2362320" y="32767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1905120" y="28195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6705360" y="3276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H="1" flipV="1">
            <a:off x="6324120" y="2819520"/>
            <a:ext cx="3812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2514600" y="47242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H="1" flipV="1">
            <a:off x="1828440" y="419076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pter 6: Statistical Infer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 Idea: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orm conclus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quantifying uncertain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will study several approach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is…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pretation of Conf. Interv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0010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quentist View:    If repeat the experiment many tim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bout 95% of the time, CI will cont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nd 5% of the time it won’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7543800" y="3048120"/>
                <a:ext cx="35244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dence Interv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ce Illustr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ublisher’s Webs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istical Appl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fidence Interv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s proper interpret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repeat drawing the s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val will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over tru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95% of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pretation of Conf. Interv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sit Class Example 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stat-or.unc.edu/webspace/postscript/marron/Teaching/stor155-2007/Stor155Eg17.x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all Class HW: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% of Male Students at UN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I. View:  Class Example 2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stat-or.unc.edu/webspace/postscript/marron/Teaching/stor155-2007/Stor155Eg23.x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lustrates idea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 should cover 95% of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pretation of Conf. Interv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 Example 2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stat-or.unc.edu/webspace/postscript/marron/Teaching/stor155-2007/Stor155Eg23.x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1:  SD too small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Too many co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2:  SD too big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Too few co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3:  Big Bias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Too few co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4:  Good sampling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About righ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5:  Simulated Bi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Shows “natural var’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pretation of Conf. Interv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HW:   6.27,  6.29,  6.3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And now for something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completely different…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 fun dance vide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ebaumsworld.com/2006/07/robotdance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uggested by David Molt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. 6.2    Tests of Signific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Hypothesis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g Picture Vie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ther way of handling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andom err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.e. a different view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:    Answe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yes or no ques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under uncertain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e.g. from sampling or measurement err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Examp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 Candidate A win the elec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es smoking cause canc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Brand X better than Brand 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a drug effecti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a proposed new business strategy effecti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marketing research focuses on thi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 A fast food chain currently brings in profits of $20,000 per store, per day.  A new menu is proposed.  Would it be more profit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:  Have 10 stores (randomly selected!) try the new menu, let        = average of their daily prof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5486400" y="4495680"/>
                <a:ext cx="49860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st Food Busines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st View:    for                         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menu looks bet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wise looks wor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:  New menu might be no better (or even worse), but could hav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bad luck of sampl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only sample of size  1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4572000" y="1447920"/>
                <a:ext cx="236232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≥</m:t>
                    </m:r>
                    <m:r>
                      <m:t xml:space="preserve">$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1371600" y="4800600"/>
                <a:ext cx="213372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≥</m:t>
                    </m:r>
                    <m:r>
                      <m:t xml:space="preserve">$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ction 6.1: Confidence Interv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kgrou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 mean,       ,     is an “estimate” of the population mean,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accura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here is “variability”, how much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4191120" y="2286000"/>
                <a:ext cx="50616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5791320" y="3048120"/>
                <a:ext cx="38412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st Food Busines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:    How to handle &amp;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quantify gray are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these decis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:  Can never make 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efinite conclusio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as in Mathematics,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istics is more about real lif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E.g. even if             or                      ,  that might be bad luck of sampling, although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very unlike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2895480" y="4724280"/>
                <a:ext cx="114300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&lt;</m:t>
                    </m:r>
                    <m:r>
                      <m:t xml:space="preserve">$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4572000" y="4724280"/>
                <a:ext cx="251460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&gt;</m:t>
                    </m:r>
                    <m:r>
                      <m:t xml:space="preserve">$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6" name=""/>
          <p:cNvSpPr/>
          <p:nvPr/>
        </p:nvSpPr>
        <p:spPr>
          <a:xfrm flipV="1">
            <a:off x="1066680" y="3352680"/>
            <a:ext cx="152424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: Can never make 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finite conclus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ea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easure strength of evide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ach I:      (note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ffer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rom tex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ose among 3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ypothes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 Strong evidence new menu is be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 Evidence is inconclus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 Strong evidence new menu is wor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aution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lnSpc>
                <a:spcPct val="11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Not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following text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1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his part of course can be 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slipp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1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 am “breaking this down to basic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1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asier to underst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(If you pay careful atten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1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Will “tie things together” l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1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nd return to textbook approach l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rminolog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is calle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ull hypo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up: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 in terms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aramet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i.e.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opul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quant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recall population vs. samp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st Food Busines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   Let       = true (ove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l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tores) daily profit from new men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                               (new is bett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                               (about the sam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                               (new is wors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1523880" y="5029200"/>
                <a:ext cx="221004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&lt;</m:t>
                    </m:r>
                    <m:r>
                      <m:t xml:space="preserve">$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523880" y="3429000"/>
                <a:ext cx="221004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&gt;</m:t>
                    </m:r>
                    <m:r>
                      <m:t xml:space="preserve">$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1523880" y="4195800"/>
                <a:ext cx="228600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r>
                      <m:t xml:space="preserve">$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2590920" y="1905120"/>
                <a:ext cx="392040" cy="47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st Food Busines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5564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 decision o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est gues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5564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quantify strength of the evide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using probability distribution of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5564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Choose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5564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ose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5564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ose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1676520" y="5943600"/>
                <a:ext cx="266688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&lt;&lt;</m:t>
                    </m:r>
                    <m:r>
                      <m:t xml:space="preserve">$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1676520" y="4267080"/>
                <a:ext cx="254448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&gt;&gt;</m:t>
                    </m:r>
                    <m:r>
                      <m:t xml:space="preserve">$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" name=""/>
              <p:cNvSpPr txBox="1"/>
              <p:nvPr/>
            </p:nvSpPr>
            <p:spPr>
              <a:xfrm>
                <a:off x="1676520" y="5105520"/>
                <a:ext cx="2361960" cy="51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≈</m:t>
                    </m:r>
                    <m:r>
                      <m:t xml:space="preserve">$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6400800" y="1828800"/>
                <a:ext cx="49536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265" name=""/>
          <p:cNvSpPr/>
          <p:nvPr/>
        </p:nvSpPr>
        <p:spPr>
          <a:xfrm>
            <a:off x="5943600" y="36576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6781680" y="2437920"/>
            <a:ext cx="60984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st Food Busines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79632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o draw li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9632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here are many way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9632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e is traditional approac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9632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ist that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or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 show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trong evid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9632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.e.  They ge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urden of pro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9632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Note: one way of solv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9632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gray area proble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st Food Busines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es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trength of evide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y ask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strange is observed value      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uming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is true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particular, us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ails of  H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distribu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s measure of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trength of evid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7162920" y="2590920"/>
                <a:ext cx="45720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st Food Busines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5345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796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ails of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distribu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s measure of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trength of evide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96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96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96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96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96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96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ed value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96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his probabili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measu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963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trength of evid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rcRect l="29164" t="39712" r="31247" b="31990"/>
          <a:stretch/>
        </p:blipFill>
        <p:spPr>
          <a:xfrm>
            <a:off x="990720" y="2514600"/>
            <a:ext cx="3124080" cy="2185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7924680" y="4952880"/>
                <a:ext cx="45720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5562720" y="2286000"/>
                <a:ext cx="45720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1295280" y="4952880"/>
                <a:ext cx="167652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r>
                      <m:t xml:space="preserve">$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8" name=""/>
          <p:cNvSpPr/>
          <p:nvPr/>
        </p:nvSpPr>
        <p:spPr>
          <a:xfrm flipH="1">
            <a:off x="3047760" y="2514600"/>
            <a:ext cx="24382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1523880" y="472392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3504960" y="5257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H="1" flipV="1">
            <a:off x="3352680" y="4800600"/>
            <a:ext cx="152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2666880" y="4571640"/>
            <a:ext cx="76212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79632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-valu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for either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r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9632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{what was seen, or more conclusive |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9632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9632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 1:  small p-value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trong evidence again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 i.e.  for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or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9632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9632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 2:  p-value is also calle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bserved significance leve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dence Interv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all the Sampling Distribu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maybe an approxim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4572000" y="2286000"/>
                <a:ext cx="2895480" cy="117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μ</m:t>
                        </m:r>
                        <m:r>
                          <m:t xml:space="preserve">,</m:t>
                        </m:r>
                        <m:f>
                          <m:num>
                            <m:r>
                              <m:t xml:space="preserve">σ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 flipV="1">
            <a:off x="4267080" y="3048120"/>
            <a:ext cx="1219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st Food Busines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se observe:                      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                        ,  but is this conclusi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 could this be due to natural sampling vari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i.e. do we risk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os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oney from new menu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7" name=""/>
              <p:cNvSpPr txBox="1"/>
              <p:nvPr/>
            </p:nvSpPr>
            <p:spPr>
              <a:xfrm>
                <a:off x="6629400" y="1676520"/>
                <a:ext cx="1981080" cy="50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$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4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3962520" y="1676520"/>
                <a:ext cx="234288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t xml:space="preserve">$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3200400" y="2362320"/>
                <a:ext cx="106668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1752480" y="2971800"/>
                <a:ext cx="236232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&gt;</m:t>
                    </m:r>
                    <m:r>
                      <m:t xml:space="preserve">$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st Food Busines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79632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ess evidence for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9632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9632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9632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9632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9632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9632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p-value  =  Ar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4952880" y="2438280"/>
                <a:ext cx="3886200" cy="83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ist</m:t>
                    </m:r>
                    <m:r>
                      <m:t xml:space="preserve">'</m:t>
                    </m:r>
                    <m:r>
                      <m:t xml:space="preserve">n</m:t>
                    </m:r>
                    <m:r>
                      <m:t xml:space="preserve">≈</m:t>
                    </m:r>
                    <m:r>
                      <m:t xml:space="preserve">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r>
                          <m:t xml:space="preserve">,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00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</m:rad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2895480" y="4952880"/>
                <a:ext cx="106704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1676520" y="4952880"/>
                <a:ext cx="106668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96" name="" descr=""/>
          <p:cNvPicPr/>
          <p:nvPr/>
        </p:nvPicPr>
        <p:blipFill>
          <a:blip r:embed="rId1"/>
          <a:srcRect l="31247" t="39712" r="33331" b="31990"/>
          <a:stretch/>
        </p:blipFill>
        <p:spPr>
          <a:xfrm>
            <a:off x="990720" y="2209680"/>
            <a:ext cx="3098520" cy="233676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 flipH="1">
            <a:off x="3048120" y="2819520"/>
            <a:ext cx="1828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2209680" y="457164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3048120" y="457164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4114800" y="5028840"/>
            <a:ext cx="3808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3276720" y="434304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st Food Busines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ation in EXCE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 Example 22, Part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stat-or.unc.edu/webspace/postscript/marron/Teaching/stor155-2007/Stor155Eg24.x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-value = 0.09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in 10”,  “could be random variation”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very strong evidenc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dence Interv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us understand error 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o explain to untrained consum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who don’t know randomnes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ions, normal curv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rcRect l="45713" t="22856" r="47142" b="65140"/>
          <a:stretch/>
        </p:blipFill>
        <p:spPr>
          <a:xfrm>
            <a:off x="5486400" y="1066680"/>
            <a:ext cx="2749680" cy="2890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3657600" y="2209680"/>
                <a:ext cx="167652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ist</m:t>
                    </m:r>
                    <m:r>
                      <m:t xml:space="preserve">'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7848720" y="2438280"/>
                <a:ext cx="662040" cy="6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n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7010280" y="4114800"/>
                <a:ext cx="37620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6324480" y="2743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7238880" y="2743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257800" y="2590920"/>
            <a:ext cx="13716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010280" y="1295280"/>
            <a:ext cx="0" cy="3124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dence Interv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ach:    present a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nterv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endpoints: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 +-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argin of err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.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lecting vari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o choose      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1447920" y="3962520"/>
                <a:ext cx="149832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±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3429000" y="5562720"/>
                <a:ext cx="457200" cy="32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9" name="" descr=""/>
          <p:cNvPicPr/>
          <p:nvPr/>
        </p:nvPicPr>
        <p:blipFill>
          <a:blip r:embed="rId1"/>
          <a:srcRect l="43263" t="19428" r="43263" b="62854"/>
          <a:stretch/>
        </p:blipFill>
        <p:spPr>
          <a:xfrm>
            <a:off x="6553080" y="4114800"/>
            <a:ext cx="2203560" cy="18828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172200" y="502920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2209320" y="49528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209680" y="4495680"/>
            <a:ext cx="3812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dence Interv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ice of “Confidence Interval radius”,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.e.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argin of err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   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bsolute Rang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i.e. including “everything”) is avail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finite tai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normal dist’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need to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pecify desired accur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4114800" y="2133720"/>
                <a:ext cx="484200" cy="31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dence Interv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HW:       6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3T01:07:03Z</dcterms:created>
  <dc:creator> </dc:creator>
  <dc:description/>
  <dc:language>en-US</dc:language>
  <cp:lastModifiedBy>Administrator</cp:lastModifiedBy>
  <dcterms:modified xsi:type="dcterms:W3CDTF">2007-03-08T18:33:40Z</dcterms:modified>
  <cp:revision>352</cp:revision>
  <dc:subject/>
  <dc:title>Slide 1</dc:title>
</cp:coreProperties>
</file>