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5CD-C78C-4F0D-B02A-9A083B8F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D6A-EC3A-44F5-BFB0-0F76E4DF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E12-6E8C-4CB3-AABA-226F8052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ABE-BC41-4151-8EA9-93C30F26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2DA9-6FB0-46F1-BC92-D1308CAE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257-5CF7-4C84-B0FA-B30D0158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616A-D772-4BEC-AA6E-0C9E78A2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3CB-310F-480B-A149-96C9E3EA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2C9-24C0-40F4-AC39-90EAEDDD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BFE-8BA0-4D8D-B129-ECEDC5D4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45B-B98F-454A-A09B-CD31E27B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15E7-4A6B-483D-8ED1-7DBB803E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1BBF-A53B-441A-9AE7-6E9A61A2E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4.xls" TargetMode="External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4.xls" TargetMode="External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4.xls" TargetMode="External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abfhm.free.fr/basket.htm" TargetMode="External"/><Relationship Id="rId2" Type="http://schemas.openxmlformats.org/officeDocument/2006/relationships/hyperlink" Target="http://abfhm.free.fr/basket.htm" TargetMode="External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4.xls" TargetMode="External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4.xls" TargetMode="External"/><Relationship Id="rId2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4.xls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2.xls" TargetMode="External"/><Relationship Id="rId2" Type="http://schemas.openxmlformats.org/officeDocument/2006/relationships/hyperlink" Target="http://stat-or.unc.edu/webspace/postscript/marron/Teaching/stor155-2007/Stor155Eg24.xls" TargetMode="External"/><Relationship Id="rId3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 Interval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Values to reflect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ket true value in 95% of repe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o g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ired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 – No questions, under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evidence for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-value  = 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952880" y="2438280"/>
                <a:ext cx="3886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st</m:t>
                    </m:r>
                    <m:r>
                      <m:t xml:space="preserve">'</m:t>
                    </m:r>
                    <m:r>
                      <m:t xml:space="preserve">n</m:t>
                    </m:r>
                    <m:r>
                      <m:t xml:space="preserve">≈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95480" y="4952880"/>
                <a:ext cx="10670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676520" y="4952880"/>
                <a:ext cx="1066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" name="" descr=""/>
          <p:cNvPicPr/>
          <p:nvPr/>
        </p:nvPicPr>
        <p:blipFill>
          <a:blip r:embed="rId1"/>
          <a:srcRect l="31247" t="39712" r="33331" b="31990"/>
          <a:stretch/>
        </p:blipFill>
        <p:spPr>
          <a:xfrm>
            <a:off x="990720" y="2209680"/>
            <a:ext cx="3098520" cy="2336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3048120" y="281952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209680" y="45716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048120" y="45716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114800" y="50288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276720" y="434304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in EXC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2, Part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4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About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“small”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ere do we draw the lin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1:    Even unde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ust by ch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ee values like                     , about 10% of the time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1 in 1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not “terribly convincing”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a “fluk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ere is the boundary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267080" y="1981080"/>
                <a:ext cx="2133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-value cutof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2:    Traditional (and even “legal”) cutoff, called her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-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utof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idence is st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-value &lt;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commonly agreed upon value, but very widely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tion of scientific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-value cutof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“results are statistically significant” when this happens, i.e. P-value &lt;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hange cutoff value 0.05, to some other level, often called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 “alph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your airplane safe to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          often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ong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867280" y="3276720"/>
                <a:ext cx="370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505320" y="5105520"/>
                <a:ext cx="1904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447920" y="5715000"/>
                <a:ext cx="1295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-value cutof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3:    Personal idea about cutof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y 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v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-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&lt; 0.01:    “quite strong evid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1 &lt; P-value &lt; 0.1:    “weaker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ronger for smaller P-va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&lt; P-value:     “very weak evidence,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”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y Level Cutof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3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y 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v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-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only about interpretation of P-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 When P-value is gi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6.40   &amp;  (d) give gray level int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no, no,  relatively weak evid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.41 &amp;  (d) give gray level int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yes, not,  moderately strong evid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utio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Gray leve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viewpoint not 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ll see it i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ore s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nce I teach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ggest you use this later i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ll be on HW &amp; ex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of 0.094 for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quite weak evidence for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“only a mild sugges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appens sometimes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enough in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data for firm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p side:  could also look at “strength of evidence fo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:  very weak, since 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-value =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0,000   $21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400800" y="2895480"/>
                <a:ext cx="21510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00200" y="6019920"/>
                <a:ext cx="6764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clusiv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5" name="" descr=""/>
          <p:cNvPicPr/>
          <p:nvPr/>
        </p:nvPicPr>
        <p:blipFill>
          <a:blip r:embed="rId1"/>
          <a:srcRect l="34788" t="45579" r="22364" b="15193"/>
          <a:stretch/>
        </p:blipFill>
        <p:spPr>
          <a:xfrm>
            <a:off x="5410080" y="3276720"/>
            <a:ext cx="2359080" cy="2120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6400800" y="5105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009920" y="51055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8381880" y="5028840"/>
            <a:ext cx="38124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781680" y="4419360"/>
            <a:ext cx="1981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400-416, 425-4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431-439,  450-4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4, pa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4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-value = 0.9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&gt; ½,   s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all fo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kes se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actical 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                             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want to gather more dat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prove new menu clearly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more data means m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, wh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overcome uncertain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05120" y="2057400"/>
                <a:ext cx="38685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is was done, i.e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=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plac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= 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got the sam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:   4 times the data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½ of the 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n P-val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4,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4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019920" y="2514600"/>
                <a:ext cx="2131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it get so small, with only ½ the S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= $20,000,        observed $21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value = 0.094                          P-value = 0.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34788" t="43047" r="19879" b="21523"/>
          <a:stretch/>
        </p:blipFill>
        <p:spPr>
          <a:xfrm>
            <a:off x="1981080" y="2286000"/>
            <a:ext cx="2971800" cy="218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32303" t="43047" r="19879" b="21523"/>
          <a:stretch/>
        </p:blipFill>
        <p:spPr>
          <a:xfrm>
            <a:off x="5334120" y="2209680"/>
            <a:ext cx="1447560" cy="2286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V="1">
            <a:off x="3352680" y="449532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52680" y="4495320"/>
            <a:ext cx="2743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962520" y="4495320"/>
            <a:ext cx="1828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791320" y="44953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219320" y="3200400"/>
            <a:ext cx="9144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320040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238880" y="3352320"/>
            <a:ext cx="99072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629040" y="33526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 C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 each of the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box label claims that on average boxes contain 40 oz.  A random sample of 12 boxes shows on average 39 oz., with s = 2.2.  Should we dispute the cla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e know from long experience that Farmer A’s pigs average 570 lbs.  A sample of 16 pigs from Farmer B averages 590 lbs, with an SD of 110.  Is it safe to say B’s pigs are heavier on aver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ame as (b) except “lighter on averag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ame as (b) except that B’s average is 630 l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fine the population mean of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mulate 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and 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in terms of m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ive the P-values for both 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a. 0.942, 0.058,  b. 0.234, 0.76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. 0.234, 0.766,  d. 0.015, 0.9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ive a yes-no answer to th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a.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don’t dispute    b.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ot 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.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ot safe     d.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a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ive a gray level answer to th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a.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moderate evidence agains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.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no strong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.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eems to go other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.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trong evidence, almost very stro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0000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960000"/>
                </a:solidFill>
                <a:latin typeface="Arial"/>
              </a:rPr>
              <a:t>completely different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0000"/>
                </a:solidFill>
                <a:latin typeface="Arial"/>
              </a:rPr>
              <a:t>An amazing movie c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bfhm.free.fr/baske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0000"/>
                </a:solidFill>
                <a:latin typeface="Arial"/>
              </a:rPr>
              <a:t>Thanks to Trent Willia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 Testing Approach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sided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re conventional &amp; is version in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only one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ually relevant, so combin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st food chain currently brings in profits of $20,000 per store, per day.  A new menu is proposed.  Would it be more prof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Have 10 stores (randomly selected!) try the new menu, let        = average of their daily pro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486400" y="4495680"/>
                <a:ext cx="498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ttentio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w return to text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 and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ideas are building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ll combine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two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 get more conventional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 developed 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II:    New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ll Hypothesis:   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“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       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Hypothesis: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       opposit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common notation fo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“burden of proof”,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might accidentally put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needs strong evide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prove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858000" y="2133720"/>
                <a:ext cx="6652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+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−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715000" y="2895480"/>
                <a:ext cx="7444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−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+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 flipH="1" flipV="1">
            <a:off x="7696080" y="28191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7467120" y="44953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rd terminology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rm 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lled “rejecting the null hypothes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s of Test:  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same a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really ju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e a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219320" y="3886200"/>
                <a:ext cx="731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h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aw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boundar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twee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New menu more profitable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 testing set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befor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  Class Example 24, part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4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648320" y="2209680"/>
                <a:ext cx="3124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72000" y="2895480"/>
                <a:ext cx="31240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057400" y="3656160"/>
                <a:ext cx="6248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HW:    6.55,    6.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Interpret with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both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yes-no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gray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Terminolog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ificant at the 5% level”  =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 P-value &lt; 0.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 Statistic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 =   N(0,1) cut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343040" y="1905120"/>
            <a:ext cx="21337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1980720"/>
            <a:ext cx="22860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 Test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I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sided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 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nclusive, t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bin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Is population me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q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given value,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gg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maller is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 Testing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 II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Hypothesis”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“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form: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00400" y="4724280"/>
                <a:ext cx="12952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124080" y="5562720"/>
                <a:ext cx="1371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724280" y="4724280"/>
            <a:ext cx="4572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5638680"/>
            <a:ext cx="4572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257800" y="4343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“     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es i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si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“strong evidence of  =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. can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 sure ab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ence between         and       + 0.00000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n hav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vincing evidence for     “   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recall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gets “burden of proof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5120" y="1676520"/>
                <a:ext cx="45720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124080" y="3429000"/>
            <a:ext cx="4572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3429000"/>
            <a:ext cx="4572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523880" y="4876920"/>
                <a:ext cx="35424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of t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w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is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ed valu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nclusive”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tai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848720" y="5181480"/>
                <a:ext cx="3045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733920" y="5257800"/>
                <a:ext cx="914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1981080"/>
                <a:ext cx="76186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value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h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aw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clusive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dr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82" name="" descr=""/>
          <p:cNvPicPr/>
          <p:nvPr/>
        </p:nvPicPr>
        <p:blipFill>
          <a:blip r:embed="rId1"/>
          <a:srcRect l="32303" t="45579" r="17394" b="21523"/>
          <a:stretch/>
        </p:blipFill>
        <p:spPr>
          <a:xfrm>
            <a:off x="3657600" y="2895480"/>
            <a:ext cx="2778120" cy="178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400800" y="3032280"/>
                <a:ext cx="3808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 flipV="1">
            <a:off x="2209680" y="2362320"/>
            <a:ext cx="2057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486400" y="32004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5334120"/>
            <a:ext cx="15264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47242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715000" y="472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705720" y="3809520"/>
            <a:ext cx="914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267080" y="3809880"/>
            <a:ext cx="2438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791320" y="38098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ded View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,000              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-value =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0,000          $2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ually exclusive “or”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743200" y="2057400"/>
                <a:ext cx="28083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717640" y="2666880"/>
                <a:ext cx="2870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43000" y="4572000"/>
                <a:ext cx="6400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143000" y="5257800"/>
                <a:ext cx="6929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 flipV="1">
            <a:off x="6781680" y="5638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80988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3581280"/>
            <a:ext cx="0" cy="45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3581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3581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962160" y="3581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3581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410080" y="358128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358128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Can never mak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inite 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sure strength of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:  have to deal with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:  C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ify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-value =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NORMDIS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e Class Example 24,  part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4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0.1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 no strong eviden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ther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yes-n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or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ray-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133720" y="2209680"/>
                <a:ext cx="63244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cut:    by sym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ailed Area                               =    2 x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e Class Example 24,  part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4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rcRect l="34788" t="43047" r="19879" b="17725"/>
          <a:stretch/>
        </p:blipFill>
        <p:spPr>
          <a:xfrm>
            <a:off x="2209680" y="2209680"/>
            <a:ext cx="1737000" cy="170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16" name="" descr=""/>
          <p:cNvPicPr/>
          <p:nvPr/>
        </p:nvPicPr>
        <p:blipFill>
          <a:blip r:embed="rId3"/>
          <a:srcRect l="34788" t="43047" r="19879" b="17725"/>
          <a:stretch/>
        </p:blipFill>
        <p:spPr>
          <a:xfrm>
            <a:off x="5638680" y="2133720"/>
            <a:ext cx="1987560" cy="1689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 flipH="1" flipV="1">
            <a:off x="251460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590920" y="36576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71500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HW:    6.62  -  interpret both yes-no &amp; gray-level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(-2.20,  0.0278,  rather strong evidence)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“paradox” of 2-sided tes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get strange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why i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ray leve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ensible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st food example:  suppose gathered more data, so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n = 2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nd other results ar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sided test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… = 0.0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5 of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tat-or.unc.edu/webspace/postscript/marron/Teaching/stor155-2007/Stor155Eg24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sided tes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… = 0.0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419720" y="1523880"/>
                <a:ext cx="28191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419720" y="2119320"/>
                <a:ext cx="28191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 flipV="1">
            <a:off x="838080" y="3047760"/>
            <a:ext cx="1752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3733920"/>
            <a:ext cx="175284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419720" y="4114800"/>
                <a:ext cx="2895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419720" y="4724280"/>
                <a:ext cx="28954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-no interpre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rong eviden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 eviden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!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houldn’t bigger imply different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019920" y="2438280"/>
                <a:ext cx="24382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952880" y="3124080"/>
                <a:ext cx="24386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≠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-no tes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ual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be careful with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:  2-sided admi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uncertain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near boundary could m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, as happened he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 level view avoids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-sided has stronger evid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:   1-sided vs. 2-sided issues need carefu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oi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fect 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dea of             being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this cho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from gray level view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581280" y="4495680"/>
                <a:ext cx="6098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343400" y="4495680"/>
            <a:ext cx="22860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Read problem carefully to distinguish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sided Hypotheses  - 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sided Hypotheses  - 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209680" y="3429000"/>
                <a:ext cx="50292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209680" y="5562720"/>
                <a:ext cx="4724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4114800" y="3809880"/>
            <a:ext cx="228600" cy="38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15200" y="3809880"/>
            <a:ext cx="228600" cy="38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5638680"/>
            <a:ext cx="228600" cy="38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5638680"/>
            <a:ext cx="228600" cy="38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ces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n easy to label “more conclus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get partial credi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I:      (not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mong 3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ypothe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Strong evidence new menu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Evidence in inconclu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Strong evidence new menu is w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ext book problem 6.3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of the following situations, a significance test for a population mean,    is called for.  State the null hypothesis,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d the alternative hypothesis,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n each cas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458200" y="2666880"/>
                <a:ext cx="4334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eriment is designed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sure the ef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high soy diet on bone density of r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bone density of high soy r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bone density of ordinary r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no question of “bigger” or “smaller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57200" y="3809880"/>
                <a:ext cx="52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4419720"/>
                <a:ext cx="2514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00400" y="5029200"/>
                <a:ext cx="26668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380880" y="3316320"/>
                <a:ext cx="685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ewspaper changed its format.  In a random sample of readers, ask opinions on scale of -2 = “new format much worse”, -1 = “new format somewhat worse”, 0 = “about same”, +1 = “new a somewhat better”, +2 = “new much bett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opinion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98320" y="5035680"/>
                <a:ext cx="390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b 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ason to choose one over other, so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question is of form:  “is the new form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200400" y="1828800"/>
                <a:ext cx="1922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200400" y="2590920"/>
                <a:ext cx="2019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inations in a large history class are scaled after grading so that the mean score is 75.  A teaching assistant thinks that his students hav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verage score than the class as a whole.  His students can be considered as a sample from the population of all students he might teach, so he compares their score with 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verage score for all students of this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609480" y="5334120"/>
                <a:ext cx="424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981080" y="5867280"/>
                <a:ext cx="19051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181480" y="5815080"/>
                <a:ext cx="1981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extbook problem     6.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 each of the following research questions into appropriate      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entify the parame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ach hypothesis (generally useful, so already did this abov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324480" y="3048120"/>
                <a:ext cx="4003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7772400" y="3048120"/>
                <a:ext cx="476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earcher randomly divides 6-th graders into 2 groups for PE Class, and teached volleyball skills to both.  She encourages Group A, but acts cool towards Group B.  She hopes that encouragement will result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 test for group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mean test score for Group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mean test score for Grou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57200" y="5257800"/>
                <a:ext cx="5698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57200" y="5715000"/>
                <a:ext cx="5684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Set u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 to be pro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192480" y="1949400"/>
                <a:ext cx="2100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124080" y="2819520"/>
                <a:ext cx="23068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 believes there i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between GPA and esteem for students.  To test this, she gathers GPA and esteem score data at a univer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correlation between GPS &amp; este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09480" y="4495680"/>
                <a:ext cx="486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733920" y="5008680"/>
                <a:ext cx="18288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ρ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657600" y="5715000"/>
                <a:ext cx="19749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ρ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6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ciologist asks a sample of students which subject they like best.  She suspect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centage of females, than males, will name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rop’n of Females preferring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rop’n of Males preferring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990720" y="3962520"/>
                <a:ext cx="604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429000" y="5181480"/>
                <a:ext cx="2527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352680" y="5867280"/>
                <a:ext cx="28195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990720" y="4495680"/>
                <a:ext cx="6094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utio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ollowing text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s part of course can be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lipp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am “breaking this down to basic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sier to underst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If you pay careful atten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ll “tie things together”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d return to textbook approach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 on setting up hypothe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.35,    6.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decision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st gu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ify strength of the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probability distribution of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hoose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676520" y="5943600"/>
                <a:ext cx="26668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676520" y="4267080"/>
                <a:ext cx="2544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76520" y="5105520"/>
                <a:ext cx="23619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≈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1828800"/>
                <a:ext cx="495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5943600" y="3657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6781680" y="243792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raw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are many way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traditional appr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st th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s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They 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rden of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: one way of sol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y area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observe:              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                       ,  but is this conclus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uld this be due to natural sampling 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do we ris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ey from new menu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629400" y="1676520"/>
                <a:ext cx="19810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962520" y="1676520"/>
                <a:ext cx="2342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00400" y="2362320"/>
                <a:ext cx="10666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752480" y="2971800"/>
                <a:ext cx="2362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Faye</cp:lastModifiedBy>
  <dcterms:modified xsi:type="dcterms:W3CDTF">2007-03-29T02:54:17Z</dcterms:modified>
  <cp:revision>938</cp:revision>
  <dc:subject/>
  <dc:title>Slide 1</dc:title>
</cp:coreProperties>
</file>