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293-40AB-4CE9-AD9E-0B925724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268-2712-4645-8203-40E71FF6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AD4-AA5F-43B6-8C96-4BF7D23B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18E-E32A-479B-B2FF-6BBB5E17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DF1-6D40-4AE7-8538-F6F9BF4A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73B-64A3-45A3-92D9-3D829049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26A-5985-4406-BDE9-BCD46138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C39-5C42-44C2-85AF-2D1CCD00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FB7-42B2-4B6F-BA53-753E6350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4B9-570A-4B7E-9A1F-AE2C866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486-2920-4B4B-83C9-562EF38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216-B8E1-48C0-A1E4-A1A35330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B8C4-C005-4112-AA60-5465C748D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5.xls" TargetMode="External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5.xls" TargetMode="External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3.xls" TargetMode="External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hyperlink" Target="http://stat-or.unc.edu/webspace/postscript/marron/Teaching/stor155-2007/Stor155Eg24.xls" TargetMode="External"/><Relationship Id="rId3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4.xls" TargetMode="External"/><Relationship Id="rId2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EgTDist.mp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stat.sc.edu/~west/applets/tdemo1.html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ngth of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P-val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–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–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sided vs. 2 - sided “parado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2438280"/>
                <a:ext cx="8229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value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clusive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d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ext book problem 6.3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of the following situations, a significance test for a population mean,    is called for.  State the null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the alternative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 each cas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8458200" y="2666880"/>
                <a:ext cx="433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eriment is designed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sure the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high soy diet on bone density of r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high so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ordinar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no question of “bigger” or “smaller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7200" y="3809880"/>
                <a:ext cx="52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76720" y="4419720"/>
                <a:ext cx="2514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00400" y="5029200"/>
                <a:ext cx="2666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80880" y="3316320"/>
                <a:ext cx="685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ewspaper changed its format.  In a random sample of readers, ask opinions on scale of -2 = “new format much worse”, -1 = “new format somewhat worse”, 0 = “about same”, +1 = “new a somewhat better”, +2 = “new much bett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opinion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98320" y="5035680"/>
                <a:ext cx="390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b 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son to choose one over other, so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question is of form:  “is the new form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00400" y="1828800"/>
                <a:ext cx="1922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00400" y="2590920"/>
                <a:ext cx="2019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inations in a large history class are scaled after grading so that the mean score is 75.  A teaching assistant thinks that his students hav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erage score than the class as a whole.  His students can be considered as a sample from the population of all students he might teach, so he compares their score with 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verage score for all students of this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9480" y="5334120"/>
                <a:ext cx="424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981080" y="5867280"/>
                <a:ext cx="19051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81480" y="5815080"/>
                <a:ext cx="1981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extbook problem     6.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each of the following research questions into appropriate      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ntify the 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ach hypothesis (generally useful, so already did this abo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324480" y="3048120"/>
                <a:ext cx="4003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72400" y="3048120"/>
                <a:ext cx="476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earcher randomly divides 6-th graders into 2 groups for PE Class, and teached volleyball skills to both.  She encourages Group A, but acts cool towards Group B.  She hopes that encouragement will result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 test for group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" y="5257800"/>
                <a:ext cx="569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" y="5715000"/>
                <a:ext cx="5684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Set u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 to be 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192480" y="1949400"/>
                <a:ext cx="2100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24080" y="2819520"/>
                <a:ext cx="2306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believes there i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between GPA and esteem for students.  To test this, she gathers GPA and esteem score data at a un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correlation between GPS &amp; este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09480" y="4495680"/>
                <a:ext cx="486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733920" y="5008680"/>
                <a:ext cx="18288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57600" y="5715000"/>
                <a:ext cx="1974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ciologist asks a sample of students which subject they like best.  She suspect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centage of females, than males, will name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Fe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90720" y="3962520"/>
                <a:ext cx="60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29000" y="5181480"/>
                <a:ext cx="2527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352680" y="5867280"/>
                <a:ext cx="28195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90720" y="4495680"/>
                <a:ext cx="6094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400-416, 424-428, 450-4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485-50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on setting up hypothe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.35,    6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between Confidence Intervals and Hypothesis T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at Level 0.05            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5 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523880" y="4419720"/>
                <a:ext cx="4446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5029200"/>
                <a:ext cx="2286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3124080"/>
                <a:ext cx="4572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3880" y="5791320"/>
                <a:ext cx="33656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μ</m:t>
                    </m:r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486400" y="5791320"/>
                <a:ext cx="29685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" name="" descr=""/>
          <p:cNvPicPr/>
          <p:nvPr/>
        </p:nvPicPr>
        <p:blipFill>
          <a:blip r:embed="rId1"/>
          <a:srcRect l="32099" t="45130" r="14815" b="18583"/>
          <a:stretch/>
        </p:blipFill>
        <p:spPr>
          <a:xfrm>
            <a:off x="4724280" y="3581280"/>
            <a:ext cx="19656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400800" y="3657600"/>
                <a:ext cx="1123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 flipV="1">
            <a:off x="2895480" y="3885840"/>
            <a:ext cx="198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886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3886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94360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8862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&amp;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at Level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EXCEL’s CONFIDENCE function uses        =  1 – coverage pr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ly care about 2-sided hypos, then could work only with 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not learn about hypo.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24280" y="17524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114800" y="3581280"/>
                <a:ext cx="369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&amp;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6.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traps of 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how to avoid them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ly 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fferen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n’t confuse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ly 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fferen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o test a painful diet program, 10,000 people were put on it.  Their average weight loss was 1.7 lbs, with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“significance” by hypothesis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ly 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fferen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Class Example 25:    Tra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=  0.00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ongly Statistic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:    Is 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1,  e.g:    Is 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!    Not worth painful diet to lose 1.7 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  Hypo. testing resolves question: Could observed results be due to chance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l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1,  e.g:    Is 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l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is is different from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results show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g 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2:    Insignificant results d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hing is 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:    Didn’t have strong enough data to act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Class 25,    Tra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5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“paradox” of 2-sided tes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get strange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hy i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ay leve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ensible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st food example:  suppose gathered more data, so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 = 2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nd other results ar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 3:  Try enough tests, and you will find “something” even where 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sn’t ex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t Class Example 21, Q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3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w about 5% of CIs don’t c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(using CI – Hypo Test connection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ect about 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ests to choo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(and claim “strong evidence) ev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avoid Trap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Method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Hypothesis tes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peated tests: use careful adjust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eyond scope of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t help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6.74      (about 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.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0.382,    0.171,    0.00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.83,  6.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0.0505,    0.04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tuff for nex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xt sl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3:         level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instead of reporting P-value, choos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xed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ay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reject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find strong eviden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-value &lt; 0.05    (more generally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light recasting of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ersion of tes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6.53  (careful, already assigned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133720" y="1447920"/>
                <a:ext cx="3697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620120" y="4267080"/>
                <a:ext cx="3618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4:    P-value shows 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lf of the decision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Illust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e   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Result:       Choo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791320" y="4267080"/>
          <a:ext cx="2971800" cy="188928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II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I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4:    Both sides of decision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ll P-val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mall Type I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ype II error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ms part of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stic Answer:  Don’t care because have put burden of proof o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4:    What about Type II error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Answer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es ma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 sensi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s, 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 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how large a sample size is needed for a 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 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eated abov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4:    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Type I Error}   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vel of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- P{Type I Error}   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P{Type II Error}   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 of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P{Type II Error}   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 statistician’s view on politic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ome Current Controversial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rth Carolina State Lot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place Social Security by Individual Retirement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bate i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passionate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(natural for complex and important iss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ut what is mi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test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… = 0.0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5 of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at-or.unc.edu/webspace/postscript/marron/Teaching/stor155-2007/Stor155Eg24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te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… = 0.0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419720" y="1523880"/>
                <a:ext cx="28191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19720" y="2119320"/>
                <a:ext cx="28191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 flipV="1">
            <a:off x="838080" y="304776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733920"/>
            <a:ext cx="175284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419720" y="4114800"/>
                <a:ext cx="2895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19720" y="4724280"/>
                <a:ext cx="2895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view Ideas on State Lotter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rom our study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t an obvious choice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mbling is (at least) unsav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igious ob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me like it too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troys some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ate Lotteries, not an obvious ch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only totally voluntary 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body required, unlike all other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ney often used fo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od or bad, given state of economy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ighest tax burden on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oor enjoy playing much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igher taxes on poor better for society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ndency towards “rich get richer”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at about Individual Retirement Pl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in Bene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n average individual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turn greater yiel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an government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o can we co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verall we are all better off”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nce more total money to go a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ery common mistake in this reas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6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tice “on average” part of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6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uld also think abou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variation about the average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ariation about average Issu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uld think of population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verage is over this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cept some to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do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nd expect some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lose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at will the percentage of loser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at do we do with those who lose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at will that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ariation about average Issu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lso are averag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verall gains of stock market happen only over this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ome need $$$ when market i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ow often will this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ow do we deal with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in concept I hope you carry away from this cour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Variation is a fundamental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ook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nk abou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sk questions abou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Vital to informed citizen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ustralian joke about Var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id you hear about the man who drowned in a lake with average depth 6 in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ustralian joke about Var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e understood “average”, but no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variation about th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ally have such lak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es,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31287" t="28499" r="6257" b="7772"/>
          <a:stretch/>
        </p:blipFill>
        <p:spPr>
          <a:xfrm>
            <a:off x="4191120" y="1752480"/>
            <a:ext cx="458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-no interpre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ong evid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 evid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!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houldn’t bigger imply different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019920" y="2438280"/>
                <a:ext cx="24382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952880" y="3124080"/>
                <a:ext cx="2438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ggestions of such issues (politics, controversy…) for discussion are welcom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iews of hypothesis testing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2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-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instead of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o assess statistical signific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-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t way of measuring signifi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09680" y="3962520"/>
                <a:ext cx="5486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28800" y="1981080"/>
                <a:ext cx="4572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00200" y="2743200"/>
                <a:ext cx="7086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371600" y="3200400"/>
                <a:ext cx="67057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−</m:t>
                            </m:r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371600" y="5450040"/>
                <a:ext cx="33526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Z-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:  Class E.g. 24, Par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4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: 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057400" y="1447920"/>
                <a:ext cx="33526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H="1">
            <a:off x="45720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419360" y="1981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90720" y="1980720"/>
            <a:ext cx="213336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nstead of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il 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cut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“SDs away from mean $20,00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6.67  , but use NORMDIST, not Tabl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133720" y="1371600"/>
                <a:ext cx="33526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8" name="" descr=""/>
          <p:cNvPicPr/>
          <p:nvPr/>
        </p:nvPicPr>
        <p:blipFill>
          <a:blip r:embed="rId1"/>
          <a:srcRect l="30713" t="43310" r="21263" b="17834"/>
          <a:stretch/>
        </p:blipFill>
        <p:spPr>
          <a:xfrm>
            <a:off x="1905120" y="2819520"/>
            <a:ext cx="1855800" cy="1390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>
            <a:off x="3200400" y="2666880"/>
            <a:ext cx="2286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514600" y="41144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124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. 7.1:  Deeper look at I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“inference”  =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s and Hypo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ssue:     In sampling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     is unknown, so replace with an estimate,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, should be “OK”, but what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 is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larg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124080" y="2666880"/>
                <a:ext cx="3200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057400" y="3352680"/>
                <a:ext cx="361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352680" y="3886200"/>
                <a:ext cx="309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known 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 Account for “extra variability in the             approxim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:    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mound shaped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averages generally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w m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cus on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33720" y="2057400"/>
                <a:ext cx="1174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858000" y="2590920"/>
                <a:ext cx="2098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known 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        by      ,    then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istribution nam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distribution with n-1 degrees of freed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362320" y="1371600"/>
                <a:ext cx="30272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057400" y="2362320"/>
                <a:ext cx="281952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362320" y="4267080"/>
                <a:ext cx="4381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86200" y="4267080"/>
                <a:ext cx="2318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867280" y="3809880"/>
                <a:ext cx="114300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a parameter  (like                 )  that controls “added variability from                   approxim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:    Study Dens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degrees of freed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EgTDist.m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638680" y="2133720"/>
                <a:ext cx="1600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162920" y="2666880"/>
                <a:ext cx="9903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 tes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be careful with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2-sided admi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uncertain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near boundary could 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, as happened 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 view avoids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-sided has stronger evid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on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differences for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ce            approximation i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difference for  n 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ce            approximation really g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of thumb cutoff:    many 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igible difference for n &gt; 3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off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e inform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971800" y="2903400"/>
                <a:ext cx="9144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4038480"/>
                <a:ext cx="9144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Alternate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ter West (U. So. Carolina) App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sc.edu/~west/applets/tdemo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change for small 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very normal for large 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overlay with Norma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re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set “degrees of freedom”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–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(not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forget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to add to sheet of notes for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7.21 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ized 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nger can plug mean and 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EXCEL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xt this was already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need this for Normal table calc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14800" y="2590920"/>
                <a:ext cx="120024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438280" y="2666880"/>
                <a:ext cx="441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:   1-sided vs. 2-sided issues need carefu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i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dea of             being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this ch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from gray level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81280" y="4495680"/>
                <a:ext cx="6098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4343400" y="4495680"/>
            <a:ext cx="22860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Read problem carefully to distinguish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09680" y="3429000"/>
                <a:ext cx="50292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209680" y="5562720"/>
                <a:ext cx="4724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114800" y="38098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38098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56386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56386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easy to label “more conclus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get partial credi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4-26T01:42:26Z</dcterms:modified>
  <cp:revision>952</cp:revision>
  <dc:subject/>
  <dc:title>Slide 1</dc:title>
</cp:coreProperties>
</file>