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761-8DE1-4E00-A44B-2878BC4B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CE7-B436-4060-A51D-EB8D5CD1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7D3-97D2-463C-B83C-FA61ED02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F0A-048D-4D9B-B441-F63C8A1B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292-DE8F-49D9-82D1-09665A5C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29C-5769-47DB-A0DC-55365ECB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D4D-0FF1-42A0-8AFA-EDE91D37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371-0109-497F-A46C-FFA09D09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C24-999D-400B-A99E-9F5D6A9B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56E-5DD6-4F10-AAB2-C1B2E3D4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62D-8C42-4B3A-8271-C52E3DFC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05E-8079-48B2-BB01-8195D020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D62A-BCA7-4E57-88AE-BB31FCEC8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0.xls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1.xls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1.xls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1.xls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1.xls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1.xls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tat.sc.edu/~west/applets/chisqdemo.html" TargetMode="External"/><Relationship Id="rId2" Type="http://schemas.openxmlformats.org/officeDocument/2006/relationships/hyperlink" Target="http://www.stat.sc.edu/~west/applets/chisqdemo.html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31.xls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ired Diff’s vs. Unmatched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are with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wed graphic about Paired often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of Gray Level Hypo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erence for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mple Siz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                 ,  from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66680" y="5486400"/>
                <a:ext cx="35798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066680" y="3809880"/>
                <a:ext cx="60962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|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066680" y="2971800"/>
                <a:ext cx="6723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|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791320" y="1523880"/>
                <a:ext cx="169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438280" y="1523880"/>
                <a:ext cx="1901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" name="" descr=""/>
          <p:cNvPicPr/>
          <p:nvPr/>
        </p:nvPicPr>
        <p:blipFill>
          <a:blip r:embed="rId1"/>
          <a:srcRect l="30713" t="45858" r="18901" b="20381"/>
          <a:stretch/>
        </p:blipFill>
        <p:spPr>
          <a:xfrm>
            <a:off x="6172200" y="4419720"/>
            <a:ext cx="20574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* NORMDIST(0.44,0.48,sqrt(0.48*(1-0.48)/500),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Class Example 30,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0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07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-No:    no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-level:    somewhat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09680" y="1447920"/>
                <a:ext cx="35798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 ver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Z-score is:                      = 1.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581280" y="1981080"/>
                <a:ext cx="3092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743200" y="2514600"/>
                <a:ext cx="5894280" cy="22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p</m:t>
                                            </m:r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8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8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0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5867280" y="3048120"/>
            <a:ext cx="2438640" cy="1752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476760" y="4800600"/>
            <a:ext cx="685800" cy="91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also 1-sided ver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Level:    stronger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8.22a  (0.0057),    8.23,     interpret from both yes-no and gray-level view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ample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xt Section 8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are only slight variation of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mix &amp; Match of 2 sample ideas, and propor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need it (later), pull out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ed on exams to extent it is in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9: 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up populatio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1:    Age &amp;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2:    Education &amp;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Major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divis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divis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idea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pe’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rob.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I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1,  Textbook Example 9.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Researchers know that background music can influence mood and purchasing behavior.  A supermarket compared three treatments: No music, French accordion music and Italian string music.  Under each condition, the researchers recorded the numbers of bottles of French, Italian and other wine purshas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1,  Textbook Example 9.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the two way table that summarizes the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type of wine purchased, and the background music rel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2819520"/>
          <a:ext cx="6782040" cy="2278080"/>
        </p:xfrm>
        <a:graphic>
          <a:graphicData uri="http://schemas.openxmlformats.org/drawingml/2006/table">
            <a:tbl>
              <a:tblPr/>
              <a:tblGrid>
                <a:gridCol w="1355760"/>
                <a:gridCol w="1357560"/>
                <a:gridCol w="1355400"/>
                <a:gridCol w="1357560"/>
                <a:gridCol w="13557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us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Win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Fre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Ital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Fre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Ital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1:         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how  counts are broken dow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type                 win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14600" y="1828800"/>
          <a:ext cx="4332240" cy="304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433224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 flipH="1" flipV="1">
            <a:off x="6019560" y="434304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743200" y="457164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350496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llest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ench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alian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876920" y="1219320"/>
          <a:ext cx="3951000" cy="277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219320"/>
                    <a:ext cx="395100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 flipV="1">
            <a:off x="3809880" y="2133360"/>
            <a:ext cx="3048120" cy="2057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2742840"/>
            <a:ext cx="2666880" cy="1981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172200" y="1752120"/>
            <a:ext cx="533520" cy="3505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536-549,  555-566, 582-6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582-611,    634-6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make this pre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it happ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st by ch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: how likely to be a chance eff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s 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ly 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music and wine purch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1, a look under the hoo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nalysis, Part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ata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ppeared as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to re-ar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way to do thi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graphic with chart wi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W:    Make 2-way bar graphs,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Gulim"/>
              </a:rPr>
              <a:t>and discuss relationships between the divisions,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for the data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1   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Gulim"/>
              </a:rPr>
              <a:t> (younger people tend to be better educat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9       (you try thes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ternate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counts by proportions (or %-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1 (Wine &amp; Music),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more interpr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l difference (just resca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robability the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| B} =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Chances of A, when 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re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when B i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version of this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| B} =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s - proportions analog of the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of P{A}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s of factor A, “not knowing B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“marginal propor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of P{A|B}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proportions (or count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s along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s along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to write at margins of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na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independent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nice to put total at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Cou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1 (Wine &amp; Music),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s ar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 inte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wines sold best (French 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 music sold most wi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don’t te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ol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n’t s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e music &amp; wine is be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t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lls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marg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efini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| B} =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s analog of P{A|B}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equivalent condi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71800" y="3809880"/>
                <a:ext cx="512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∧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505320" y="5486400"/>
                <a:ext cx="39621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s analog of P{A|B}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condition for independenc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or counts, look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Prop’n = Row Marg’l Prop’n x Col’n Marg’l Prop’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Entry = Product of Marg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87600" y="3200400"/>
                <a:ext cx="4322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×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on Tuesday, April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t of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 single 8 ½ x 11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, since now more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ing H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ing about those not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mu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ed Material:  HW 7 -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e Product of Marginal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1 (Wine &amp; Music), Par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sam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arg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ch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&amp; 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ll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838760" y="3429000"/>
          <a:ext cx="3960720" cy="278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8760" y="3429000"/>
                    <a:ext cx="396072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model appears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s 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uld difference be simply explained by natural sampling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“distance between t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i Square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known probability distribution when table is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significance using P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s: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dep.  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value = P{what saw or m.c. | Indep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statistic:   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Counts (raw data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Counts (under indep.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for only random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or significant departure from ind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804000" y="2057400"/>
                <a:ext cx="816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315200" y="2666880"/>
                <a:ext cx="7239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38280" y="3352680"/>
                <a:ext cx="38102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ells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b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x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statistic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31, Part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erm by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8.3    “big”  or  “small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276720" y="1981080"/>
                <a:ext cx="380988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ells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b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x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tribution of the 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 Squared”   (another Greek letter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: “degrees of freed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milar to T dis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DIST  (given cutoff, find area = prob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INV    (given prob = area, find cut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772400" y="1905120"/>
                <a:ext cx="477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the        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t from Webster West (U. So. Carol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tat.sc.edu/~west/applets/chisqdem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Skewe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Gaussian for more d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95480" y="1295280"/>
                <a:ext cx="478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est of independence,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(#rows – 1) x (#cols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Wine and Mus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f. = (3 – 1) x (3 – 1)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Wine and Mus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Observed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m.c. | Indep.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8.3 of m.c. | Indep.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= 18.3 | d.f. = 4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0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ee Class Example 31, Par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31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23626" t="39712" r="18901" b="11031"/>
          <a:stretch/>
        </p:blipFill>
        <p:spPr>
          <a:xfrm>
            <a:off x="5646600" y="3436920"/>
            <a:ext cx="2224080" cy="2041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124080" y="3962520"/>
            <a:ext cx="3886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391520" y="46479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Wine and Mus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-No:    Very strong evidence against independence, conclude music has a statistically significant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-Level:    Also very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Office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, 4/9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:00 – 12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:30 – 3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4/10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:30 – 10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:00 – 12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shortc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s the (obs-exp)^2 / exp calcula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computes d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P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3:    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Setup: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657600" y="2438280"/>
                <a:ext cx="175248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86200" y="4511520"/>
                <a:ext cx="1579680" cy="16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5562720" y="3124080"/>
            <a:ext cx="2286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5257800"/>
            <a:ext cx="2286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943240" y="31240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strength of evidenc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m.c. | B’dry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observed      or m.c. | p =    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sd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3581280"/>
            <a:ext cx="2286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505320" y="4952880"/>
                <a:ext cx="31240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105520" y="3429000"/>
                <a:ext cx="361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sd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 (different from above “best guess”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“conservativ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 is done base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5105520"/>
            <a:ext cx="2286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581280" y="1295280"/>
                <a:ext cx="3124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010120" y="5095800"/>
                <a:ext cx="704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 Problem 8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500 respondents in a Christmas tree marketing survey, 44% had no children at home and 56% had at least one child at home.  The corresponding figures from the most recent census are 48% with no children, and 52% with at least one.  Test the null hypothesis that the telephone survey has a probability of selecting a household with no children that is equal to the value of the last census.  Give a Z-statistic and P-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 Problem 8.16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% with no chil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th writing d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95280" y="3962520"/>
                <a:ext cx="2874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62160" y="4809960"/>
                <a:ext cx="29638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Administrator</cp:lastModifiedBy>
  <dcterms:modified xsi:type="dcterms:W3CDTF">2007-04-05T21:22:46Z</dcterms:modified>
  <cp:revision>1015</cp:revision>
  <dc:subject/>
  <dc:title>Slide 1</dc:title>
</cp:coreProperties>
</file>