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00AC-77AA-4F9F-B31D-0325D4548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DC79-A178-47E7-A8C9-03344418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777A-032E-47F8-86F9-7067F6EBB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9B1A-C1D0-46C0-8A99-EDD72103C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4695-50E2-47AB-9C6E-DF9D2DBF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5737-082A-4FB0-9D09-0D5F342D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D98F-5035-4347-B8A1-4D836CDF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B535-556E-4E69-87F8-C6D7E992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1E57-DA5F-44A8-96D9-7B76F332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E924-51B9-4264-8255-FEBAE050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CE26-C133-405E-A20C-2143A57C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1526-930D-4F70-8A19-837C6946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B8AD-5C7C-4100-BB67-DB8F0A8B0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Eg31.xls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Eg31.xls" TargetMode="Externa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Eg31.xls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Eg31.xls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ilstu.edu/~gcramsey/Gallery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math.sfu.ca/~cschwarz/Stat-301/Handouts/node50.html" TargetMode="Externa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math.csusb.edu/faculty/stanton/m262/regress/regress.html" TargetMode="External"/><Relationship Id="rId2" Type="http://schemas.openxmlformats.org/officeDocument/2006/relationships/hyperlink" Target="http://www.ruf.rice.edu/~lane/stat_sim/reg_by_eye/index.html" TargetMode="External"/><Relationship Id="rId3" Type="http://schemas.openxmlformats.org/officeDocument/2006/relationships/hyperlink" Target="http://www.ruf.rice.edu/~lane/stat_sim/reg_by_eye/index.html" TargetMode="External"/><Relationship Id="rId4" Type="http://schemas.openxmlformats.org/officeDocument/2006/relationships/hyperlink" Target="http://www.ruf.rice.edu/~lane/stat_sim/comp_r/index.html" TargetMode="External"/><Relationship Id="rId5" Type="http://schemas.openxmlformats.org/officeDocument/2006/relationships/hyperlink" Target="http://www.ruf.rice.edu/~lane/stat_sim/comp_r/index.html" TargetMode="External"/><Relationship Id="rId6" Type="http://schemas.openxmlformats.org/officeDocument/2006/relationships/slideLayout" Target="../slideLayouts/slideLayout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Eg14.xls" TargetMode="External"/><Relationship Id="rId2" Type="http://schemas.openxmlformats.org/officeDocument/2006/relationships/slideLayout" Target="../slideLayouts/slideLayout8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 31,  Section 1, La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ference for Propor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ypothesis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Sample Proportions I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kip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-way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liced populations in 2 different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ok for independence of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i Square Hypothesis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term I -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Resul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666880" y="1676520"/>
          <a:ext cx="6248520" cy="459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676520"/>
                    <a:ext cx="6248520" cy="45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term I -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ation of Scores (2 Test total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0 - 2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5 – 16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1 – 15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0 – 12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11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term I -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we go from 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ee 2 rather different group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are you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you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import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still early days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9: Two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id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up populations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wo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1:    Age &amp; S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2:    Education &amp;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 Major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division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l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 division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idea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pe’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prob.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al Infer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lationshi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allest b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Win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ench Mu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alian Win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talian Mu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Win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 Mu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876920" y="1219320"/>
          <a:ext cx="3951000" cy="277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219320"/>
                    <a:ext cx="3951000" cy="27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 flipV="1">
            <a:off x="3809880" y="2133360"/>
            <a:ext cx="3048120" cy="20574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876920" y="2742840"/>
            <a:ext cx="2666880" cy="1981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172200" y="1752120"/>
            <a:ext cx="533520" cy="3505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Dire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make this preci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it happ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ust by ch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ly: how likely to be a chance eff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is i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atistically signific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music and wine purcha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lternate vie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 counts by proportions (or %-ag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31 (Wine &amp; Music), Par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or155Eg31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more interpre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ba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al difference (just rescal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depen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probability the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A | B} = P{A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 Chances of A, when B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is kn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re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when B i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un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version of this ide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 in 2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s analog of P{A|B}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valent condition for independence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for counts, look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Prop’n = Row Marg’l Prop’n x Col’n Marg’l Prop’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Entry = Product of Margi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487600" y="3200400"/>
                <a:ext cx="43228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∧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×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 in 2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ize Product of Marginals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31 (Wine &amp; Music), Part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or155Eg31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s same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margi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tch bet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ic &amp; w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ull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838760" y="3429000"/>
          <a:ext cx="3960720" cy="2784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38760" y="3429000"/>
                    <a:ext cx="3960720" cy="27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In Text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Today’s Mater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582-611,    634-6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Next Cla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 634-6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 in 2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“distance between tabl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i Square Stat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known probability distribution when table is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significance using P-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as:  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Indep.    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-value = P{what saw or m.c. | Indep.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 in 2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-square statistic:    Based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ed Counts (raw data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ed Counts (under indep.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for only random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or significant departure from inde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6804000" y="2057400"/>
                <a:ext cx="8161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b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7315200" y="2666880"/>
                <a:ext cx="7239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438280" y="3352680"/>
                <a:ext cx="381024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cells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/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Obs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Ex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 in 2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-square statistic calcu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31, Part 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or155Eg31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term by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8.3    “big”  or  “small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276720" y="1981080"/>
                <a:ext cx="380988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cells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/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Obs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Ex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 in 2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istribution of the 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statist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 Squared”   (another Greek letter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eter: “degrees of freedo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imilar to T distribu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DIST  (given cutoff, find area = prob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INV    (given prob = area, find cutof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7772400" y="1905120"/>
                <a:ext cx="4777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 in 2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est of independence,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s of freedom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(#rows – 1) x (#cols –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Wine and Mus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f. = (3 – 1) x (3 – 1)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 in 2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Wine and Mus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{Observed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m.c. | Indep.}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8.3 of m.c. | Indep.}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gt;= 18.3 | d.f. = 4}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0.0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see Class Example 31, Part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or155Eg31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rcRect l="23626" t="39712" r="18901" b="11031"/>
          <a:stretch/>
        </p:blipFill>
        <p:spPr>
          <a:xfrm>
            <a:off x="5646600" y="3436920"/>
            <a:ext cx="2224080" cy="2041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124080" y="3962520"/>
            <a:ext cx="38862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7391520" y="464796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 in 2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Wine and Mus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0.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-No:    Very strong evidence against independence, conclude music has a statistically significant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y-Level:    Also very strong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 in 2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shortc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s the (obs-exp)^2 / exp calculat’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cally computes d.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s P-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 in 2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9.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9.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464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64"/>
                </a:solidFill>
                <a:latin typeface="Arial"/>
              </a:rPr>
              <a:t>A statistics joke, fr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464"/>
                </a:solidFill>
                <a:latin typeface="Arial"/>
              </a:rPr>
              <a:t>GARY C. RAMSEYER'S INTERNET GALLERY OF STATISTICS JO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lstu.edu/~gcramsey/Gallery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term I -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com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led numbers are points taken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for each problem in br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s evenly divided among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total in lower right co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those sum to total on fr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ll score out of 100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464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64"/>
                </a:solidFill>
                <a:latin typeface="Arial"/>
              </a:rPr>
              <a:t>A somewhat advanced society has figured how to package basic knowledge in pill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64"/>
                </a:solidFill>
                <a:latin typeface="Arial"/>
              </a:rPr>
              <a:t>A student, needing some learning, goes to the pharmacy and asks what kind of knowledge pills are available.</a:t>
            </a:r>
            <a:r>
              <a:rPr b="0" lang="en-US" sz="2800" spc="-1" strike="noStrike">
                <a:solidFill>
                  <a:srgbClr val="0064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464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64"/>
                </a:solidFill>
                <a:latin typeface="Arial"/>
              </a:rPr>
              <a:t>The pharmacist says "Here's a pill for English literature.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64"/>
                </a:solidFill>
                <a:latin typeface="Arial"/>
              </a:rPr>
              <a:t>The student takes the pill and swallows it and has new knowledge about English literatu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464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464"/>
                </a:solidFill>
                <a:latin typeface="Arial"/>
              </a:rPr>
              <a:t>"</a:t>
            </a:r>
            <a:r>
              <a:rPr b="0" lang="en-US" sz="3200" spc="-1" strike="noStrike">
                <a:solidFill>
                  <a:srgbClr val="006464"/>
                </a:solidFill>
                <a:latin typeface="Arial"/>
              </a:rPr>
              <a:t>What else do you have?" asks the stu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64"/>
                </a:solidFill>
                <a:latin typeface="Arial"/>
              </a:rPr>
              <a:t>"Well, I have pills for art history, biology, and world history, "replies the pharmaci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64"/>
                </a:solidFill>
                <a:latin typeface="Arial"/>
              </a:rPr>
              <a:t>The student asks for these, and swallows them and has new knowledge about those subjec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464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64"/>
                </a:solidFill>
                <a:latin typeface="Arial"/>
              </a:rPr>
              <a:t>Then the student asks, "Do you have a pill for statistics?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64"/>
                </a:solidFill>
                <a:latin typeface="Arial"/>
              </a:rPr>
              <a:t>The pharmacist says "Wait just a moment", and goes back into the storeroom and brings back a whopper of a pill that is about twice the size of a jawbreaker and plunks it on the coun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64"/>
                </a:solidFill>
                <a:latin typeface="Arial"/>
              </a:rPr>
              <a:t>"I have to take that huge pill for statistics?" inquires the stu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464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64"/>
                </a:solidFill>
                <a:latin typeface="Arial"/>
              </a:rPr>
              <a:t>The pharmacist understandingly nods his head and repli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64"/>
                </a:solidFill>
                <a:latin typeface="Arial"/>
              </a:rPr>
              <a:t>"Well, you know statistics always was a little hard to swallow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tion about 2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son’s Parad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gregation into tabl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n be danger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rom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ath.sfu.ca/~cschwarz/Stat-301/Handouts/node50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Admission rates to professional programs, look for sex bia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son’s Parad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ssions to Business Scho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% Males ad’ted = 480 / (480 + 120) * 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% Females ad’ted = 180 / (180 + 20)* 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9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for females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590920" y="1905120"/>
          <a:ext cx="4114800" cy="1552320"/>
        </p:xfrm>
        <a:graphic>
          <a:graphicData uri="http://schemas.openxmlformats.org/drawingml/2006/table">
            <a:tbl>
              <a:tblPr/>
              <a:tblGrid>
                <a:gridCol w="1676520"/>
                <a:gridCol w="1295280"/>
                <a:gridCol w="1143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son’s Parad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ssions to Law Scho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% Males ad’ted = 10 / (10 + 90) * 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% Females ad’ted = 100 / (100+200)*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33.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for females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590920" y="1905120"/>
          <a:ext cx="4114800" cy="1552320"/>
        </p:xfrm>
        <a:graphic>
          <a:graphicData uri="http://schemas.openxmlformats.org/drawingml/2006/table">
            <a:tbl>
              <a:tblPr/>
              <a:tblGrid>
                <a:gridCol w="1676520"/>
                <a:gridCol w="1295280"/>
                <a:gridCol w="1143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son’s Parad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d Admis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% Males ad’ted = 490 / (490 + 210) * 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7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% Females ad’ted = 280 / (280+210)*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5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590920" y="1905120"/>
          <a:ext cx="4114800" cy="1552320"/>
        </p:xfrm>
        <a:graphic>
          <a:graphicData uri="http://schemas.openxmlformats.org/drawingml/2006/table">
            <a:tbl>
              <a:tblPr/>
              <a:tblGrid>
                <a:gridCol w="1676520"/>
                <a:gridCol w="1295280"/>
                <a:gridCol w="1143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son’s Parad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the rate b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igher for bo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emales and also ma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:  depends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lative propor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Business (male applicants dominant), easier to get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660 / 8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Law (female applicants dominant), much harder to get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10 / 4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term I -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ation of Sc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early for letter gr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will change a lo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with good grades will rel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with bad grades will wake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n’t belie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“A &amp; C” average to “B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son’s Parad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b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ry carefu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ggre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se: may not be aware th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ggreg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been don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terminology: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urking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hide in aggregati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be used for cheat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son’s Parad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9.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9.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tterpl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ting Lines to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tud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atistical infe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sociated with fit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When is slope statistically signific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Scatter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data (x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 by plo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,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,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-1,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,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429000" y="1371600"/>
          <a:ext cx="541008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371600"/>
                    <a:ext cx="54100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 flipV="1">
            <a:off x="1371600" y="2971800"/>
            <a:ext cx="4800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371600" y="3733560"/>
            <a:ext cx="62485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447920" y="4495680"/>
            <a:ext cx="3124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447920" y="5181480"/>
            <a:ext cx="5486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Linea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 a line to data in a scatter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learn about “basic structu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“model dat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vide “prediction of new valu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Linea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some basic geomet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ne is described by an equ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mx +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slope                                                     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= y intercept                              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ying m &amp; b gives a “family of lines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xed by “parameters” m &amp; b (or a &amp;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09480" y="304776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219320" y="3047760"/>
            <a:ext cx="13716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91120" y="45720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25909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191120" y="2590560"/>
            <a:ext cx="3962160" cy="2361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62720" y="411480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562720" y="441936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5638680" y="4419720"/>
            <a:ext cx="1447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00800" y="3657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16292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7162560" y="3429000"/>
            <a:ext cx="9903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Linea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scatterplot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 a &amp; b  (i.e. choose a 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“best fit the dat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819520" y="2971800"/>
                <a:ext cx="38098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Linea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line,                ,    “indexed”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 “residuals”  =  “data Y” – “Y on lin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choose            to make these “smal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743200" y="2133720"/>
                <a:ext cx="1197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895480" y="1523880"/>
                <a:ext cx="16765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495680" y="4876920"/>
                <a:ext cx="22860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952880" y="1905120"/>
                <a:ext cx="12556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7543800" y="3581280"/>
                <a:ext cx="11556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7620120" y="1555920"/>
                <a:ext cx="106668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∧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4952880" y="1981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3505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514600" y="2362320"/>
            <a:ext cx="6095880" cy="167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2819520"/>
            <a:ext cx="152280" cy="152280"/>
          </a:xfrm>
          <a:prstGeom prst="flowChartSummingJunct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2819520"/>
            <a:ext cx="152640" cy="152280"/>
          </a:xfrm>
          <a:prstGeom prst="flowChartSummingJunct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315200" y="3352680"/>
            <a:ext cx="152280" cy="152640"/>
          </a:xfrm>
          <a:prstGeom prst="flowChartSummingJunct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52680" y="26668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562720" y="243828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543800" y="350496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9880" y="289548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943600" y="29718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391520" y="266652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895480" y="3352680"/>
            <a:ext cx="8384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895480" y="3048120"/>
            <a:ext cx="29718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895480" y="3123720"/>
            <a:ext cx="441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581280" y="5614920"/>
                <a:ext cx="10670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∧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Linea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lent Demo, by Charles Stanton, CSU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ath.csusb.edu/faculty/stanton/m262/regress/regres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JAVA Demos, by David Lane at Rice 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ruf.rice.edu/~lane/stat_sim/reg_by_eye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ruf.rice.edu/~lane/stat_sim/comp_r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Linea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Residuals  &gt; 0,  by squ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st Squares:     adjust            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ize the “Sum of Squared Erro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105520" y="2971800"/>
                <a:ext cx="11430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∧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819520" y="4191120"/>
                <a:ext cx="441936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E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term I -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ation of Sc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large variation over 2 mid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exception this seme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st Squares in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CEPT    (computes y-intercept  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PE   (computes slope 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it Class Example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or155Eg14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HW:  10.17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 develo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esis Tests and Confidence Int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lope &amp; intercept parameters, a &amp;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study pre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do statistical inference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pe 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cept 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:         are random, independent      and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590920" y="3809880"/>
                <a:ext cx="297180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2590920" y="4876920"/>
                <a:ext cx="41436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286000" y="5562720"/>
                <a:ext cx="182880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point:     Data generat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+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osen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nd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re “paramet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09880" y="4114800"/>
            <a:ext cx="49532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952880" y="1980720"/>
            <a:ext cx="0" cy="297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886200" y="2361960"/>
            <a:ext cx="4724280" cy="1981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86200" y="320040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7010280" y="1904760"/>
            <a:ext cx="0" cy="25146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616800" y="1828800"/>
            <a:ext cx="406440" cy="2438280"/>
          </a:xfrm>
          <a:custGeom>
            <a:avLst/>
            <a:gdLst/>
            <a:ahLst/>
            <a:rect l="l" t="t" r="r" b="b"/>
            <a:pathLst>
              <a:path w="256" h="1536">
                <a:moveTo>
                  <a:pt x="248" y="0"/>
                </a:moveTo>
                <a:cubicBezTo>
                  <a:pt x="252" y="80"/>
                  <a:pt x="256" y="160"/>
                  <a:pt x="248" y="240"/>
                </a:cubicBezTo>
                <a:cubicBezTo>
                  <a:pt x="240" y="320"/>
                  <a:pt x="232" y="416"/>
                  <a:pt x="200" y="480"/>
                </a:cubicBezTo>
                <a:cubicBezTo>
                  <a:pt x="168" y="544"/>
                  <a:pt x="88" y="568"/>
                  <a:pt x="56" y="624"/>
                </a:cubicBezTo>
                <a:cubicBezTo>
                  <a:pt x="24" y="680"/>
                  <a:pt x="0" y="752"/>
                  <a:pt x="8" y="816"/>
                </a:cubicBezTo>
                <a:cubicBezTo>
                  <a:pt x="16" y="880"/>
                  <a:pt x="72" y="952"/>
                  <a:pt x="104" y="1008"/>
                </a:cubicBezTo>
                <a:cubicBezTo>
                  <a:pt x="136" y="1064"/>
                  <a:pt x="176" y="1112"/>
                  <a:pt x="200" y="1152"/>
                </a:cubicBezTo>
                <a:cubicBezTo>
                  <a:pt x="224" y="1192"/>
                  <a:pt x="240" y="1184"/>
                  <a:pt x="248" y="1248"/>
                </a:cubicBezTo>
                <a:cubicBezTo>
                  <a:pt x="256" y="1312"/>
                  <a:pt x="248" y="1480"/>
                  <a:pt x="248" y="15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429000" y="3048120"/>
            <a:ext cx="312408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eters        and        determine the underlying model (distribu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with the Least Squares Estim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Using SLOPE and INTERCEPT in Excel, based 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048120" y="1600200"/>
                <a:ext cx="2840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4572000" y="1447920"/>
                <a:ext cx="2793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657600" y="3581280"/>
                <a:ext cx="2714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105520" y="3505320"/>
                <a:ext cx="2635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s of        and     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the above assumptions,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pling distribu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points are right (unbia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eads are more compli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657600" y="1447920"/>
                <a:ext cx="2714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5105520" y="1371600"/>
                <a:ext cx="2635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5181480" y="3200400"/>
                <a:ext cx="22860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5181480" y="3962520"/>
                <a:ext cx="22860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 flipV="1">
            <a:off x="5105520" y="3657600"/>
            <a:ext cx="1371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05520" y="4495680"/>
            <a:ext cx="1371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for SD of   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(small) for        big (small, resp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te data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ccurate est. of sl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for  x’s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re spread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more spread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More acc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for mo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data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More 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962520" y="1295280"/>
                <a:ext cx="2714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362320" y="1905120"/>
                <a:ext cx="4952880" cy="16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4114800" y="3733920"/>
                <a:ext cx="3888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for SD of   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(small) for        big (small, resp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te data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ccur’te est. of inter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er fo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ed data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More accurate inter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er for mo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data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More 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962520" y="1143000"/>
                <a:ext cx="2538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981080" y="1752480"/>
                <a:ext cx="6043680" cy="172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4114800" y="3733920"/>
                <a:ext cx="3888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3505320" y="4648320"/>
                <a:ext cx="1218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more detai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estimate         us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is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to earlier sd estimat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pt variation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bout fi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similar to           from befo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962520" y="2133720"/>
                <a:ext cx="4237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505320" y="2819520"/>
                <a:ext cx="4397400" cy="16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acc>
                                              <m:accPr>
                                                <m:chr m:val="^"/>
                                              </m:accPr>
                                              <m:e>
                                                <m:r>
                                                  <m:t xml:space="preserve">a</m:t>
                                                </m:r>
                                              </m:e>
                                            </m:acc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+</m:t>
                                            </m:r>
                                            <m:acc>
                                              <m:accPr>
                                                <m:chr m:val="^"/>
                                              </m:accPr>
                                              <m:e>
                                                <m:r>
                                                  <m:t xml:space="preserve">b</m:t>
                                                </m:r>
                                              </m:e>
                                            </m:acc>
                                          </m:e>
                                        </m:d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6781680" y="4648320"/>
                <a:ext cx="25740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371600" y="5867280"/>
                <a:ext cx="11494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800600" y="5867280"/>
                <a:ext cx="77004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for Probability Distribu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are estimating        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DIST and TIN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degrees of freedom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4495680" y="2286000"/>
                <a:ext cx="4240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5943600" y="2209680"/>
                <a:ext cx="39528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5638680" y="3886200"/>
                <a:ext cx="11494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term I -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819520" y="1219320"/>
          <a:ext cx="5976720" cy="535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219320"/>
                    <a:ext cx="597672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nie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ckaged Ana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Exc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s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ata Analysis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Reg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application us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7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Text Problem 8.6  (now  10.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term I -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819520" y="1219320"/>
          <a:ext cx="5976720" cy="535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219320"/>
                    <a:ext cx="597672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52280" y="1600200"/>
            <a:ext cx="262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114800" y="2209680"/>
            <a:ext cx="4267080" cy="335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1905120"/>
            <a:ext cx="320040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term I -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819520" y="1219320"/>
          <a:ext cx="5976720" cy="535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219320"/>
                    <a:ext cx="597672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52280" y="1600200"/>
            <a:ext cx="2622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Some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Dra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Impro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thers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een distra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y other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629400" y="2286000"/>
            <a:ext cx="1371600" cy="53352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1905120"/>
            <a:ext cx="4114800" cy="53316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772400" y="2819520"/>
            <a:ext cx="685800" cy="1295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514600" y="3580920"/>
            <a:ext cx="5257800" cy="381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term I -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ation of Sc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large variation over 2 mid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exception this seme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better info fr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 test To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ill report answers in those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 </dc:creator>
  <dc:description/>
  <dc:language>en-US</dc:language>
  <cp:lastModifiedBy>Administrator</cp:lastModifiedBy>
  <dcterms:modified xsi:type="dcterms:W3CDTF">2007-04-12T17:44:56Z</dcterms:modified>
  <cp:revision>1024</cp:revision>
  <dc:subject/>
  <dc:title>Slide 1</dc:title>
</cp:coreProperties>
</file>