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3F1-47CB-4FFC-A3F7-00E8B9CC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FD0-3B5B-4215-841C-010F543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698-432E-4A97-86B4-85B5B278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90A-3999-4B5B-917C-71988AC9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9C9-F12F-4E19-B9EB-DE288880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820-BFA9-4C19-BA08-74B7C929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781-56FD-4C7D-A49A-8E34FB4D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D7F-FC05-4D8A-8322-7F1331E1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C81-F11E-4FB6-8ADF-73ECB208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1B1-325F-41F5-B693-9A66E276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F56-1179-4F46-92AF-5F59D295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ECA-415D-4A57-8CE8-82B2CB22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76AA-D882-4732-9B2D-26677DE09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2.xls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3.xls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3.xls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4.xls" TargetMode="External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-wa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liced populations in 2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for independence of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 Square Hypothesi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son’s Para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gregating can give opposite i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erence fo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mpling Distributions – TDIST &amp; TIN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point:     Data gener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osen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re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4114800"/>
            <a:ext cx="49532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52880" y="1980720"/>
            <a:ext cx="0" cy="297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86200" y="2361960"/>
            <a:ext cx="4724280" cy="19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2004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19047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16800" y="1828800"/>
            <a:ext cx="406440" cy="2438280"/>
          </a:xfrm>
          <a:custGeom>
            <a:avLst/>
            <a:gdLst/>
            <a:ahLst/>
            <a:rect l="l" t="t" r="r" b="b"/>
            <a:pathLst>
              <a:path w="256" h="1536">
                <a:moveTo>
                  <a:pt x="248" y="0"/>
                </a:moveTo>
                <a:cubicBezTo>
                  <a:pt x="252" y="80"/>
                  <a:pt x="256" y="160"/>
                  <a:pt x="248" y="240"/>
                </a:cubicBezTo>
                <a:cubicBezTo>
                  <a:pt x="240" y="320"/>
                  <a:pt x="232" y="416"/>
                  <a:pt x="200" y="480"/>
                </a:cubicBezTo>
                <a:cubicBezTo>
                  <a:pt x="168" y="544"/>
                  <a:pt x="88" y="568"/>
                  <a:pt x="56" y="624"/>
                </a:cubicBezTo>
                <a:cubicBezTo>
                  <a:pt x="24" y="680"/>
                  <a:pt x="0" y="752"/>
                  <a:pt x="8" y="816"/>
                </a:cubicBezTo>
                <a:cubicBezTo>
                  <a:pt x="16" y="880"/>
                  <a:pt x="72" y="952"/>
                  <a:pt x="104" y="1008"/>
                </a:cubicBezTo>
                <a:cubicBezTo>
                  <a:pt x="136" y="1064"/>
                  <a:pt x="176" y="1112"/>
                  <a:pt x="200" y="1152"/>
                </a:cubicBezTo>
                <a:cubicBezTo>
                  <a:pt x="224" y="1192"/>
                  <a:pt x="240" y="1184"/>
                  <a:pt x="248" y="1248"/>
                </a:cubicBezTo>
                <a:cubicBezTo>
                  <a:pt x="256" y="1312"/>
                  <a:pt x="248" y="1480"/>
                  <a:pt x="248" y="1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429000" y="30481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       and        determine the underlying model (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with the Least Squares Est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ing SLOPE and INTERCEPT in Excel, ba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8120" y="1600200"/>
                <a:ext cx="2840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572000" y="1447920"/>
                <a:ext cx="2793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57600" y="3581280"/>
                <a:ext cx="271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105520" y="3505320"/>
                <a:ext cx="263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of        and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above assumptions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points are right (unbi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57600" y="1447920"/>
                <a:ext cx="27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05520" y="1371600"/>
                <a:ext cx="263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81480" y="3200400"/>
                <a:ext cx="228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962520"/>
                <a:ext cx="22860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V="1">
            <a:off x="5105520" y="3657600"/>
            <a:ext cx="1371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105520" y="44956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SD of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(small) for        big (small, res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ccurate est. of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or  x’s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sprea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re spread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or mo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962520" y="1295280"/>
                <a:ext cx="271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62320" y="1905120"/>
                <a:ext cx="495288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114800" y="3733920"/>
                <a:ext cx="3888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SD of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(small) for        big (small, res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ccur’te est. of 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ed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te 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or mo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962520" y="1143000"/>
                <a:ext cx="253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981080" y="1752480"/>
                <a:ext cx="604368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114800" y="3733920"/>
                <a:ext cx="3888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05320" y="4648320"/>
                <a:ext cx="1218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ore det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estimate         us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earlier sd estima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vari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out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imilar to           from bef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962520" y="2133720"/>
                <a:ext cx="423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505320" y="2819520"/>
                <a:ext cx="439740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781680" y="4648320"/>
                <a:ext cx="2574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5867280"/>
                <a:ext cx="1149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800600" y="5867280"/>
                <a:ext cx="7700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re estimating        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DIST and TIN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egrees of freedom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95680" y="2286000"/>
                <a:ext cx="424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943600" y="2209680"/>
                <a:ext cx="3952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638680" y="3886200"/>
                <a:ext cx="114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ckaged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ata Analysi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application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Problem 10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Problem 10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companies estimate energy used by their customers.  Natural gas consumption depends on temperature.  A study recorded average daily gas consump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00s of cubic feet) for each month.  The explanatory vari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verage number of heating degree days for that month. Data for October through Jun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or October through Jun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905120"/>
          <a:ext cx="7390800" cy="4572000"/>
        </p:xfrm>
        <a:graphic>
          <a:graphicData uri="http://schemas.openxmlformats.org/drawingml/2006/table">
            <a:tbl>
              <a:tblPr/>
              <a:tblGrid>
                <a:gridCol w="2463480"/>
                <a:gridCol w="2463840"/>
                <a:gridCol w="24634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 = Deg.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= Gas Cons’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634-667 &amp;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634-667 &amp;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Problem 10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2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N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thing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e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N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angu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ed 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286000"/>
          <a:ext cx="7924680" cy="3652920"/>
        </p:xfrm>
        <a:graphic>
          <a:graphicData uri="http://schemas.openxmlformats.org/drawingml/2006/table">
            <a:tbl>
              <a:tblPr/>
              <a:tblGrid>
                <a:gridCol w="2666880"/>
                <a:gridCol w="525780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or 1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= Prop’n of Sum of Squa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xplained by 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inter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Intercept   </a:t>
                      </a:r>
                      <a:r>
                        <a:rPr b="0" i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X 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Slope   </a:t>
                      </a:r>
                      <a:r>
                        <a:rPr b="0" i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s      &amp; 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248520" y="5334120"/>
                <a:ext cx="241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010280" y="5257800"/>
                <a:ext cx="2606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057400"/>
          <a:ext cx="8001000" cy="4259160"/>
        </p:xfrm>
        <a:graphic>
          <a:graphicData uri="http://schemas.openxmlformats.org/drawingml/2006/table">
            <a:tbl>
              <a:tblPr/>
              <a:tblGrid>
                <a:gridCol w="2666880"/>
                <a:gridCol w="5334120"/>
              </a:tblGrid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or 1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tandard Err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Estimates of      &amp;  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(recall from Sampling Dist’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T – St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(Est. – mean) / SE,    i.e. 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on scale of T –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cdc00"/>
                          </a:solidFill>
                          <a:latin typeface="Arial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cdc00"/>
                          </a:solidFill>
                          <a:latin typeface="Arial"/>
                        </a:rPr>
                        <a:t>For 2-sided test of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400800" y="2743200"/>
                <a:ext cx="360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315200" y="2743200"/>
                <a:ext cx="324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343400" y="5257800"/>
                <a:ext cx="3505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2133720"/>
          <a:ext cx="7925040" cy="3992400"/>
        </p:xfrm>
        <a:graphic>
          <a:graphicData uri="http://schemas.openxmlformats.org/drawingml/2006/table">
            <a:tbl>
              <a:tblPr/>
              <a:tblGrid>
                <a:gridCol w="2667240"/>
                <a:gridCol w="525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or 1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wer 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pper 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ds of 95% Confid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terval for  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and  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ince chose 0.95 for Confidence leve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Predicted 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Points on line at     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i.e.           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010280" y="4648320"/>
                <a:ext cx="347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90920" y="4648320"/>
                <a:ext cx="284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587920" y="5105520"/>
                <a:ext cx="1243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09480" y="2133720"/>
          <a:ext cx="7925040" cy="4030560"/>
        </p:xfrm>
        <a:graphic>
          <a:graphicData uri="http://schemas.openxmlformats.org/drawingml/2006/table">
            <a:tbl>
              <a:tblPr/>
              <a:tblGrid>
                <a:gridCol w="2667240"/>
                <a:gridCol w="525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or 1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Residual for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Recall:  gave useful information about </a:t>
                      </a:r>
                      <a:r>
                        <a:rPr b="0" i="1" lang="en-US" sz="2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quality of 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(useful to plo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tandard Residual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on </a:t>
                      </a:r>
                      <a:r>
                        <a:rPr b="0" i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tandardized 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29200" y="4648320"/>
                <a:ext cx="16365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684520" y="2666880"/>
                <a:ext cx="4032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840200" y="2629080"/>
                <a:ext cx="2130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useful var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roblems 10.23 - 10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3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3,   (10.23 – 10.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s made measurements of the Leaning Tower of Pisa over the years 1975 – 1987.  “Lean” is the difference between a points position if the tower were straight, and its actual position, in tenths of a meter, in excess of 2.9 meters.  The data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.23 – 10.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34120" y="1295280"/>
          <a:ext cx="2971800" cy="521172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3,   (10.23 – 10.25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the data, does the trend in lean over time appear to be lin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quation of the least squares fit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95% confidence interval for the average rate of change of the 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3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.17 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.26  (using log base 10,  for part c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’d slope:   0.1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st'd intercept:   -3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95% CI for slope:   [0.186, 0.202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ing Lines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ud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ciated with fi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When is slope statistically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Displ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Topic i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larg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think carefully to do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for attempts to foo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Displays:    Interesting Arti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isplay Data Bad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ard W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American Statistici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38, 137-1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vail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links.jsto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Idea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ut 12 types of bad dis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reasons 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are some favorit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ing the data in th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11453" t="23791" r="9162" b="8922"/>
          <a:stretch/>
        </p:blipFill>
        <p:spPr>
          <a:xfrm>
            <a:off x="5791320" y="1981080"/>
            <a:ext cx="2678040" cy="4125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9162" t="33920" r="9162" b="10600"/>
          <a:stretch/>
        </p:blipFill>
        <p:spPr>
          <a:xfrm>
            <a:off x="914400" y="3048120"/>
            <a:ext cx="3913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ye perceiv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“siz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9162" t="21452" r="9162" b="9385"/>
          <a:stretch/>
        </p:blipFill>
        <p:spPr>
          <a:xfrm>
            <a:off x="5791320" y="1676520"/>
            <a:ext cx="2778120" cy="4748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6872" t="30290" r="6872" b="11359"/>
          <a:stretch/>
        </p:blipFill>
        <p:spPr>
          <a:xfrm>
            <a:off x="1066680" y="3276720"/>
            <a:ext cx="34639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of Scales in Mid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ly trust the Post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6872" t="21452" r="4581" b="8044"/>
          <a:stretch/>
        </p:blipFill>
        <p:spPr>
          <a:xfrm>
            <a:off x="4267080" y="1676520"/>
            <a:ext cx="3556080" cy="4840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09680" y="3505320"/>
            <a:ext cx="25146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2286000"/>
            <a:ext cx="4496040" cy="9907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4648320"/>
            <a:ext cx="4495680" cy="99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never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an thin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(of parame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we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info abou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143000"/>
            <a:ext cx="5410440" cy="2590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3809880"/>
            <a:ext cx="7162920" cy="2743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athematical 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ixed &amp; unkn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athematical Not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maries of data, have numb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066680"/>
            <a:ext cx="7315200" cy="2514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3809880"/>
            <a:ext cx="7162920" cy="2743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200400" y="2057400"/>
                <a:ext cx="2666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352680" y="4648320"/>
                <a:ext cx="2286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istrib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 / Propor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2743200"/>
            <a:ext cx="190512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733920" y="2514600"/>
                <a:ext cx="36669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809880" y="2895480"/>
            <a:ext cx="609840" cy="838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981080" y="4952880"/>
                <a:ext cx="65246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981080" y="5486400"/>
            <a:ext cx="457200" cy="6858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4724280"/>
            <a:ext cx="3276360" cy="198144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5410080"/>
            <a:ext cx="990720" cy="7621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Scatter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ata 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by pl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429000" y="1371600"/>
          <a:ext cx="54100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410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 flipV="1">
            <a:off x="1371600" y="2971800"/>
            <a:ext cx="4800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371600" y="3733560"/>
            <a:ext cx="6248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447920" y="449568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447920" y="5181480"/>
            <a:ext cx="5486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7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Interval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margin of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ckets        95%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 / Propor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c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3352680"/>
            <a:ext cx="6094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28600" y="3352680"/>
                <a:ext cx="2819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52280" y="3276720"/>
            <a:ext cx="2895840" cy="8380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52280" y="5334120"/>
                <a:ext cx="2951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04920" y="5257800"/>
            <a:ext cx="2819160" cy="914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5562720"/>
            <a:ext cx="53352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162920" y="1905120"/>
                <a:ext cx="533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105520" y="3505320"/>
                <a:ext cx="498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181480" y="5638680"/>
                <a:ext cx="574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7086600" y="1828800"/>
            <a:ext cx="6094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 of Hypotheses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 | Bdry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2133720"/>
            <a:ext cx="2209680" cy="99036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4952880"/>
            <a:ext cx="3047760" cy="838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5029200"/>
            <a:ext cx="914400" cy="6094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095880" y="2286000"/>
                <a:ext cx="1927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from 3/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iews of hypothesis testing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2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instead of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o assess statistical signific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t way of measuring 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1981080" y="3809880"/>
            <a:ext cx="6096240" cy="838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4648320"/>
            <a:ext cx="327672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2362320"/>
            <a:ext cx="335268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4648320"/>
            <a:ext cx="251460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600200" y="2743200"/>
                <a:ext cx="7086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3200400"/>
                <a:ext cx="67057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−</m:t>
                            </m:r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371600" y="5450040"/>
                <a:ext cx="33526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6248520" y="1219320"/>
            <a:ext cx="24382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1981080"/>
            <a:ext cx="1067040" cy="5335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1905120"/>
            <a:ext cx="243864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a line to data in a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“basic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model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“prediction of new valu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               ,    “indexed”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“residuals”  =  “data Y” – “Y on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hoose            to make these “sm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895480" y="1523880"/>
                <a:ext cx="1676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495680" y="4876920"/>
                <a:ext cx="2286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20120" y="1555920"/>
                <a:ext cx="10666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581280" y="5614920"/>
                <a:ext cx="1067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iduals  &gt; 0,  by squ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:     adjust           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“Sum of Squared Erro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105520" y="2971800"/>
                <a:ext cx="1143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19520" y="4191120"/>
                <a:ext cx="441936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putes y-intercept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 (computes slope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Example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1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do statistical inferenc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:         are random, independent      and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90920" y="3809880"/>
                <a:ext cx="29718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4876920"/>
                <a:ext cx="414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6000" y="5562720"/>
                <a:ext cx="18288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Administrator</cp:lastModifiedBy>
  <dcterms:modified xsi:type="dcterms:W3CDTF">2007-04-26T13:54:42Z</dcterms:modified>
  <cp:revision>1045</cp:revision>
  <dc:subject/>
  <dc:title>Slide 1</dc:title>
</cp:coreProperties>
</file>