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D4C-7DB4-44AA-A550-6774327C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DB3-23DD-4E8C-9D4E-7DBA291E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C23-7B04-4AF7-A322-33AE88A4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B50-1877-4E05-99E5-295C9CB6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6C4-6F70-4299-B266-8F076F1E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2DD-DA84-43AD-BDD5-AC4CC82A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98E-C110-49B1-8E7B-73476284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7A8-8E6B-4ABE-A161-5F9CF8CB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9D8-A978-4FC8-A39C-C38095BD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C4C-523B-4E3B-9FA2-88566B7A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626-785F-4741-970F-FECE76AE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FE3-AA30-48F9-9257-546A9892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F2F0-1876-4AF8-948E-4A1FDBC8F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clu.org/pizza/" TargetMode="External"/><Relationship Id="rId2" Type="http://schemas.openxmlformats.org/officeDocument/2006/relationships/hyperlink" Target="http://www.aclu.org/pizza/" TargetMode="External"/><Relationship Id="rId3" Type="http://schemas.openxmlformats.org/officeDocument/2006/relationships/hyperlink" Target="http://www.aclu.org/pizza/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at155CokePepsiResults2007.xls" TargetMode="External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at155CokePepsiResults2007.xls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at155CokePepsiResults2007.xls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at155CokePepsiResults2007.xls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at155CokePepsiResults2007.xls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diction in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new poin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predict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idence interval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iction Interval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 example,    for X = “net winning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ructure of X is summariz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   P{X = -4} = 1/2   P{X = 0}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form:   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4" name=""/>
          <p:cNvGraphicFramePr/>
          <p:nvPr/>
        </p:nvGraphicFramePr>
        <p:xfrm>
          <a:off x="2133720" y="5105520"/>
          <a:ext cx="6476760" cy="1249200"/>
        </p:xfrm>
        <a:graphic>
          <a:graphicData uri="http://schemas.openxmlformats.org/drawingml/2006/table">
            <a:tbl>
              <a:tblPr/>
              <a:tblGrid>
                <a:gridCol w="1795320"/>
                <a:gridCol w="1560240"/>
                <a:gridCol w="1560600"/>
                <a:gridCol w="156060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 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 summarize “distribution” (i.e. full prob. Structure) by a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     are between 0 an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get a prob. funct’n as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8" name=""/>
          <p:cNvGraphicFramePr/>
          <p:nvPr/>
        </p:nvGraphicFramePr>
        <p:xfrm>
          <a:off x="2819520" y="2971800"/>
          <a:ext cx="5105160" cy="1249200"/>
        </p:xfrm>
        <a:graphic>
          <a:graphicData uri="http://schemas.openxmlformats.org/drawingml/2006/table">
            <a:tbl>
              <a:tblPr/>
              <a:tblGrid>
                <a:gridCol w="1447560"/>
                <a:gridCol w="684000"/>
                <a:gridCol w="990720"/>
                <a:gridCol w="990720"/>
                <a:gridCol w="9921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90720" y="5549760"/>
                <a:ext cx="1447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676520" y="5029200"/>
                <a:ext cx="304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distribution,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this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ing tabl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joint OR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4" name=""/>
          <p:cNvGraphicFramePr/>
          <p:nvPr/>
        </p:nvGraphicFramePr>
        <p:xfrm>
          <a:off x="3048120" y="2438280"/>
          <a:ext cx="5105160" cy="1249200"/>
        </p:xfrm>
        <a:graphic>
          <a:graphicData uri="http://schemas.openxmlformats.org/drawingml/2006/table">
            <a:tbl>
              <a:tblPr/>
              <a:tblGrid>
                <a:gridCol w="1447560"/>
                <a:gridCol w="684000"/>
                <a:gridCol w="990720"/>
                <a:gridCol w="990720"/>
                <a:gridCol w="9921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2} = P{X = 0} + P{X = -4} =1/6+1/2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5} = 0        (not in tabl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114800" y="2514600"/>
          <a:ext cx="3581280" cy="10350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1" name=""/>
          <p:cNvGraphicFramePr/>
          <p:nvPr/>
        </p:nvGraphicFramePr>
        <p:xfrm>
          <a:off x="5257800" y="2133720"/>
          <a:ext cx="3581280" cy="10350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7200" y="3352680"/>
                <a:ext cx="68580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352680" y="4495680"/>
                <a:ext cx="464832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of Discrete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approach to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ighted 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4120" y="2209680"/>
                <a:ext cx="213336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 flipV="1">
            <a:off x="5638680" y="3429000"/>
            <a:ext cx="2133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467120" y="3048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933960" y="3048120"/>
            <a:ext cx="152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42670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of Discrete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bove Die Rolling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of distributio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/3)(9) + (1/6)(0) +(1/2)(-4)  =  3 - 2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ver large number of plays) winnings per play = $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 should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hap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4495680" y="213372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90920" y="3171960"/>
                <a:ext cx="38098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H="1" flipV="1">
            <a:off x="3200400" y="403812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52880" y="403812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1/2)*5^2+(1/6)*1^2+(1/3)*8^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eptable Excel form,             e.g. for exam (but there are m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7" name=""/>
          <p:cNvGraphicFramePr/>
          <p:nvPr/>
        </p:nvGraphicFramePr>
        <p:xfrm>
          <a:off x="4648320" y="160020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09480" y="2971800"/>
                <a:ext cx="5943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924680" y="3429000"/>
                <a:ext cx="6112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 flipH="1">
            <a:off x="4800600" y="3733920"/>
            <a:ext cx="3124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89548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571640" y="3657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800600" y="3581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tandard deviation is square root of variance (same units as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sqrt((1/2)*5^2+(1/6)*1^2+(1/3)*8^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18" name=""/>
          <p:cNvGraphicFramePr/>
          <p:nvPr/>
        </p:nvGraphicFramePr>
        <p:xfrm>
          <a:off x="4724280" y="380988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  Final Exa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&amp; Tim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May 8,  8:00-11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Office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, May 3, 12:00 - 5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, May 7, 10:00 - 5: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by email appointment (earl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with you, to ex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8.5" x 11") sheet of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 &amp; Back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ought Provoking Movi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clu.or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pizz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2286000"/>
            <a:ext cx="4496040" cy="9907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4648320"/>
            <a:ext cx="4495680" cy="99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lass taste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d bias with rand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blin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ed which w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summariz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at155CokePepsiResults2007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l Eyeball im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Perhaps no consensus preference between Pepsi and Co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54% "significantly different from 50%? Result of "marketing research"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Perhaps no consensus as to which is swe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different from the past, when Pepsi was noticeably swe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y have driven old Pepsi challenge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ke figured this out, and matched Pepsi in swee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ost people believe they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ous cola drinkers, because now flavor 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ast, was sweetness driven, and there were many advertising caused mispercep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People tend to get it right or not???  (less cl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71% right.  Seems like it, but again is that significantly different from 50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Those who think they know tend to be right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ho thought they knew:   right 71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Those who don't think they know seem to right as well.  Wonder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ho didn't:   also right 70% of time?   Why?   "Natural sampling variation"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difference between people who thought they knew, and those who did not think 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Coin toss was fair (or is 57% heads significantly different from %50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accurate are those ideas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build tools to asses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“hypo tests” and “P-val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it this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and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at155CokePepsiResults2007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 T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rtions based   (i.e. think about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 Hyp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l Sampling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486400" y="3429000"/>
                <a:ext cx="16002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486400" y="4038480"/>
                <a:ext cx="16002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276720" y="518148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200400" y="5410080"/>
            <a:ext cx="38088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028480" y="3276720"/>
            <a:ext cx="2438280" cy="1447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920" y="5410080"/>
            <a:ext cx="380880" cy="6098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104800" y="5029200"/>
            <a:ext cx="144756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and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at155CokePepsiResults2007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-value:     P{what saw or m.c. |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.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assumption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.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compute P-valu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                          obs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523880" y="3429000"/>
                <a:ext cx="6400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9" name="" descr=""/>
          <p:cNvPicPr/>
          <p:nvPr/>
        </p:nvPicPr>
        <p:blipFill>
          <a:blip r:embed="rId2"/>
          <a:srcRect l="20541" t="46955" r="29344" b="20869"/>
          <a:stretch/>
        </p:blipFill>
        <p:spPr>
          <a:xfrm>
            <a:off x="3886200" y="5410080"/>
            <a:ext cx="1560600" cy="1125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00400" y="5410080"/>
            <a:ext cx="1066680" cy="10670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5410080"/>
            <a:ext cx="1981080" cy="10670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238880" y="5029200"/>
                <a:ext cx="1524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 flipV="1">
            <a:off x="5054760" y="5334120"/>
            <a:ext cx="0" cy="1295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105520" y="5410080"/>
            <a:ext cx="9144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47800" y="2133720"/>
            <a:ext cx="160020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914400" y="3276720"/>
            <a:ext cx="7391520" cy="13716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191120" y="2819520"/>
            <a:ext cx="1752480" cy="4572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5105520"/>
            <a:ext cx="121932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4800600"/>
            <a:ext cx="304812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2133720"/>
            <a:ext cx="34290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286000"/>
            <a:ext cx="4496040" cy="9907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4648320"/>
            <a:ext cx="4495680" cy="99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and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at155CokePepsiResults2007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 P-valu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                          obs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NORMDIST(ABS(phat – 0.5),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(2*SQRT(n),TR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20541" t="46955" r="29344" b="20869"/>
          <a:stretch/>
        </p:blipFill>
        <p:spPr>
          <a:xfrm>
            <a:off x="3886200" y="3048120"/>
            <a:ext cx="1560600" cy="1125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00400" y="3048120"/>
            <a:ext cx="1066680" cy="1066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3048120"/>
            <a:ext cx="1981080" cy="1066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238880" y="2743200"/>
                <a:ext cx="1524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V="1">
            <a:off x="5054760" y="2971800"/>
            <a:ext cx="0" cy="1295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105520" y="3124080"/>
            <a:ext cx="9144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980360" y="2819520"/>
            <a:ext cx="129564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943600" y="2590560"/>
            <a:ext cx="289548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s (P-value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at155CokePepsiResults2007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onsensus, Pepsi vs. Coke (0.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onsensus, Sweeter (0.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think know (e-5, very str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It Right (0.0006, very str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Coin Toss (0.21, seems 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t Right, Were Right  (0.003,y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t Not, Were Right  (0.09, perhaps too modes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teresting history of this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tte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si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e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si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we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got 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ro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even if thought 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 for “Pepsi challeng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w Co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m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to Pepsi Challe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teresting history of this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w Co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me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thought they hated 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er over changing the flav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ke Class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m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 for m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w Co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ke 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teresting history of this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te test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w Co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ke 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w Co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ferred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ke Class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w Co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swe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got it wrong (even if thought 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ar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ke Class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lowly morphed in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w Co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to a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aid at the end of today's class that you would be willing to take class time to "reteach" concepts that might still be unknown to u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in my case, it seems that probability and probability distribution is a hard concept for me to gras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irst midterm, I missed … and on the second midterm, I misse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eem to be able to grasp the other concepts involving binomial distribution, normal distribution, t-distribution, etc fairly well, but probability is really killing me on the exam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ould reteach these or brush up on them I would greatly appreciat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   (Not, And,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discrete pr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ding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distribution of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BINOMDIST &amp; Normal Appr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distribu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NORMDIST &amp;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Normal, for estimated s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TDIST &amp; T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ed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  ( 1 – P{opposite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   (glasses – foot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   (multiply conditional prob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 combination for real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urn a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al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hard ones in terms of easy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surprising disease test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ed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discrete pr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forget after so much other stuf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in Notes:   2/20,  2/22,  3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ighligh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lights of Dist’ns in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discrete pr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forget after so much other stuf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in Notes:   2/20,  2/22,  3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ighligh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4-23T02:33:11Z</dcterms:modified>
  <cp:revision>1045</cp:revision>
  <dc:subject/>
  <dc:title>Slide 1</dc:title>
</cp:coreProperties>
</file>