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94A-E822-43ED-96B4-E7A46F27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D39-8A15-49B4-BA92-7C8BC84C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5F6-D008-419E-BF46-EB3E96F0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7C1-DB44-48EE-94CF-6C2E434B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E00-9531-4C72-B968-C1C21EE7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1E3-2913-46E1-B54D-794FFD8D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92F-CC15-4C74-B2CA-9C55D24B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9D8-1246-477A-8C25-F0E090F9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8DF-DBDB-40D3-A115-E6534DCD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7E5-DE9C-418A-BF05-66399F08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4A6-DF45-4846-8FF8-160E077C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F94-CF1F-4275-A729-D1F5F981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EA5F-C849-484B-80B0-9A534C24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Means (mu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RMDIST &amp;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DIST &amp; T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2438280"/>
          <a:ext cx="8610480" cy="40388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Prop’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O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.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kn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IN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.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unkno’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5791320" y="20574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orrible Exce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unctions wor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these on formula shee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??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re is 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O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ricky to invert discrete pro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 use Normal Approx to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has its set of formula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Best guess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Conservative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INV or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IN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has its set of formula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Best guess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Conservative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IN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has its set of formula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 – P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NORMDIST (or BINOM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 Z-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 t-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has its set of formula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gle - Two Samples – 2 Way Tab’s – Reg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p’ns (Counts) - Normal (Meas’t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f. Int. - Sample Size – Hypo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hat out (make decis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i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&amp;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ll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asy A in thi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837720" y="2133720"/>
            <a:ext cx="3581640" cy="2666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  Final Ex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&amp; Tim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May 8,  8:00-1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May 3, 12:00 - 5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, May 7, 10:00 - 5: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by email appointment (earl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with you, to ex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8.5" x 11") sheet of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 &amp; Back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stein was once traveling from Princeton on a train when the conductor came down the aisle, punching the tickets of each passe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came to Einstein, Einstein reached in his vest pocket. He couldn't find his ticket, so he reached in his other pock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n't there, so he looked in his briefcase but couldn't find it. Then he looked in the seat by him. He couldn't fi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ductor said, "Dr. Einstein, I know who you are. We all know who you are. I'm sure you bought a ticket. Don't worry about it." Einstein nodded appreciat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ductor continued down the aisle punching ti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he was ready to move to the next car, he turned around and saw the great physicist down on his hands and knees looking under his seat for his ti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ductor rushed back and said, "Dr. Einstein, Dr. Einstein, don't worry. I know who you are. No problem. You don't need a ticket. I'm sure you bought one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stein looked at him and said, "Young man, I too know who I am. What I don't know is where I'm going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Hi Professor Marr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or the review session, can we please go over the hypothesis test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when to use the one or two sided tests, and the overall proces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hypothesis testing? Thank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view from April 19, d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ypo Testing:   Pop’n vs. S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just do quick reminder 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ere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-sided vs. 2-s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to put $21k  &amp;  $20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981080" y="3809880"/>
            <a:ext cx="6096240" cy="838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648320"/>
            <a:ext cx="327672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362320"/>
            <a:ext cx="335268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4648320"/>
            <a:ext cx="251460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00200" y="2743200"/>
                <a:ext cx="7086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71600" y="3200400"/>
                <a:ext cx="67057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−</m:t>
                            </m:r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371600" y="5450040"/>
                <a:ext cx="33526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248520" y="1219320"/>
            <a:ext cx="24382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1981080"/>
            <a:ext cx="1067040" cy="5335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1905120"/>
            <a:ext cx="243864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ere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-sided vs. 2-s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studied in detail on March 2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revie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lso consider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Variations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.e. how to twiddle problem to get opposit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286000"/>
            <a:ext cx="4496040" cy="9907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4648320"/>
            <a:ext cx="4495680" cy="99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Read problem carefully to distinguish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09680" y="3429000"/>
                <a:ext cx="50292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09680" y="5562720"/>
                <a:ext cx="4724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114800" y="38098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38098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56386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easy to label “more conclus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et partial cred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ext book problem 6.3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of the following situations, a significance test for a population mean,    is called for.  State the null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the alternative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 each cas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458200" y="2666880"/>
                <a:ext cx="433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iment is designe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 the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high soy diet on bone density of r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high so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ordinar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no question of “bigger” or “smalle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7200" y="3809880"/>
                <a:ext cx="52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419720"/>
                <a:ext cx="2514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0400" y="5029200"/>
                <a:ext cx="2666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80880" y="3316320"/>
                <a:ext cx="685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iment is designed to see if a high soy die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cr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e density of r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high so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ordinar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no question of “bigger” or “smalle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7200" y="3809880"/>
                <a:ext cx="52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76720" y="4419720"/>
                <a:ext cx="2514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19480" y="5029200"/>
                <a:ext cx="26287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3316320"/>
                <a:ext cx="685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ewspaper changed its format.  In a random sample of readers, ask opinions on scale of -2 = “new format much worse”, -1 = “new format somewhat worse”, 0 = “about same”, +1 = “new a somewhat better”, +2 = “new much be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opinion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98320" y="5035680"/>
                <a:ext cx="390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b 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son to choose one over other, so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question is of form:  “is the new form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00400" y="1828800"/>
                <a:ext cx="1922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00400" y="2590920"/>
                <a:ext cx="2019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inations in a large history class are scaled after grading so that the mean score is 75.  A teaching assistant thinks that his students hav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erage score than the class as a whole.  His students can be considered as a sample from the population of all students he might teach, so he compares their score with 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verage score for all students of this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5334120"/>
                <a:ext cx="424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867280"/>
                <a:ext cx="19051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181480" y="5815080"/>
                <a:ext cx="1981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inations in a large history class are scaled after grading so that the mean score is 75.  A teaching assistant thinks that his students hav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erage score from the class as a whole.  His students can be considered as a sample from the population of all students he might teach, so he compares their score with 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verage score for all students of this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9480" y="5334120"/>
                <a:ext cx="424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5867280"/>
                <a:ext cx="19051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164200" y="5815080"/>
                <a:ext cx="201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extbook problem     6.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each of the following research questions into appropriate      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ntify the 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ach hypothesis (generally useful, so already did this abo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324480" y="3048120"/>
                <a:ext cx="4003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772400" y="3048120"/>
                <a:ext cx="476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discrete p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ding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earcher randomly divides 6-th graders into 2 groups for PE Class, and teached volleyball skills to both.  She encourages Group A, but acts cool towards Group B.  She hopes that encouragement will result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 test for group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257800"/>
                <a:ext cx="569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7200" y="5715000"/>
                <a:ext cx="5684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Set u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 to be 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92480" y="1949400"/>
                <a:ext cx="2100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24080" y="2819520"/>
                <a:ext cx="2306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earcher randomly divides 6-th graders into 2 groups for PE Class, and teached volleyball skills to both.  She encourages Group A, but acts cool towards Group B.  She wonders whether encouragement will result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 test for group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7200" y="5257800"/>
                <a:ext cx="569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7200" y="5715000"/>
                <a:ext cx="5684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Set u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 to be 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192480" y="1949400"/>
                <a:ext cx="2100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106800" y="2819520"/>
                <a:ext cx="2341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believes there i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between GPA and esteem for students.  To test this, she gathers GPA and esteem score data at a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correlation between GPS &amp; este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9480" y="4495680"/>
                <a:ext cx="4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33920" y="5008680"/>
                <a:ext cx="18288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657600" y="5715000"/>
                <a:ext cx="1974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investigate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tenti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between GPA and esteem for students.  To test this, she gathers GPA and esteem score data at a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correlation between GPS &amp; este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09480" y="4495680"/>
                <a:ext cx="4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733920" y="5008680"/>
                <a:ext cx="18288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657600" y="5715000"/>
                <a:ext cx="1974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iologist asks a sample of students which subject they like best.  She suspect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centage of females, than males, will name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Fe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90720" y="3962520"/>
                <a:ext cx="60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429000" y="5181480"/>
                <a:ext cx="2527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52680" y="5867280"/>
                <a:ext cx="28195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990720" y="4495680"/>
                <a:ext cx="6094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iologist asks a sample of students which subject they like best. Is ther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percentage of females &amp; males, that name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Fe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90720" y="3962520"/>
                <a:ext cx="60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429000" y="5181480"/>
                <a:ext cx="2527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352680" y="5867280"/>
                <a:ext cx="28195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90720" y="4495680"/>
                <a:ext cx="6094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BINOMDIST &amp; Normal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distribu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NORMDIST &amp;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Normal, for estimated s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TDIST &amp; T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you need to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aking 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aced with a wor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deciding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nowing which formula to 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:   Word problems on 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to keep in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a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mal Me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(p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Approx to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d usually for Hypo test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Administrator</cp:lastModifiedBy>
  <dcterms:modified xsi:type="dcterms:W3CDTF">2007-04-26T19:18:05Z</dcterms:modified>
  <cp:revision>1065</cp:revision>
  <dc:subject/>
  <dc:title>Slide 1</dc:title>
</cp:coreProperties>
</file>