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59C-7EA9-49B8-AD0C-4FE9E27D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1E9-C2BB-41EE-BAA0-2C8C1087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5A2-F758-417A-A925-AC6E3B0B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E7A-0D96-4E2A-A0D4-DE94E153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AD35-7FD9-44EC-B9F4-1F2FBA3E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AD83-DBE7-4E55-8F09-4D9AE228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D46F-2485-424B-9645-2AB70EA1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5421-598A-48CF-AE8C-D8DB3DD2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B9DE-60A2-4EE0-8420-3B0206B0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572D-A090-4BBA-9C91-131DA5C2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6B89-BDC9-41E9-834F-11E162F8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B03-EE3C-4DDE-AD79-81C078D4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C72-494E-4104-B72A-CC548E3F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32FD-36AE-420C-841D-335E29D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254B-19AB-48BF-BC2C-431DB25D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9109-30CA-438D-8771-3B4B5ECF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4679-4089-4933-8956-646B13D3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852-B58D-4F0B-9E8F-1BFF75F1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990-F2CF-433C-93DA-83D9E3CE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A08-FAD1-4726-9917-FC66B4D8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D4C-6D16-492B-994F-E9A8A0AA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AE0-EE10-49C2-9D00-B4FF658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9FA-3F27-4CF3-A8D0-DD983FB4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67A-4F46-4DAB-819D-3D60224C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94A6-D6CD-4078-8E37-87AB08B7CC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5A0E-6513-4A2A-9751-6E1E56F5A8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o-Arbitrage Testing with Single Factor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esented by Meg Che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62400" y="80316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nce, the likelihood function under the nul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335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192320" y="1371600"/>
                <a:ext cx="5360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</m:e>
                    </m:nary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20040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219320" y="2057400"/>
                <a:ext cx="4267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max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066680" y="28954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(x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s a constant across all the asse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(.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s multivariate gaussian density fun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43000" y="3809880"/>
                <a:ext cx="3581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34880" y="803160"/>
            <a:ext cx="900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 use weekly values for the annualized zero-coupon yiel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ith six different maturities (0.5, 1, 2, 3, 5, 10 year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enerally speaking, almost each bond/security comes w/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upons or dividends, except treasury bill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nce there is no generally accepted “best” practice for extract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zero coupon prices from coupon bonds, we construct our data b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ur methods:   1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moothed Fama-Bli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nsmoothed Fama-Bli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cCulloch-Kw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elson-Sieg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907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36720" y="121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2120" y="609480"/>
            <a:ext cx="815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test our null hypothesis, we propose to use empiric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kelihood Ratio (LR) test, since we’ve already construc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kelihood both under the alternative and the nul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 interpolate all the estimates associated with the chosen gri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compute the likelihood at each observ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get LR test statistics distribution under the null hypothesis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 adopt stationary bootstrap method proposed by Roma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(1994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procedures are described as follow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27280" y="762120"/>
            <a:ext cx="73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 use first order Euler approximation to fit the mod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nder the null, i.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700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60600" y="1676520"/>
                <a:ext cx="518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Δ</m:t>
                    </m:r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825840" y="2286000"/>
            <a:ext cx="777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nce we don’t literally have maximum likelihood estim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n every data point, there still exists some dependence in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the residuals extracted from the abov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720" y="3429000"/>
            <a:ext cx="8850960" cy="27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ave all the residuals estimated from each asset into a matri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y columns and denote it by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b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.i.d.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andom variable generated from Unifor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stribution U(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enerate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 baseline="-30000">
                <a:solidFill>
                  <a:srgbClr val="40458c"/>
                </a:solidFill>
                <a:latin typeface="Times New Roman"/>
                <a:ea typeface="Times New Roman"/>
              </a:rPr>
              <a:t>i,m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{Y</a:t>
            </a:r>
            <a:r>
              <a:rPr b="0" i="1" lang="en-US" sz="2400" spc="-1" strike="noStrike" baseline="-30000">
                <a:solidFill>
                  <a:srgbClr val="40458c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Y</a:t>
            </a:r>
            <a:r>
              <a:rPr b="0" i="1" lang="en-US" sz="2400" spc="-1" strike="noStrike" baseline="-30000">
                <a:solidFill>
                  <a:srgbClr val="40458c"/>
                </a:solidFill>
                <a:latin typeface="Times New Roman"/>
                <a:ea typeface="Times New Roman"/>
              </a:rPr>
              <a:t>i+1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…,Y</a:t>
            </a:r>
            <a:r>
              <a:rPr b="0" i="1" lang="en-US" sz="2400" spc="-1" strike="noStrike" baseline="-30000">
                <a:solidFill>
                  <a:srgbClr val="40458c"/>
                </a:solidFill>
                <a:latin typeface="Times New Roman"/>
                <a:ea typeface="Times New Roman"/>
              </a:rPr>
              <a:t>i+m-1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}’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, the block consisting o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rows starting from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d the r.v.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is drawn from geometr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stribution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(1-q)</a:t>
            </a:r>
            <a:r>
              <a:rPr b="0" i="1" lang="en-US" sz="24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m-1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for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=1,2,…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 wher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(0,1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16440" y="727200"/>
            <a:ext cx="8835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peat step 3 and 4, stack each block matrix end to end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ill the number of columns and rows of the newly generated Y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e equal to 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t Y* back to the Euler euqation to get the new LH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mplement local MLE both under the null and the alternativ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plicate step3~step7 for sufficiently enough time (arou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,000), then the statistics distribution will then be construct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7816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010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1295280" y="990720"/>
          <a:ext cx="6096240" cy="5105160"/>
        </p:xfrm>
        <a:graphic>
          <a:graphicData uri="http://schemas.openxmlformats.org/drawingml/2006/table">
            <a:tbl>
              <a:tblPr/>
              <a:tblGrid>
                <a:gridCol w="1828800"/>
                <a:gridCol w="2235240"/>
                <a:gridCol w="2032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nsmooth Fama-Blis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elson-Siege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L(1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34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16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L(0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47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31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*=L(1)-L(0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2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o. of replication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ob.&gt;T*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culloch-Kwo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mooth Fama-Blis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L(1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603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13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L(0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628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-822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*=L(1)-L(0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5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o. of replication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0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ob.&gt;T*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26120" y="10666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lusion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 far, based on our result, the hypothesis o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-arbitrage condition tested with six diffe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ields to maturities is not reject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t in another way, the no-arbitrage restri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y still holds in U.S. Treasury Bill and Bond marke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3640" y="685800"/>
            <a:ext cx="77043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-arbitrage condition is one of the most popular   assumptions in the area of asset pricing.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f changes in the price of the asset are driven by som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underlying factors, the excess return should be consist of al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 prices of the associated underlying factors risk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o be free from any model specification, nonparametric estimation method is adopted to recover the embedded information directly from the data. 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91000" y="422280"/>
            <a:ext cx="720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Bond Pricing Theo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uppose the economy can be driven by a state variable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efined in a stochastic differential equation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397160"/>
            <a:ext cx="44960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90720" y="2286000"/>
                <a:ext cx="412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964080" y="3165480"/>
            <a:ext cx="705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onsider the dynamics of an asset price at current time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of a claim to terminal payoff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P(T)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at some future date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s follow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4336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81080" y="4572000"/>
                <a:ext cx="3600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49400" y="52228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By Ito’s lemma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9383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428840" y="762120"/>
                <a:ext cx="420984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661320" y="2174760"/>
            <a:ext cx="788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w, consider another asset price w/ terminal payoff as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P*(T)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ithin the same framework, we can write this dynamic proce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812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35280" y="3581280"/>
                <a:ext cx="341460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/>
                        </m:sSub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  <m:sup/>
                        </m:sSub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/>
                        </m:sSubSup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13600" y="34596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f we want to make a portfolio Z to hedge against the fa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risk with these two assets, then portfolio Z can be represen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s follow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0028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324080" y="1676520"/>
                <a:ext cx="459108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πP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/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p/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πμ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μ</m:t>
                            </m:r>
                          </m:e>
                          <m:sup/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πσ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914400" y="326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re portfolio weights on each asset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75600" y="3699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812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600200" y="4340160"/>
                <a:ext cx="3733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08280" y="556272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n portfolio Z becomes a risk free asse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ence, the drift term of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Z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hould be equal to risk-free rat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0680" y="8031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.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444680" y="1523880"/>
                <a:ext cx="24447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μ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μ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2963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631880" y="2514600"/>
                <a:ext cx="34401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μ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69960" y="3470400"/>
            <a:ext cx="71308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tice that if the underlying market is arbitrage free, th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relationship holds for any arbitrary asset.  This addre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our null hypothesi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.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30000">
                <a:solidFill>
                  <a:srgbClr val="660066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x)= </a:t>
            </a:r>
            <a:r>
              <a:rPr b="0" i="1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30000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x)= …=</a:t>
            </a:r>
            <a:r>
              <a:rPr b="0" i="1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30000">
                <a:solidFill>
                  <a:srgbClr val="660066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x)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25600" y="838080"/>
            <a:ext cx="813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ypothesis tes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e choose short rate as the factor, and use the three-mon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yield to maturity as the proxy for the short ra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uppose we have P different assets to be estimated, and each 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of them follow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814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447920" y="3505320"/>
                <a:ext cx="5229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d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600200" y="4495680"/>
                <a:ext cx="5410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local constant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603000" y="5257800"/>
            <a:ext cx="80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iven each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x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e can use gaussian process to describe the abo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iffusion proces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40880" y="80316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nder the alternative hypothesi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990720" y="1600200"/>
                <a:ext cx="5964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066680" y="2590920"/>
                <a:ext cx="33530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lim>
                    </m:limLow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25764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382760" y="3657600"/>
                <a:ext cx="340668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⋅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Gaussian density function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⋅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kernel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36200" y="803160"/>
            <a:ext cx="757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nder the null hypothesi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 no-arbitrage restriction holds, the expression below is tr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r any arbitrary asset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9088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6120" y="2514600"/>
                <a:ext cx="31194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μ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733320" y="3470400"/>
            <a:ext cx="79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 that given each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the risk premium of each asset should b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rtional to its diffusion term with a constant term across a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se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27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676520" y="4724280"/>
                <a:ext cx="58658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dt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W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00:04:20Z</dcterms:created>
  <dc:creator>kwanjai</dc:creator>
  <dc:description/>
  <dc:language>en-US</dc:language>
  <cp:lastModifiedBy>kwanjai</cp:lastModifiedBy>
  <dcterms:modified xsi:type="dcterms:W3CDTF">2001-04-17T12:35:54Z</dcterms:modified>
  <cp:revision>8</cp:revision>
  <dc:subject/>
  <dc:title>No-Arbitrage Testing with Single Factor</dc:title>
</cp:coreProperties>
</file>