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F4CB-52A7-470A-B123-EF119CBF7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growth curv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the line you’re slower than average—above and you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235-67A5-4D47-9FD2-AD6CAF29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B5A-8D04-4651-98ED-9358602A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ABA-C557-448A-A8EC-CF6EDA98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DCC-408A-4707-9E2D-D0448EF5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275-6461-415E-934E-6BEB323C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708-3539-4DC5-843A-7D0528A5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BFE-8D92-4F85-9F89-A77A7483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A32-1258-426A-89E5-84DF057C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A50-B7C4-4FBD-A76A-05A4653A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032-410A-4069-8600-1ADA780D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6DF-21E4-43B6-9A28-36CE5429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793-0274-4356-AA12-A0B2950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DFC0-BC6C-445C-8F98-37C0D23CB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25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ve Regist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2576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gid metric of physical time may not be directly relevant to the internal dynamics of many real-lif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, there can be a sort of biological or meteorological time scale that can be nonlinearly related to physical tim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ight Accel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638680" y="2209680"/>
          <a:ext cx="2438640" cy="23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209680"/>
                    <a:ext cx="243864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809640" y="1981080"/>
          <a:ext cx="51339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9640" y="1981080"/>
                    <a:ext cx="51339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219320" y="5257800"/>
            <a:ext cx="7391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876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94240" y="4952880"/>
            <a:ext cx="74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as done with lambda= 0.01 and breakvalues 4,7,10,12,14,16,1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ly, you could min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llows for differing weights over the intervals, across derivatives, and over vectors if the function is vector-valu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67057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ternate minimizing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the sample functions are multiples of the target function (the mean function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 the log of the smallest eigenvalu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se really are multiples, the smallest eigenvalue should be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3168720"/>
            <a:ext cx="56386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verman includes the warping function as part of his principal component analysis.  He uses a parametric model for the warping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koe and Chiba did a much earlier version by minimizing a weighted distance between curves (with appropriate restrictions on h) using dynamic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eip and Gasser (1992) went through a detailed analysis of the statistical properties of using warping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Variation vs Phase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ft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dmark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General Registration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ift Reg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oal is to estimate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 for each curve such that the criteria (REGSSE) is mini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crustes 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s estimating a delta for each curve.  Then, one reestimates  with the newly registered curves the mean curve and repeats the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20840" y="3772080"/>
            <a:ext cx="5892840" cy="59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2895480"/>
            <a:ext cx="541476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erical method for a simple shi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we estimate each del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ton-Raph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Choose an initial delta, perhaps using visual landma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Modify delta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Update the mean and continue Procrustes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text, R &amp; S use this method to improve visual alignment of the pinch force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3543480"/>
            <a:ext cx="60962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mark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 important structural events (characteristic poi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this is done visually.  Other times, events in the derivative (minima and maxima) may be use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we use these events to align the cur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ime Warping 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a strictly increasing transformation of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t) where h(0)=0 and h(T)=T for our time in [0,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use a reference function (often the mean) and h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feature f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ser et al use average times to do this.  So, there is no target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registered sample functions will be x(h(t))=x*(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together will yield the structural aver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&amp;S, the example uses linear extrapolation to fit h(t) through each of the adjusted values for the handwriting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data from Ramsay’s “ A guide to curve registration.”  Here a smooth interpolation i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other example is Gasser et all using piecewise cubic polynomials to piece together human growth curve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problem with curve registration is the regularity of landmark features across the sample.  Sometimes there is ambiguity in maxima and minima and visual or intuitive methods must be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is obtaining a strictly increasing function that aligns h(0)=0 and h(T)=T.  We restrict h to be in this family and to be twice different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has the solu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14600" y="3402000"/>
            <a:ext cx="1523880" cy="38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33720" y="5181480"/>
            <a:ext cx="4572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 warping using SD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sey and Wang mention that an alternative model would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everything is as before except z is a stochasti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take B to be Brownian motion (w.o. drift) there is 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y be “… envisaged as a clock that is running fast or slow from instant to instant, constantly undergoing a percentage change in rate in a memoryless chaotic manner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5105520" cy="3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571500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w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, we look for a w(t) that will min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mbda is a penalty on the second derivative of h(t), which ensures a smooth 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say  and Li recommend an order 1 B-spline to approximate 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llows for a closed form solution of h(t)—which, while not absolutely necessary, is desi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5867280" cy="500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23880" y="3809880"/>
            <a:ext cx="236232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06:32Z</dcterms:created>
  <dc:creator>fricks</dc:creator>
  <dc:description/>
  <dc:language>en-US</dc:language>
  <cp:lastModifiedBy>fricks</cp:lastModifiedBy>
  <dcterms:modified xsi:type="dcterms:W3CDTF">2001-02-13T03:17:30Z</dcterms:modified>
  <cp:revision>5</cp:revision>
  <dc:subject/>
  <dc:title>Curve Registration </dc:title>
</cp:coreProperties>
</file>