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DEF-265A-491C-82A4-E7BB0DD3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F56-7CC9-4B9E-B4F0-AF86953F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A9A-A568-4E10-A7D9-66130A4B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4A2-D659-472E-A988-B2AA9FCF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B83-355A-48C6-B4F4-2A36263F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9DD-43A2-4B88-8919-2E0D26B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199-49B4-4C04-83FD-542A90A2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AF8-32E2-4049-9C50-BBFD4D72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F3B-91B7-497A-BE95-5A23A8A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557-09A6-4D19-BD92-FCCA708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309-3923-4010-AC5F-A8417B5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C87-8B4E-4762-862F-5531034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0B7-6CAB-43C6-9E6B-C9962B73B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functional trai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Joel Kingsolver, B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s as functions: functional, function-valued, infinite-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mer in evolutionary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, inheritance, selection,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 to analysing functional tra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genetic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ng evolutionary responses &amp;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evolutionar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an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: P = G 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gradien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z’ - z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[ln(W)]/dz , where W =  mean population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ar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n an adaptive land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47920" y="1828800"/>
            <a:ext cx="6476760" cy="3733920"/>
            <a:chOff x="1447920" y="1828800"/>
            <a:chExt cx="6476760" cy="3733920"/>
          </a:xfrm>
        </p:grpSpPr>
        <p:sp>
          <p:nvSpPr>
            <p:cNvPr id="113" name=""/>
            <p:cNvSpPr/>
            <p:nvPr/>
          </p:nvSpPr>
          <p:spPr>
            <a:xfrm>
              <a:off x="1447920" y="18288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56272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52480" y="2247840"/>
            <a:ext cx="5486400" cy="3314880"/>
          </a:xfrm>
          <a:custGeom>
            <a:avLst/>
            <a:gdLst/>
            <a:ahLst/>
            <a:rect l="l" t="t" r="r" b="b"/>
            <a:pathLst>
              <a:path w="3456" h="2088">
                <a:moveTo>
                  <a:pt x="0" y="2088"/>
                </a:moveTo>
                <a:cubicBezTo>
                  <a:pt x="80" y="2048"/>
                  <a:pt x="160" y="2008"/>
                  <a:pt x="240" y="1944"/>
                </a:cubicBezTo>
                <a:cubicBezTo>
                  <a:pt x="320" y="1880"/>
                  <a:pt x="408" y="1784"/>
                  <a:pt x="480" y="1704"/>
                </a:cubicBezTo>
                <a:cubicBezTo>
                  <a:pt x="552" y="1624"/>
                  <a:pt x="600" y="1560"/>
                  <a:pt x="672" y="1464"/>
                </a:cubicBezTo>
                <a:cubicBezTo>
                  <a:pt x="744" y="1368"/>
                  <a:pt x="848" y="1224"/>
                  <a:pt x="912" y="1128"/>
                </a:cubicBezTo>
                <a:cubicBezTo>
                  <a:pt x="976" y="1032"/>
                  <a:pt x="1000" y="992"/>
                  <a:pt x="1056" y="888"/>
                </a:cubicBezTo>
                <a:cubicBezTo>
                  <a:pt x="1112" y="784"/>
                  <a:pt x="1192" y="616"/>
                  <a:pt x="1248" y="504"/>
                </a:cubicBezTo>
                <a:cubicBezTo>
                  <a:pt x="1304" y="392"/>
                  <a:pt x="1336" y="288"/>
                  <a:pt x="1392" y="216"/>
                </a:cubicBezTo>
                <a:cubicBezTo>
                  <a:pt x="1448" y="144"/>
                  <a:pt x="1520" y="104"/>
                  <a:pt x="1584" y="72"/>
                </a:cubicBezTo>
                <a:cubicBezTo>
                  <a:pt x="1648" y="40"/>
                  <a:pt x="1712" y="32"/>
                  <a:pt x="1776" y="24"/>
                </a:cubicBezTo>
                <a:cubicBezTo>
                  <a:pt x="1840" y="16"/>
                  <a:pt x="1904" y="0"/>
                  <a:pt x="1968" y="24"/>
                </a:cubicBezTo>
                <a:cubicBezTo>
                  <a:pt x="2032" y="48"/>
                  <a:pt x="2104" y="112"/>
                  <a:pt x="2160" y="168"/>
                </a:cubicBezTo>
                <a:cubicBezTo>
                  <a:pt x="2216" y="224"/>
                  <a:pt x="2264" y="288"/>
                  <a:pt x="2304" y="360"/>
                </a:cubicBezTo>
                <a:cubicBezTo>
                  <a:pt x="2344" y="432"/>
                  <a:pt x="2368" y="520"/>
                  <a:pt x="2400" y="600"/>
                </a:cubicBezTo>
                <a:cubicBezTo>
                  <a:pt x="2432" y="680"/>
                  <a:pt x="2448" y="744"/>
                  <a:pt x="2496" y="840"/>
                </a:cubicBezTo>
                <a:cubicBezTo>
                  <a:pt x="2544" y="936"/>
                  <a:pt x="2632" y="1080"/>
                  <a:pt x="2688" y="1176"/>
                </a:cubicBezTo>
                <a:cubicBezTo>
                  <a:pt x="2744" y="1272"/>
                  <a:pt x="2784" y="1336"/>
                  <a:pt x="2832" y="1416"/>
                </a:cubicBezTo>
                <a:cubicBezTo>
                  <a:pt x="2880" y="1496"/>
                  <a:pt x="2920" y="1576"/>
                  <a:pt x="2976" y="1656"/>
                </a:cubicBezTo>
                <a:cubicBezTo>
                  <a:pt x="3032" y="1736"/>
                  <a:pt x="3120" y="1840"/>
                  <a:pt x="3168" y="1896"/>
                </a:cubicBezTo>
                <a:cubicBezTo>
                  <a:pt x="3216" y="1952"/>
                  <a:pt x="3216" y="1960"/>
                  <a:pt x="3264" y="1992"/>
                </a:cubicBezTo>
                <a:cubicBezTo>
                  <a:pt x="3312" y="2024"/>
                  <a:pt x="3424" y="2072"/>
                  <a:pt x="3456" y="20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6019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874800" y="3389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fitness,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971800" y="39621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 = G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19320" y="2133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may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a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(t) =   G(t,s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990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05320" y="457200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ng genetics of functional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G: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hypotheses about G:  eigenfunct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and the response to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erature &amp; caterpillar growth rate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mal performance curves (TPCs)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(t), where t =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Var-Cov for RG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2206800"/>
          <a:ext cx="777060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6800"/>
                    <a:ext cx="77706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55760" y="1679400"/>
            <a:ext cx="6426000" cy="34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3200" y="56386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s = orthogonal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ng genetics of functional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G: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ological hypotheses about G:  eigenfunct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and the response to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86120" y="149400"/>
            <a:ext cx="3365280" cy="6553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77120" y="762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-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895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ter-c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50292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st-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functional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of ag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trajectories; life history; 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of environmental st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ological ‘reaction norm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s of 2-D or 3-D shape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87640" y="276120"/>
            <a:ext cx="3162240" cy="6299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6200000">
            <a:off x="900360" y="3061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gen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9144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-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2971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ter-c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50292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st-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2440" y="1463760"/>
            <a:ext cx="8432640" cy="392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62320" y="533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rpillar growth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85800" y="685800"/>
            <a:ext cx="7391520" cy="5488920"/>
            <a:chOff x="685800" y="685800"/>
            <a:chExt cx="7391520" cy="5488920"/>
          </a:xfrm>
        </p:grpSpPr>
        <p:sp>
          <p:nvSpPr>
            <p:cNvPr id="151" name=""/>
            <p:cNvSpPr/>
            <p:nvPr/>
          </p:nvSpPr>
          <p:spPr>
            <a:xfrm>
              <a:off x="1523880" y="68580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533412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080" y="2818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41972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300400" y="1865160"/>
            <a:ext cx="4814640" cy="2578320"/>
          </a:xfrm>
          <a:custGeom>
            <a:avLst/>
            <a:gdLst/>
            <a:ahLst/>
            <a:rect l="l" t="t" r="r" b="b"/>
            <a:pathLst>
              <a:path w="3033" h="1624">
                <a:moveTo>
                  <a:pt x="0" y="1615"/>
                </a:moveTo>
                <a:cubicBezTo>
                  <a:pt x="50" y="1609"/>
                  <a:pt x="115" y="1602"/>
                  <a:pt x="162" y="1579"/>
                </a:cubicBezTo>
                <a:cubicBezTo>
                  <a:pt x="232" y="1544"/>
                  <a:pt x="148" y="1575"/>
                  <a:pt x="216" y="1552"/>
                </a:cubicBezTo>
                <a:cubicBezTo>
                  <a:pt x="248" y="1520"/>
                  <a:pt x="284" y="1506"/>
                  <a:pt x="324" y="1480"/>
                </a:cubicBezTo>
                <a:cubicBezTo>
                  <a:pt x="333" y="1474"/>
                  <a:pt x="351" y="1462"/>
                  <a:pt x="351" y="1462"/>
                </a:cubicBezTo>
                <a:cubicBezTo>
                  <a:pt x="399" y="1390"/>
                  <a:pt x="336" y="1477"/>
                  <a:pt x="396" y="1417"/>
                </a:cubicBezTo>
                <a:cubicBezTo>
                  <a:pt x="404" y="1409"/>
                  <a:pt x="406" y="1398"/>
                  <a:pt x="414" y="1390"/>
                </a:cubicBezTo>
                <a:cubicBezTo>
                  <a:pt x="448" y="1356"/>
                  <a:pt x="488" y="1325"/>
                  <a:pt x="522" y="1291"/>
                </a:cubicBezTo>
                <a:cubicBezTo>
                  <a:pt x="531" y="1282"/>
                  <a:pt x="540" y="1273"/>
                  <a:pt x="549" y="1264"/>
                </a:cubicBezTo>
                <a:cubicBezTo>
                  <a:pt x="564" y="1249"/>
                  <a:pt x="603" y="1228"/>
                  <a:pt x="603" y="1228"/>
                </a:cubicBezTo>
                <a:cubicBezTo>
                  <a:pt x="645" y="1165"/>
                  <a:pt x="621" y="1186"/>
                  <a:pt x="666" y="1156"/>
                </a:cubicBezTo>
                <a:cubicBezTo>
                  <a:pt x="692" y="1117"/>
                  <a:pt x="721" y="1085"/>
                  <a:pt x="747" y="1048"/>
                </a:cubicBezTo>
                <a:cubicBezTo>
                  <a:pt x="783" y="998"/>
                  <a:pt x="745" y="1014"/>
                  <a:pt x="801" y="958"/>
                </a:cubicBezTo>
                <a:cubicBezTo>
                  <a:pt x="819" y="940"/>
                  <a:pt x="844" y="927"/>
                  <a:pt x="855" y="904"/>
                </a:cubicBezTo>
                <a:cubicBezTo>
                  <a:pt x="878" y="858"/>
                  <a:pt x="862" y="875"/>
                  <a:pt x="900" y="850"/>
                </a:cubicBezTo>
                <a:cubicBezTo>
                  <a:pt x="916" y="802"/>
                  <a:pt x="932" y="760"/>
                  <a:pt x="954" y="715"/>
                </a:cubicBezTo>
                <a:cubicBezTo>
                  <a:pt x="971" y="681"/>
                  <a:pt x="974" y="691"/>
                  <a:pt x="999" y="661"/>
                </a:cubicBezTo>
                <a:cubicBezTo>
                  <a:pt x="1027" y="627"/>
                  <a:pt x="1047" y="580"/>
                  <a:pt x="1071" y="544"/>
                </a:cubicBezTo>
                <a:cubicBezTo>
                  <a:pt x="1110" y="486"/>
                  <a:pt x="1068" y="489"/>
                  <a:pt x="1134" y="445"/>
                </a:cubicBezTo>
                <a:cubicBezTo>
                  <a:pt x="1140" y="436"/>
                  <a:pt x="1144" y="426"/>
                  <a:pt x="1152" y="418"/>
                </a:cubicBezTo>
                <a:cubicBezTo>
                  <a:pt x="1160" y="410"/>
                  <a:pt x="1172" y="408"/>
                  <a:pt x="1179" y="400"/>
                </a:cubicBezTo>
                <a:cubicBezTo>
                  <a:pt x="1206" y="370"/>
                  <a:pt x="1228" y="326"/>
                  <a:pt x="1251" y="292"/>
                </a:cubicBezTo>
                <a:cubicBezTo>
                  <a:pt x="1258" y="281"/>
                  <a:pt x="1270" y="275"/>
                  <a:pt x="1278" y="265"/>
                </a:cubicBezTo>
                <a:cubicBezTo>
                  <a:pt x="1317" y="214"/>
                  <a:pt x="1350" y="156"/>
                  <a:pt x="1386" y="103"/>
                </a:cubicBezTo>
                <a:cubicBezTo>
                  <a:pt x="1404" y="76"/>
                  <a:pt x="1440" y="67"/>
                  <a:pt x="1467" y="49"/>
                </a:cubicBezTo>
                <a:cubicBezTo>
                  <a:pt x="1483" y="38"/>
                  <a:pt x="1503" y="37"/>
                  <a:pt x="1521" y="31"/>
                </a:cubicBezTo>
                <a:cubicBezTo>
                  <a:pt x="1530" y="28"/>
                  <a:pt x="1548" y="22"/>
                  <a:pt x="1548" y="22"/>
                </a:cubicBezTo>
                <a:cubicBezTo>
                  <a:pt x="1620" y="25"/>
                  <a:pt x="1704" y="0"/>
                  <a:pt x="1764" y="40"/>
                </a:cubicBezTo>
                <a:cubicBezTo>
                  <a:pt x="1792" y="59"/>
                  <a:pt x="1817" y="84"/>
                  <a:pt x="1845" y="103"/>
                </a:cubicBezTo>
                <a:cubicBezTo>
                  <a:pt x="1854" y="109"/>
                  <a:pt x="1872" y="121"/>
                  <a:pt x="1872" y="121"/>
                </a:cubicBezTo>
                <a:cubicBezTo>
                  <a:pt x="1904" y="169"/>
                  <a:pt x="1882" y="140"/>
                  <a:pt x="1944" y="202"/>
                </a:cubicBezTo>
                <a:cubicBezTo>
                  <a:pt x="1959" y="217"/>
                  <a:pt x="1965" y="241"/>
                  <a:pt x="1980" y="256"/>
                </a:cubicBezTo>
                <a:cubicBezTo>
                  <a:pt x="2009" y="285"/>
                  <a:pt x="2048" y="324"/>
                  <a:pt x="2061" y="364"/>
                </a:cubicBezTo>
                <a:cubicBezTo>
                  <a:pt x="2077" y="413"/>
                  <a:pt x="2096" y="474"/>
                  <a:pt x="2124" y="517"/>
                </a:cubicBezTo>
                <a:cubicBezTo>
                  <a:pt x="2142" y="590"/>
                  <a:pt x="2158" y="672"/>
                  <a:pt x="2187" y="742"/>
                </a:cubicBezTo>
                <a:cubicBezTo>
                  <a:pt x="2222" y="826"/>
                  <a:pt x="2272" y="910"/>
                  <a:pt x="2322" y="985"/>
                </a:cubicBezTo>
                <a:cubicBezTo>
                  <a:pt x="2333" y="1002"/>
                  <a:pt x="2337" y="1023"/>
                  <a:pt x="2349" y="1039"/>
                </a:cubicBezTo>
                <a:cubicBezTo>
                  <a:pt x="2372" y="1069"/>
                  <a:pt x="2409" y="1088"/>
                  <a:pt x="2430" y="1120"/>
                </a:cubicBezTo>
                <a:cubicBezTo>
                  <a:pt x="2463" y="1169"/>
                  <a:pt x="2505" y="1213"/>
                  <a:pt x="2547" y="1255"/>
                </a:cubicBezTo>
                <a:cubicBezTo>
                  <a:pt x="2577" y="1285"/>
                  <a:pt x="2592" y="1312"/>
                  <a:pt x="2628" y="1336"/>
                </a:cubicBezTo>
                <a:cubicBezTo>
                  <a:pt x="2667" y="1394"/>
                  <a:pt x="2713" y="1441"/>
                  <a:pt x="2772" y="1480"/>
                </a:cubicBezTo>
                <a:cubicBezTo>
                  <a:pt x="2811" y="1539"/>
                  <a:pt x="2886" y="1575"/>
                  <a:pt x="2952" y="1597"/>
                </a:cubicBezTo>
                <a:cubicBezTo>
                  <a:pt x="2989" y="1609"/>
                  <a:pt x="2988" y="1624"/>
                  <a:pt x="3033" y="16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1828800"/>
            <a:ext cx="4815000" cy="2577960"/>
          </a:xfrm>
          <a:custGeom>
            <a:avLst/>
            <a:gdLst/>
            <a:ahLst/>
            <a:rect l="l" t="t" r="r" b="b"/>
            <a:pathLst>
              <a:path w="3033" h="1624">
                <a:moveTo>
                  <a:pt x="0" y="1615"/>
                </a:moveTo>
                <a:cubicBezTo>
                  <a:pt x="50" y="1609"/>
                  <a:pt x="115" y="1602"/>
                  <a:pt x="162" y="1579"/>
                </a:cubicBezTo>
                <a:cubicBezTo>
                  <a:pt x="232" y="1544"/>
                  <a:pt x="148" y="1575"/>
                  <a:pt x="216" y="1552"/>
                </a:cubicBezTo>
                <a:cubicBezTo>
                  <a:pt x="248" y="1520"/>
                  <a:pt x="284" y="1506"/>
                  <a:pt x="324" y="1480"/>
                </a:cubicBezTo>
                <a:cubicBezTo>
                  <a:pt x="333" y="1474"/>
                  <a:pt x="351" y="1462"/>
                  <a:pt x="351" y="1462"/>
                </a:cubicBezTo>
                <a:cubicBezTo>
                  <a:pt x="399" y="1390"/>
                  <a:pt x="336" y="1477"/>
                  <a:pt x="396" y="1417"/>
                </a:cubicBezTo>
                <a:cubicBezTo>
                  <a:pt x="404" y="1409"/>
                  <a:pt x="406" y="1398"/>
                  <a:pt x="414" y="1390"/>
                </a:cubicBezTo>
                <a:cubicBezTo>
                  <a:pt x="448" y="1356"/>
                  <a:pt x="488" y="1325"/>
                  <a:pt x="522" y="1291"/>
                </a:cubicBezTo>
                <a:cubicBezTo>
                  <a:pt x="531" y="1282"/>
                  <a:pt x="540" y="1273"/>
                  <a:pt x="549" y="1264"/>
                </a:cubicBezTo>
                <a:cubicBezTo>
                  <a:pt x="564" y="1249"/>
                  <a:pt x="603" y="1228"/>
                  <a:pt x="603" y="1228"/>
                </a:cubicBezTo>
                <a:cubicBezTo>
                  <a:pt x="645" y="1165"/>
                  <a:pt x="621" y="1186"/>
                  <a:pt x="666" y="1156"/>
                </a:cubicBezTo>
                <a:cubicBezTo>
                  <a:pt x="692" y="1117"/>
                  <a:pt x="721" y="1085"/>
                  <a:pt x="747" y="1048"/>
                </a:cubicBezTo>
                <a:cubicBezTo>
                  <a:pt x="783" y="998"/>
                  <a:pt x="745" y="1014"/>
                  <a:pt x="801" y="958"/>
                </a:cubicBezTo>
                <a:cubicBezTo>
                  <a:pt x="819" y="940"/>
                  <a:pt x="844" y="927"/>
                  <a:pt x="855" y="904"/>
                </a:cubicBezTo>
                <a:cubicBezTo>
                  <a:pt x="878" y="858"/>
                  <a:pt x="862" y="875"/>
                  <a:pt x="900" y="850"/>
                </a:cubicBezTo>
                <a:cubicBezTo>
                  <a:pt x="916" y="802"/>
                  <a:pt x="932" y="760"/>
                  <a:pt x="954" y="715"/>
                </a:cubicBezTo>
                <a:cubicBezTo>
                  <a:pt x="971" y="681"/>
                  <a:pt x="974" y="691"/>
                  <a:pt x="999" y="661"/>
                </a:cubicBezTo>
                <a:cubicBezTo>
                  <a:pt x="1027" y="627"/>
                  <a:pt x="1047" y="580"/>
                  <a:pt x="1071" y="544"/>
                </a:cubicBezTo>
                <a:cubicBezTo>
                  <a:pt x="1110" y="486"/>
                  <a:pt x="1068" y="489"/>
                  <a:pt x="1134" y="445"/>
                </a:cubicBezTo>
                <a:cubicBezTo>
                  <a:pt x="1140" y="436"/>
                  <a:pt x="1144" y="426"/>
                  <a:pt x="1152" y="418"/>
                </a:cubicBezTo>
                <a:cubicBezTo>
                  <a:pt x="1160" y="410"/>
                  <a:pt x="1172" y="408"/>
                  <a:pt x="1179" y="400"/>
                </a:cubicBezTo>
                <a:cubicBezTo>
                  <a:pt x="1206" y="370"/>
                  <a:pt x="1228" y="326"/>
                  <a:pt x="1251" y="292"/>
                </a:cubicBezTo>
                <a:cubicBezTo>
                  <a:pt x="1258" y="281"/>
                  <a:pt x="1270" y="275"/>
                  <a:pt x="1278" y="265"/>
                </a:cubicBezTo>
                <a:cubicBezTo>
                  <a:pt x="1317" y="214"/>
                  <a:pt x="1350" y="156"/>
                  <a:pt x="1386" y="103"/>
                </a:cubicBezTo>
                <a:cubicBezTo>
                  <a:pt x="1404" y="76"/>
                  <a:pt x="1440" y="67"/>
                  <a:pt x="1467" y="49"/>
                </a:cubicBezTo>
                <a:cubicBezTo>
                  <a:pt x="1483" y="38"/>
                  <a:pt x="1503" y="37"/>
                  <a:pt x="1521" y="31"/>
                </a:cubicBezTo>
                <a:cubicBezTo>
                  <a:pt x="1530" y="28"/>
                  <a:pt x="1548" y="22"/>
                  <a:pt x="1548" y="22"/>
                </a:cubicBezTo>
                <a:cubicBezTo>
                  <a:pt x="1620" y="25"/>
                  <a:pt x="1704" y="0"/>
                  <a:pt x="1764" y="40"/>
                </a:cubicBezTo>
                <a:cubicBezTo>
                  <a:pt x="1792" y="59"/>
                  <a:pt x="1817" y="84"/>
                  <a:pt x="1845" y="103"/>
                </a:cubicBezTo>
                <a:cubicBezTo>
                  <a:pt x="1854" y="109"/>
                  <a:pt x="1872" y="121"/>
                  <a:pt x="1872" y="121"/>
                </a:cubicBezTo>
                <a:cubicBezTo>
                  <a:pt x="1904" y="169"/>
                  <a:pt x="1882" y="140"/>
                  <a:pt x="1944" y="202"/>
                </a:cubicBezTo>
                <a:cubicBezTo>
                  <a:pt x="1959" y="217"/>
                  <a:pt x="1965" y="241"/>
                  <a:pt x="1980" y="256"/>
                </a:cubicBezTo>
                <a:cubicBezTo>
                  <a:pt x="2009" y="285"/>
                  <a:pt x="2048" y="324"/>
                  <a:pt x="2061" y="364"/>
                </a:cubicBezTo>
                <a:cubicBezTo>
                  <a:pt x="2077" y="413"/>
                  <a:pt x="2096" y="474"/>
                  <a:pt x="2124" y="517"/>
                </a:cubicBezTo>
                <a:cubicBezTo>
                  <a:pt x="2142" y="590"/>
                  <a:pt x="2158" y="672"/>
                  <a:pt x="2187" y="742"/>
                </a:cubicBezTo>
                <a:cubicBezTo>
                  <a:pt x="2222" y="826"/>
                  <a:pt x="2272" y="910"/>
                  <a:pt x="2322" y="985"/>
                </a:cubicBezTo>
                <a:cubicBezTo>
                  <a:pt x="2333" y="1002"/>
                  <a:pt x="2337" y="1023"/>
                  <a:pt x="2349" y="1039"/>
                </a:cubicBezTo>
                <a:cubicBezTo>
                  <a:pt x="2372" y="1069"/>
                  <a:pt x="2409" y="1088"/>
                  <a:pt x="2430" y="1120"/>
                </a:cubicBezTo>
                <a:cubicBezTo>
                  <a:pt x="2463" y="1169"/>
                  <a:pt x="2505" y="1213"/>
                  <a:pt x="2547" y="1255"/>
                </a:cubicBezTo>
                <a:cubicBezTo>
                  <a:pt x="2577" y="1285"/>
                  <a:pt x="2592" y="1312"/>
                  <a:pt x="2628" y="1336"/>
                </a:cubicBezTo>
                <a:cubicBezTo>
                  <a:pt x="2667" y="1394"/>
                  <a:pt x="2713" y="1441"/>
                  <a:pt x="2772" y="1480"/>
                </a:cubicBezTo>
                <a:cubicBezTo>
                  <a:pt x="2811" y="1539"/>
                  <a:pt x="2886" y="1575"/>
                  <a:pt x="2952" y="1597"/>
                </a:cubicBezTo>
                <a:cubicBezTo>
                  <a:pt x="2989" y="1609"/>
                  <a:pt x="2988" y="1624"/>
                  <a:pt x="3033" y="1624"/>
                </a:cubicBez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828800"/>
            <a:ext cx="4815000" cy="2577960"/>
          </a:xfrm>
          <a:custGeom>
            <a:avLst/>
            <a:gdLst/>
            <a:ahLst/>
            <a:rect l="l" t="t" r="r" b="b"/>
            <a:pathLst>
              <a:path w="3033" h="1624">
                <a:moveTo>
                  <a:pt x="0" y="1615"/>
                </a:moveTo>
                <a:cubicBezTo>
                  <a:pt x="50" y="1609"/>
                  <a:pt x="115" y="1602"/>
                  <a:pt x="162" y="1579"/>
                </a:cubicBezTo>
                <a:cubicBezTo>
                  <a:pt x="232" y="1544"/>
                  <a:pt x="148" y="1575"/>
                  <a:pt x="216" y="1552"/>
                </a:cubicBezTo>
                <a:cubicBezTo>
                  <a:pt x="248" y="1520"/>
                  <a:pt x="284" y="1506"/>
                  <a:pt x="324" y="1480"/>
                </a:cubicBezTo>
                <a:cubicBezTo>
                  <a:pt x="333" y="1474"/>
                  <a:pt x="351" y="1462"/>
                  <a:pt x="351" y="1462"/>
                </a:cubicBezTo>
                <a:cubicBezTo>
                  <a:pt x="399" y="1390"/>
                  <a:pt x="336" y="1477"/>
                  <a:pt x="396" y="1417"/>
                </a:cubicBezTo>
                <a:cubicBezTo>
                  <a:pt x="404" y="1409"/>
                  <a:pt x="406" y="1398"/>
                  <a:pt x="414" y="1390"/>
                </a:cubicBezTo>
                <a:cubicBezTo>
                  <a:pt x="448" y="1356"/>
                  <a:pt x="488" y="1325"/>
                  <a:pt x="522" y="1291"/>
                </a:cubicBezTo>
                <a:cubicBezTo>
                  <a:pt x="531" y="1282"/>
                  <a:pt x="540" y="1273"/>
                  <a:pt x="549" y="1264"/>
                </a:cubicBezTo>
                <a:cubicBezTo>
                  <a:pt x="564" y="1249"/>
                  <a:pt x="603" y="1228"/>
                  <a:pt x="603" y="1228"/>
                </a:cubicBezTo>
                <a:cubicBezTo>
                  <a:pt x="645" y="1165"/>
                  <a:pt x="621" y="1186"/>
                  <a:pt x="666" y="1156"/>
                </a:cubicBezTo>
                <a:cubicBezTo>
                  <a:pt x="692" y="1117"/>
                  <a:pt x="721" y="1085"/>
                  <a:pt x="747" y="1048"/>
                </a:cubicBezTo>
                <a:cubicBezTo>
                  <a:pt x="783" y="998"/>
                  <a:pt x="745" y="1014"/>
                  <a:pt x="801" y="958"/>
                </a:cubicBezTo>
                <a:cubicBezTo>
                  <a:pt x="819" y="940"/>
                  <a:pt x="844" y="927"/>
                  <a:pt x="855" y="904"/>
                </a:cubicBezTo>
                <a:cubicBezTo>
                  <a:pt x="878" y="858"/>
                  <a:pt x="862" y="875"/>
                  <a:pt x="900" y="850"/>
                </a:cubicBezTo>
                <a:cubicBezTo>
                  <a:pt x="916" y="802"/>
                  <a:pt x="932" y="760"/>
                  <a:pt x="954" y="715"/>
                </a:cubicBezTo>
                <a:cubicBezTo>
                  <a:pt x="971" y="681"/>
                  <a:pt x="974" y="691"/>
                  <a:pt x="999" y="661"/>
                </a:cubicBezTo>
                <a:cubicBezTo>
                  <a:pt x="1027" y="627"/>
                  <a:pt x="1047" y="580"/>
                  <a:pt x="1071" y="544"/>
                </a:cubicBezTo>
                <a:cubicBezTo>
                  <a:pt x="1110" y="486"/>
                  <a:pt x="1068" y="489"/>
                  <a:pt x="1134" y="445"/>
                </a:cubicBezTo>
                <a:cubicBezTo>
                  <a:pt x="1140" y="436"/>
                  <a:pt x="1144" y="426"/>
                  <a:pt x="1152" y="418"/>
                </a:cubicBezTo>
                <a:cubicBezTo>
                  <a:pt x="1160" y="410"/>
                  <a:pt x="1172" y="408"/>
                  <a:pt x="1179" y="400"/>
                </a:cubicBezTo>
                <a:cubicBezTo>
                  <a:pt x="1206" y="370"/>
                  <a:pt x="1228" y="326"/>
                  <a:pt x="1251" y="292"/>
                </a:cubicBezTo>
                <a:cubicBezTo>
                  <a:pt x="1258" y="281"/>
                  <a:pt x="1270" y="275"/>
                  <a:pt x="1278" y="265"/>
                </a:cubicBezTo>
                <a:cubicBezTo>
                  <a:pt x="1317" y="214"/>
                  <a:pt x="1350" y="156"/>
                  <a:pt x="1386" y="103"/>
                </a:cubicBezTo>
                <a:cubicBezTo>
                  <a:pt x="1404" y="76"/>
                  <a:pt x="1440" y="67"/>
                  <a:pt x="1467" y="49"/>
                </a:cubicBezTo>
                <a:cubicBezTo>
                  <a:pt x="1483" y="38"/>
                  <a:pt x="1503" y="37"/>
                  <a:pt x="1521" y="31"/>
                </a:cubicBezTo>
                <a:cubicBezTo>
                  <a:pt x="1530" y="28"/>
                  <a:pt x="1548" y="22"/>
                  <a:pt x="1548" y="22"/>
                </a:cubicBezTo>
                <a:cubicBezTo>
                  <a:pt x="1620" y="25"/>
                  <a:pt x="1704" y="0"/>
                  <a:pt x="1764" y="40"/>
                </a:cubicBezTo>
                <a:cubicBezTo>
                  <a:pt x="1792" y="59"/>
                  <a:pt x="1817" y="84"/>
                  <a:pt x="1845" y="103"/>
                </a:cubicBezTo>
                <a:cubicBezTo>
                  <a:pt x="1854" y="109"/>
                  <a:pt x="1872" y="121"/>
                  <a:pt x="1872" y="121"/>
                </a:cubicBezTo>
                <a:cubicBezTo>
                  <a:pt x="1904" y="169"/>
                  <a:pt x="1882" y="140"/>
                  <a:pt x="1944" y="202"/>
                </a:cubicBezTo>
                <a:cubicBezTo>
                  <a:pt x="1959" y="217"/>
                  <a:pt x="1965" y="241"/>
                  <a:pt x="1980" y="256"/>
                </a:cubicBezTo>
                <a:cubicBezTo>
                  <a:pt x="2009" y="285"/>
                  <a:pt x="2048" y="324"/>
                  <a:pt x="2061" y="364"/>
                </a:cubicBezTo>
                <a:cubicBezTo>
                  <a:pt x="2077" y="413"/>
                  <a:pt x="2096" y="474"/>
                  <a:pt x="2124" y="517"/>
                </a:cubicBezTo>
                <a:cubicBezTo>
                  <a:pt x="2142" y="590"/>
                  <a:pt x="2158" y="672"/>
                  <a:pt x="2187" y="742"/>
                </a:cubicBezTo>
                <a:cubicBezTo>
                  <a:pt x="2222" y="826"/>
                  <a:pt x="2272" y="910"/>
                  <a:pt x="2322" y="985"/>
                </a:cubicBezTo>
                <a:cubicBezTo>
                  <a:pt x="2333" y="1002"/>
                  <a:pt x="2337" y="1023"/>
                  <a:pt x="2349" y="1039"/>
                </a:cubicBezTo>
                <a:cubicBezTo>
                  <a:pt x="2372" y="1069"/>
                  <a:pt x="2409" y="1088"/>
                  <a:pt x="2430" y="1120"/>
                </a:cubicBezTo>
                <a:cubicBezTo>
                  <a:pt x="2463" y="1169"/>
                  <a:pt x="2505" y="1213"/>
                  <a:pt x="2547" y="1255"/>
                </a:cubicBezTo>
                <a:cubicBezTo>
                  <a:pt x="2577" y="1285"/>
                  <a:pt x="2592" y="1312"/>
                  <a:pt x="2628" y="1336"/>
                </a:cubicBezTo>
                <a:cubicBezTo>
                  <a:pt x="2667" y="1394"/>
                  <a:pt x="2713" y="1441"/>
                  <a:pt x="2772" y="1480"/>
                </a:cubicBezTo>
                <a:cubicBezTo>
                  <a:pt x="2811" y="1539"/>
                  <a:pt x="2886" y="1575"/>
                  <a:pt x="2952" y="1597"/>
                </a:cubicBezTo>
                <a:cubicBezTo>
                  <a:pt x="2989" y="1609"/>
                  <a:pt x="2988" y="1624"/>
                  <a:pt x="3033" y="1624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91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ter-Cold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619280"/>
            <a:ext cx="6477120" cy="5238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43000" y="304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-covariance function: Variation in TPC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eigenfunction (65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eigenfunction (25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ng genetics of functional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G: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hypotheses about G:  eigenfunct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 and the response to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4038480"/>
                <a:ext cx="3733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87640" y="276120"/>
            <a:ext cx="3162240" cy="6299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16200000">
            <a:off x="900360" y="3061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gen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9144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-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971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ter-c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0292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st-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2440" y="1463760"/>
            <a:ext cx="8432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19400" y="2276640"/>
            <a:ext cx="4699080" cy="2298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1219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Constraints: Identifying zero eigen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05120" y="1219320"/>
          <a:ext cx="55623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55623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438280" y="304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-specific mortality rat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letcher et al, Genetics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evolutionary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selection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): 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evolutiona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057400" y="3581280"/>
                <a:ext cx="37339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on on caterpillar growth rate TP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z(t) for a sample of individuals in the lab --&gt; estimate P(s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fitness of those individuals in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) (cubic spl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457200"/>
          <a:ext cx="867096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709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90920" y="152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ary Response to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39960" y="596880"/>
            <a:ext cx="3657600" cy="610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71600" y="1295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3200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ar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2578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ary change in on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methods for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sis testing of eigen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zero eigen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methods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evolutiona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114480"/>
          <a:ext cx="8534520" cy="65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480"/>
                    <a:ext cx="8534520" cy="65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quantitative traits: som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organ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e: observable trait with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otype: genetic ‘type’ (usually infer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ic variance, P = G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variance,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hange in mean trait value per genera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, in 3 easy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47920" y="1828800"/>
            <a:ext cx="6476760" cy="3733920"/>
            <a:chOff x="1447920" y="1828800"/>
            <a:chExt cx="6476760" cy="3733920"/>
          </a:xfrm>
        </p:grpSpPr>
        <p:sp>
          <p:nvSpPr>
            <p:cNvPr id="57" name=""/>
            <p:cNvSpPr/>
            <p:nvPr/>
          </p:nvSpPr>
          <p:spPr>
            <a:xfrm>
              <a:off x="1447920" y="18288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920" y="556272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752480" y="2247840"/>
            <a:ext cx="5486400" cy="3314880"/>
          </a:xfrm>
          <a:custGeom>
            <a:avLst/>
            <a:gdLst/>
            <a:ahLst/>
            <a:rect l="l" t="t" r="r" b="b"/>
            <a:pathLst>
              <a:path w="3456" h="2088">
                <a:moveTo>
                  <a:pt x="0" y="2088"/>
                </a:moveTo>
                <a:cubicBezTo>
                  <a:pt x="80" y="2048"/>
                  <a:pt x="160" y="2008"/>
                  <a:pt x="240" y="1944"/>
                </a:cubicBezTo>
                <a:cubicBezTo>
                  <a:pt x="320" y="1880"/>
                  <a:pt x="408" y="1784"/>
                  <a:pt x="480" y="1704"/>
                </a:cubicBezTo>
                <a:cubicBezTo>
                  <a:pt x="552" y="1624"/>
                  <a:pt x="600" y="1560"/>
                  <a:pt x="672" y="1464"/>
                </a:cubicBezTo>
                <a:cubicBezTo>
                  <a:pt x="744" y="1368"/>
                  <a:pt x="848" y="1224"/>
                  <a:pt x="912" y="1128"/>
                </a:cubicBezTo>
                <a:cubicBezTo>
                  <a:pt x="976" y="1032"/>
                  <a:pt x="1000" y="992"/>
                  <a:pt x="1056" y="888"/>
                </a:cubicBezTo>
                <a:cubicBezTo>
                  <a:pt x="1112" y="784"/>
                  <a:pt x="1192" y="616"/>
                  <a:pt x="1248" y="504"/>
                </a:cubicBezTo>
                <a:cubicBezTo>
                  <a:pt x="1304" y="392"/>
                  <a:pt x="1336" y="288"/>
                  <a:pt x="1392" y="216"/>
                </a:cubicBezTo>
                <a:cubicBezTo>
                  <a:pt x="1448" y="144"/>
                  <a:pt x="1520" y="104"/>
                  <a:pt x="1584" y="72"/>
                </a:cubicBezTo>
                <a:cubicBezTo>
                  <a:pt x="1648" y="40"/>
                  <a:pt x="1712" y="32"/>
                  <a:pt x="1776" y="24"/>
                </a:cubicBezTo>
                <a:cubicBezTo>
                  <a:pt x="1840" y="16"/>
                  <a:pt x="1904" y="0"/>
                  <a:pt x="1968" y="24"/>
                </a:cubicBezTo>
                <a:cubicBezTo>
                  <a:pt x="2032" y="48"/>
                  <a:pt x="2104" y="112"/>
                  <a:pt x="2160" y="168"/>
                </a:cubicBezTo>
                <a:cubicBezTo>
                  <a:pt x="2216" y="224"/>
                  <a:pt x="2264" y="288"/>
                  <a:pt x="2304" y="360"/>
                </a:cubicBezTo>
                <a:cubicBezTo>
                  <a:pt x="2344" y="432"/>
                  <a:pt x="2368" y="520"/>
                  <a:pt x="2400" y="600"/>
                </a:cubicBezTo>
                <a:cubicBezTo>
                  <a:pt x="2432" y="680"/>
                  <a:pt x="2448" y="744"/>
                  <a:pt x="2496" y="840"/>
                </a:cubicBezTo>
                <a:cubicBezTo>
                  <a:pt x="2544" y="936"/>
                  <a:pt x="2632" y="1080"/>
                  <a:pt x="2688" y="1176"/>
                </a:cubicBezTo>
                <a:cubicBezTo>
                  <a:pt x="2744" y="1272"/>
                  <a:pt x="2784" y="1336"/>
                  <a:pt x="2832" y="1416"/>
                </a:cubicBezTo>
                <a:cubicBezTo>
                  <a:pt x="2880" y="1496"/>
                  <a:pt x="2920" y="1576"/>
                  <a:pt x="2976" y="1656"/>
                </a:cubicBezTo>
                <a:cubicBezTo>
                  <a:pt x="3032" y="1736"/>
                  <a:pt x="3120" y="1840"/>
                  <a:pt x="3168" y="1896"/>
                </a:cubicBezTo>
                <a:cubicBezTo>
                  <a:pt x="3216" y="1952"/>
                  <a:pt x="3216" y="1960"/>
                  <a:pt x="3264" y="1992"/>
                </a:cubicBezTo>
                <a:cubicBezTo>
                  <a:pt x="3312" y="2024"/>
                  <a:pt x="3424" y="2072"/>
                  <a:pt x="3456" y="20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286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4343400"/>
            <a:ext cx="1523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0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t value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195840" y="32436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562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, in 3 easy step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828800"/>
            <a:ext cx="7391160" cy="4787640"/>
            <a:chOff x="533520" y="1828800"/>
            <a:chExt cx="7391160" cy="4787640"/>
          </a:xfrm>
        </p:grpSpPr>
        <p:grpSp>
          <p:nvGrpSpPr>
            <p:cNvPr id="69" name=""/>
            <p:cNvGrpSpPr/>
            <p:nvPr/>
          </p:nvGrpSpPr>
          <p:grpSpPr>
            <a:xfrm>
              <a:off x="1447920" y="1828800"/>
              <a:ext cx="6476760" cy="3733920"/>
              <a:chOff x="1447920" y="1828800"/>
              <a:chExt cx="6476760" cy="3733920"/>
            </a:xfrm>
          </p:grpSpPr>
          <p:sp>
            <p:nvSpPr>
              <p:cNvPr id="70" name=""/>
              <p:cNvSpPr/>
              <p:nvPr/>
            </p:nvSpPr>
            <p:spPr>
              <a:xfrm>
                <a:off x="1447920" y="182880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47920" y="556272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1752480" y="2247840"/>
              <a:ext cx="5486400" cy="3314880"/>
            </a:xfrm>
            <a:custGeom>
              <a:avLst/>
              <a:gdLst/>
              <a:ahLst/>
              <a:rect l="l" t="t" r="r" b="b"/>
              <a:pathLst>
                <a:path w="3456" h="2088">
                  <a:moveTo>
                    <a:pt x="0" y="2088"/>
                  </a:moveTo>
                  <a:cubicBezTo>
                    <a:pt x="80" y="2048"/>
                    <a:pt x="160" y="2008"/>
                    <a:pt x="240" y="1944"/>
                  </a:cubicBezTo>
                  <a:cubicBezTo>
                    <a:pt x="320" y="1880"/>
                    <a:pt x="408" y="1784"/>
                    <a:pt x="480" y="1704"/>
                  </a:cubicBezTo>
                  <a:cubicBezTo>
                    <a:pt x="552" y="1624"/>
                    <a:pt x="600" y="1560"/>
                    <a:pt x="672" y="1464"/>
                  </a:cubicBezTo>
                  <a:cubicBezTo>
                    <a:pt x="744" y="1368"/>
                    <a:pt x="848" y="1224"/>
                    <a:pt x="912" y="1128"/>
                  </a:cubicBezTo>
                  <a:cubicBezTo>
                    <a:pt x="976" y="1032"/>
                    <a:pt x="1000" y="992"/>
                    <a:pt x="1056" y="888"/>
                  </a:cubicBezTo>
                  <a:cubicBezTo>
                    <a:pt x="1112" y="784"/>
                    <a:pt x="1192" y="616"/>
                    <a:pt x="1248" y="504"/>
                  </a:cubicBezTo>
                  <a:cubicBezTo>
                    <a:pt x="1304" y="392"/>
                    <a:pt x="1336" y="288"/>
                    <a:pt x="1392" y="216"/>
                  </a:cubicBezTo>
                  <a:cubicBezTo>
                    <a:pt x="1448" y="144"/>
                    <a:pt x="1520" y="104"/>
                    <a:pt x="1584" y="72"/>
                  </a:cubicBezTo>
                  <a:cubicBezTo>
                    <a:pt x="1648" y="40"/>
                    <a:pt x="1712" y="32"/>
                    <a:pt x="1776" y="24"/>
                  </a:cubicBezTo>
                  <a:cubicBezTo>
                    <a:pt x="1840" y="16"/>
                    <a:pt x="1904" y="0"/>
                    <a:pt x="1968" y="24"/>
                  </a:cubicBezTo>
                  <a:cubicBezTo>
                    <a:pt x="2032" y="48"/>
                    <a:pt x="2104" y="112"/>
                    <a:pt x="2160" y="168"/>
                  </a:cubicBezTo>
                  <a:cubicBezTo>
                    <a:pt x="2216" y="224"/>
                    <a:pt x="2264" y="288"/>
                    <a:pt x="2304" y="360"/>
                  </a:cubicBezTo>
                  <a:cubicBezTo>
                    <a:pt x="2344" y="432"/>
                    <a:pt x="2368" y="520"/>
                    <a:pt x="2400" y="600"/>
                  </a:cubicBezTo>
                  <a:cubicBezTo>
                    <a:pt x="2432" y="680"/>
                    <a:pt x="2448" y="744"/>
                    <a:pt x="2496" y="840"/>
                  </a:cubicBezTo>
                  <a:cubicBezTo>
                    <a:pt x="2544" y="936"/>
                    <a:pt x="2632" y="1080"/>
                    <a:pt x="2688" y="1176"/>
                  </a:cubicBezTo>
                  <a:cubicBezTo>
                    <a:pt x="2744" y="1272"/>
                    <a:pt x="2784" y="1336"/>
                    <a:pt x="2832" y="1416"/>
                  </a:cubicBezTo>
                  <a:cubicBezTo>
                    <a:pt x="2880" y="1496"/>
                    <a:pt x="2920" y="1576"/>
                    <a:pt x="2976" y="1656"/>
                  </a:cubicBezTo>
                  <a:cubicBezTo>
                    <a:pt x="3032" y="1736"/>
                    <a:pt x="3120" y="1840"/>
                    <a:pt x="3168" y="1896"/>
                  </a:cubicBezTo>
                  <a:cubicBezTo>
                    <a:pt x="3216" y="1952"/>
                    <a:pt x="3216" y="1960"/>
                    <a:pt x="3264" y="1992"/>
                  </a:cubicBezTo>
                  <a:cubicBezTo>
                    <a:pt x="3312" y="2024"/>
                    <a:pt x="3424" y="2072"/>
                    <a:pt x="3456" y="20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81280" y="60958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t value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-195840" y="32436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5562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638680" y="34290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638680" y="3429000"/>
            <a:ext cx="1646280" cy="2165400"/>
            <a:chOff x="5638680" y="3429000"/>
            <a:chExt cx="1646280" cy="2165400"/>
          </a:xfrm>
        </p:grpSpPr>
        <p:sp>
          <p:nvSpPr>
            <p:cNvPr id="80" name=""/>
            <p:cNvSpPr/>
            <p:nvPr/>
          </p:nvSpPr>
          <p:spPr>
            <a:xfrm>
              <a:off x="5638680" y="3429000"/>
              <a:ext cx="1219320" cy="213372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04120" y="4919760"/>
              <a:ext cx="780840" cy="674640"/>
            </a:xfrm>
            <a:custGeom>
              <a:avLst/>
              <a:gdLst/>
              <a:ahLst/>
              <a:rect l="l" t="t" r="r" b="b"/>
              <a:pathLst>
                <a:path w="492" h="425">
                  <a:moveTo>
                    <a:pt x="0" y="0"/>
                  </a:moveTo>
                  <a:cubicBezTo>
                    <a:pt x="10" y="31"/>
                    <a:pt x="25" y="67"/>
                    <a:pt x="49" y="89"/>
                  </a:cubicBezTo>
                  <a:cubicBezTo>
                    <a:pt x="67" y="144"/>
                    <a:pt x="72" y="195"/>
                    <a:pt x="122" y="227"/>
                  </a:cubicBezTo>
                  <a:cubicBezTo>
                    <a:pt x="146" y="300"/>
                    <a:pt x="141" y="312"/>
                    <a:pt x="195" y="365"/>
                  </a:cubicBezTo>
                  <a:cubicBezTo>
                    <a:pt x="212" y="381"/>
                    <a:pt x="219" y="395"/>
                    <a:pt x="243" y="398"/>
                  </a:cubicBezTo>
                  <a:cubicBezTo>
                    <a:pt x="289" y="403"/>
                    <a:pt x="335" y="403"/>
                    <a:pt x="381" y="406"/>
                  </a:cubicBezTo>
                  <a:cubicBezTo>
                    <a:pt x="387" y="408"/>
                    <a:pt x="424" y="425"/>
                    <a:pt x="430" y="406"/>
                  </a:cubicBezTo>
                  <a:cubicBezTo>
                    <a:pt x="432" y="399"/>
                    <a:pt x="420" y="395"/>
                    <a:pt x="414" y="389"/>
                  </a:cubicBezTo>
                  <a:cubicBezTo>
                    <a:pt x="402" y="377"/>
                    <a:pt x="394" y="360"/>
                    <a:pt x="381" y="349"/>
                  </a:cubicBezTo>
                  <a:cubicBezTo>
                    <a:pt x="374" y="344"/>
                    <a:pt x="365" y="345"/>
                    <a:pt x="357" y="341"/>
                  </a:cubicBezTo>
                  <a:cubicBezTo>
                    <a:pt x="324" y="325"/>
                    <a:pt x="305" y="285"/>
                    <a:pt x="268" y="276"/>
                  </a:cubicBezTo>
                  <a:cubicBezTo>
                    <a:pt x="227" y="266"/>
                    <a:pt x="246" y="272"/>
                    <a:pt x="211" y="260"/>
                  </a:cubicBezTo>
                  <a:cubicBezTo>
                    <a:pt x="184" y="232"/>
                    <a:pt x="197" y="218"/>
                    <a:pt x="162" y="195"/>
                  </a:cubicBezTo>
                  <a:cubicBezTo>
                    <a:pt x="146" y="169"/>
                    <a:pt x="90" y="115"/>
                    <a:pt x="65" y="97"/>
                  </a:cubicBezTo>
                  <a:cubicBezTo>
                    <a:pt x="23" y="34"/>
                    <a:pt x="67" y="116"/>
                    <a:pt x="73" y="122"/>
                  </a:cubicBezTo>
                  <a:cubicBezTo>
                    <a:pt x="93" y="142"/>
                    <a:pt x="118" y="158"/>
                    <a:pt x="138" y="179"/>
                  </a:cubicBezTo>
                  <a:cubicBezTo>
                    <a:pt x="156" y="233"/>
                    <a:pt x="181" y="251"/>
                    <a:pt x="219" y="284"/>
                  </a:cubicBezTo>
                  <a:cubicBezTo>
                    <a:pt x="295" y="350"/>
                    <a:pt x="230" y="305"/>
                    <a:pt x="284" y="341"/>
                  </a:cubicBezTo>
                  <a:cubicBezTo>
                    <a:pt x="323" y="399"/>
                    <a:pt x="266" y="327"/>
                    <a:pt x="357" y="373"/>
                  </a:cubicBezTo>
                  <a:cubicBezTo>
                    <a:pt x="365" y="377"/>
                    <a:pt x="371" y="392"/>
                    <a:pt x="365" y="398"/>
                  </a:cubicBezTo>
                  <a:cubicBezTo>
                    <a:pt x="359" y="404"/>
                    <a:pt x="349" y="392"/>
                    <a:pt x="341" y="389"/>
                  </a:cubicBezTo>
                  <a:cubicBezTo>
                    <a:pt x="333" y="386"/>
                    <a:pt x="324" y="384"/>
                    <a:pt x="316" y="381"/>
                  </a:cubicBezTo>
                  <a:cubicBezTo>
                    <a:pt x="251" y="338"/>
                    <a:pt x="222" y="290"/>
                    <a:pt x="170" y="235"/>
                  </a:cubicBezTo>
                  <a:cubicBezTo>
                    <a:pt x="161" y="199"/>
                    <a:pt x="138" y="152"/>
                    <a:pt x="113" y="122"/>
                  </a:cubicBezTo>
                  <a:cubicBezTo>
                    <a:pt x="102" y="109"/>
                    <a:pt x="85" y="102"/>
                    <a:pt x="73" y="89"/>
                  </a:cubicBezTo>
                  <a:cubicBezTo>
                    <a:pt x="87" y="145"/>
                    <a:pt x="76" y="112"/>
                    <a:pt x="113" y="187"/>
                  </a:cubicBezTo>
                  <a:cubicBezTo>
                    <a:pt x="122" y="204"/>
                    <a:pt x="146" y="235"/>
                    <a:pt x="146" y="235"/>
                  </a:cubicBezTo>
                  <a:cubicBezTo>
                    <a:pt x="169" y="308"/>
                    <a:pt x="140" y="191"/>
                    <a:pt x="130" y="179"/>
                  </a:cubicBezTo>
                  <a:cubicBezTo>
                    <a:pt x="118" y="164"/>
                    <a:pt x="89" y="138"/>
                    <a:pt x="89" y="138"/>
                  </a:cubicBezTo>
                  <a:cubicBezTo>
                    <a:pt x="75" y="179"/>
                    <a:pt x="92" y="183"/>
                    <a:pt x="113" y="219"/>
                  </a:cubicBezTo>
                  <a:cubicBezTo>
                    <a:pt x="132" y="251"/>
                    <a:pt x="140" y="279"/>
                    <a:pt x="178" y="292"/>
                  </a:cubicBezTo>
                  <a:cubicBezTo>
                    <a:pt x="186" y="300"/>
                    <a:pt x="203" y="316"/>
                    <a:pt x="203" y="316"/>
                  </a:cubicBezTo>
                  <a:cubicBezTo>
                    <a:pt x="200" y="308"/>
                    <a:pt x="200" y="299"/>
                    <a:pt x="195" y="292"/>
                  </a:cubicBezTo>
                  <a:cubicBezTo>
                    <a:pt x="183" y="277"/>
                    <a:pt x="168" y="265"/>
                    <a:pt x="154" y="252"/>
                  </a:cubicBezTo>
                  <a:cubicBezTo>
                    <a:pt x="144" y="243"/>
                    <a:pt x="176" y="267"/>
                    <a:pt x="186" y="276"/>
                  </a:cubicBezTo>
                  <a:cubicBezTo>
                    <a:pt x="193" y="283"/>
                    <a:pt x="197" y="292"/>
                    <a:pt x="203" y="300"/>
                  </a:cubicBezTo>
                  <a:cubicBezTo>
                    <a:pt x="209" y="319"/>
                    <a:pt x="208" y="341"/>
                    <a:pt x="219" y="357"/>
                  </a:cubicBezTo>
                  <a:cubicBezTo>
                    <a:pt x="245" y="395"/>
                    <a:pt x="371" y="388"/>
                    <a:pt x="381" y="389"/>
                  </a:cubicBezTo>
                  <a:cubicBezTo>
                    <a:pt x="492" y="419"/>
                    <a:pt x="295" y="401"/>
                    <a:pt x="251" y="373"/>
                  </a:cubicBezTo>
                  <a:cubicBezTo>
                    <a:pt x="235" y="349"/>
                    <a:pt x="219" y="324"/>
                    <a:pt x="203" y="300"/>
                  </a:cubicBezTo>
                  <a:cubicBezTo>
                    <a:pt x="198" y="292"/>
                    <a:pt x="186" y="276"/>
                    <a:pt x="186" y="276"/>
                  </a:cubicBezTo>
                  <a:cubicBezTo>
                    <a:pt x="173" y="224"/>
                    <a:pt x="184" y="252"/>
                    <a:pt x="146" y="195"/>
                  </a:cubicBezTo>
                  <a:cubicBezTo>
                    <a:pt x="135" y="179"/>
                    <a:pt x="105" y="154"/>
                    <a:pt x="105" y="154"/>
                  </a:cubicBezTo>
                  <a:cubicBezTo>
                    <a:pt x="102" y="146"/>
                    <a:pt x="91" y="136"/>
                    <a:pt x="97" y="130"/>
                  </a:cubicBezTo>
                  <a:cubicBezTo>
                    <a:pt x="114" y="114"/>
                    <a:pt x="137" y="160"/>
                    <a:pt x="138" y="162"/>
                  </a:cubicBezTo>
                  <a:cubicBezTo>
                    <a:pt x="147" y="190"/>
                    <a:pt x="154" y="252"/>
                    <a:pt x="170" y="276"/>
                  </a:cubicBezTo>
                  <a:cubicBezTo>
                    <a:pt x="186" y="300"/>
                    <a:pt x="215" y="312"/>
                    <a:pt x="235" y="333"/>
                  </a:cubicBezTo>
                  <a:cubicBezTo>
                    <a:pt x="247" y="370"/>
                    <a:pt x="274" y="379"/>
                    <a:pt x="300" y="406"/>
                  </a:cubicBezTo>
                  <a:cubicBezTo>
                    <a:pt x="328" y="376"/>
                    <a:pt x="331" y="381"/>
                    <a:pt x="308" y="316"/>
                  </a:cubicBezTo>
                  <a:cubicBezTo>
                    <a:pt x="299" y="291"/>
                    <a:pt x="235" y="284"/>
                    <a:pt x="235" y="284"/>
                  </a:cubicBezTo>
                  <a:cubicBezTo>
                    <a:pt x="210" y="267"/>
                    <a:pt x="201" y="245"/>
                    <a:pt x="178" y="227"/>
                  </a:cubicBezTo>
                  <a:cubicBezTo>
                    <a:pt x="146" y="202"/>
                    <a:pt x="119" y="179"/>
                    <a:pt x="97" y="146"/>
                  </a:cubicBezTo>
                  <a:cubicBezTo>
                    <a:pt x="104" y="182"/>
                    <a:pt x="104" y="203"/>
                    <a:pt x="130" y="227"/>
                  </a:cubicBezTo>
                  <a:cubicBezTo>
                    <a:pt x="145" y="275"/>
                    <a:pt x="126" y="232"/>
                    <a:pt x="162" y="268"/>
                  </a:cubicBezTo>
                  <a:cubicBezTo>
                    <a:pt x="179" y="285"/>
                    <a:pt x="194" y="307"/>
                    <a:pt x="211" y="325"/>
                  </a:cubicBezTo>
                  <a:cubicBezTo>
                    <a:pt x="222" y="357"/>
                    <a:pt x="219" y="341"/>
                    <a:pt x="219" y="373"/>
                  </a:cubicBezTo>
                  <a:lnTo>
                    <a:pt x="223" y="309"/>
                  </a:lnTo>
                  <a:lnTo>
                    <a:pt x="175" y="309"/>
                  </a:ln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172200" y="4343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5562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, in 3 easy step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3520" y="1828800"/>
            <a:ext cx="7391160" cy="4787640"/>
            <a:chOff x="533520" y="1828800"/>
            <a:chExt cx="7391160" cy="4787640"/>
          </a:xfrm>
        </p:grpSpPr>
        <p:grpSp>
          <p:nvGrpSpPr>
            <p:cNvPr id="87" name=""/>
            <p:cNvGrpSpPr/>
            <p:nvPr/>
          </p:nvGrpSpPr>
          <p:grpSpPr>
            <a:xfrm>
              <a:off x="1447920" y="1828800"/>
              <a:ext cx="6476760" cy="3733920"/>
              <a:chOff x="1447920" y="1828800"/>
              <a:chExt cx="6476760" cy="3733920"/>
            </a:xfrm>
          </p:grpSpPr>
          <p:sp>
            <p:nvSpPr>
              <p:cNvPr id="88" name=""/>
              <p:cNvSpPr/>
              <p:nvPr/>
            </p:nvSpPr>
            <p:spPr>
              <a:xfrm>
                <a:off x="1447920" y="182880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47920" y="556272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52480" y="2247840"/>
              <a:ext cx="5486400" cy="3314880"/>
            </a:xfrm>
            <a:custGeom>
              <a:avLst/>
              <a:gdLst/>
              <a:ahLst/>
              <a:rect l="l" t="t" r="r" b="b"/>
              <a:pathLst>
                <a:path w="3456" h="2088">
                  <a:moveTo>
                    <a:pt x="0" y="2088"/>
                  </a:moveTo>
                  <a:cubicBezTo>
                    <a:pt x="80" y="2048"/>
                    <a:pt x="160" y="2008"/>
                    <a:pt x="240" y="1944"/>
                  </a:cubicBezTo>
                  <a:cubicBezTo>
                    <a:pt x="320" y="1880"/>
                    <a:pt x="408" y="1784"/>
                    <a:pt x="480" y="1704"/>
                  </a:cubicBezTo>
                  <a:cubicBezTo>
                    <a:pt x="552" y="1624"/>
                    <a:pt x="600" y="1560"/>
                    <a:pt x="672" y="1464"/>
                  </a:cubicBezTo>
                  <a:cubicBezTo>
                    <a:pt x="744" y="1368"/>
                    <a:pt x="848" y="1224"/>
                    <a:pt x="912" y="1128"/>
                  </a:cubicBezTo>
                  <a:cubicBezTo>
                    <a:pt x="976" y="1032"/>
                    <a:pt x="1000" y="992"/>
                    <a:pt x="1056" y="888"/>
                  </a:cubicBezTo>
                  <a:cubicBezTo>
                    <a:pt x="1112" y="784"/>
                    <a:pt x="1192" y="616"/>
                    <a:pt x="1248" y="504"/>
                  </a:cubicBezTo>
                  <a:cubicBezTo>
                    <a:pt x="1304" y="392"/>
                    <a:pt x="1336" y="288"/>
                    <a:pt x="1392" y="216"/>
                  </a:cubicBezTo>
                  <a:cubicBezTo>
                    <a:pt x="1448" y="144"/>
                    <a:pt x="1520" y="104"/>
                    <a:pt x="1584" y="72"/>
                  </a:cubicBezTo>
                  <a:cubicBezTo>
                    <a:pt x="1648" y="40"/>
                    <a:pt x="1712" y="32"/>
                    <a:pt x="1776" y="24"/>
                  </a:cubicBezTo>
                  <a:cubicBezTo>
                    <a:pt x="1840" y="16"/>
                    <a:pt x="1904" y="0"/>
                    <a:pt x="1968" y="24"/>
                  </a:cubicBezTo>
                  <a:cubicBezTo>
                    <a:pt x="2032" y="48"/>
                    <a:pt x="2104" y="112"/>
                    <a:pt x="2160" y="168"/>
                  </a:cubicBezTo>
                  <a:cubicBezTo>
                    <a:pt x="2216" y="224"/>
                    <a:pt x="2264" y="288"/>
                    <a:pt x="2304" y="360"/>
                  </a:cubicBezTo>
                  <a:cubicBezTo>
                    <a:pt x="2344" y="432"/>
                    <a:pt x="2368" y="520"/>
                    <a:pt x="2400" y="600"/>
                  </a:cubicBezTo>
                  <a:cubicBezTo>
                    <a:pt x="2432" y="680"/>
                    <a:pt x="2448" y="744"/>
                    <a:pt x="2496" y="840"/>
                  </a:cubicBezTo>
                  <a:cubicBezTo>
                    <a:pt x="2544" y="936"/>
                    <a:pt x="2632" y="1080"/>
                    <a:pt x="2688" y="1176"/>
                  </a:cubicBezTo>
                  <a:cubicBezTo>
                    <a:pt x="2744" y="1272"/>
                    <a:pt x="2784" y="1336"/>
                    <a:pt x="2832" y="1416"/>
                  </a:cubicBezTo>
                  <a:cubicBezTo>
                    <a:pt x="2880" y="1496"/>
                    <a:pt x="2920" y="1576"/>
                    <a:pt x="2976" y="1656"/>
                  </a:cubicBezTo>
                  <a:cubicBezTo>
                    <a:pt x="3032" y="1736"/>
                    <a:pt x="3120" y="1840"/>
                    <a:pt x="3168" y="1896"/>
                  </a:cubicBezTo>
                  <a:cubicBezTo>
                    <a:pt x="3216" y="1952"/>
                    <a:pt x="3216" y="1960"/>
                    <a:pt x="3264" y="1992"/>
                  </a:cubicBezTo>
                  <a:cubicBezTo>
                    <a:pt x="3312" y="2024"/>
                    <a:pt x="3424" y="2072"/>
                    <a:pt x="3456" y="20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1280" y="60958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ait value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-195840" y="3243600"/>
              <a:ext cx="19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5680" y="5562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172200" y="4343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5562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209680"/>
            <a:ext cx="5486400" cy="3314880"/>
          </a:xfrm>
          <a:custGeom>
            <a:avLst/>
            <a:gdLst/>
            <a:ahLst/>
            <a:rect l="l" t="t" r="r" b="b"/>
            <a:pathLst>
              <a:path w="3456" h="2088">
                <a:moveTo>
                  <a:pt x="0" y="2088"/>
                </a:moveTo>
                <a:cubicBezTo>
                  <a:pt x="80" y="2048"/>
                  <a:pt x="160" y="2008"/>
                  <a:pt x="240" y="1944"/>
                </a:cubicBezTo>
                <a:cubicBezTo>
                  <a:pt x="320" y="1880"/>
                  <a:pt x="408" y="1784"/>
                  <a:pt x="480" y="1704"/>
                </a:cubicBezTo>
                <a:cubicBezTo>
                  <a:pt x="552" y="1624"/>
                  <a:pt x="600" y="1560"/>
                  <a:pt x="672" y="1464"/>
                </a:cubicBezTo>
                <a:cubicBezTo>
                  <a:pt x="744" y="1368"/>
                  <a:pt x="848" y="1224"/>
                  <a:pt x="912" y="1128"/>
                </a:cubicBezTo>
                <a:cubicBezTo>
                  <a:pt x="976" y="1032"/>
                  <a:pt x="1000" y="992"/>
                  <a:pt x="1056" y="888"/>
                </a:cubicBezTo>
                <a:cubicBezTo>
                  <a:pt x="1112" y="784"/>
                  <a:pt x="1192" y="616"/>
                  <a:pt x="1248" y="504"/>
                </a:cubicBezTo>
                <a:cubicBezTo>
                  <a:pt x="1304" y="392"/>
                  <a:pt x="1336" y="288"/>
                  <a:pt x="1392" y="216"/>
                </a:cubicBezTo>
                <a:cubicBezTo>
                  <a:pt x="1448" y="144"/>
                  <a:pt x="1520" y="104"/>
                  <a:pt x="1584" y="72"/>
                </a:cubicBezTo>
                <a:cubicBezTo>
                  <a:pt x="1648" y="40"/>
                  <a:pt x="1712" y="32"/>
                  <a:pt x="1776" y="24"/>
                </a:cubicBezTo>
                <a:cubicBezTo>
                  <a:pt x="1840" y="16"/>
                  <a:pt x="1904" y="0"/>
                  <a:pt x="1968" y="24"/>
                </a:cubicBezTo>
                <a:cubicBezTo>
                  <a:pt x="2032" y="48"/>
                  <a:pt x="2104" y="112"/>
                  <a:pt x="2160" y="168"/>
                </a:cubicBezTo>
                <a:cubicBezTo>
                  <a:pt x="2216" y="224"/>
                  <a:pt x="2264" y="288"/>
                  <a:pt x="2304" y="360"/>
                </a:cubicBezTo>
                <a:cubicBezTo>
                  <a:pt x="2344" y="432"/>
                  <a:pt x="2368" y="520"/>
                  <a:pt x="2400" y="600"/>
                </a:cubicBezTo>
                <a:cubicBezTo>
                  <a:pt x="2432" y="680"/>
                  <a:pt x="2448" y="744"/>
                  <a:pt x="2496" y="840"/>
                </a:cubicBezTo>
                <a:cubicBezTo>
                  <a:pt x="2544" y="936"/>
                  <a:pt x="2632" y="1080"/>
                  <a:pt x="2688" y="1176"/>
                </a:cubicBezTo>
                <a:cubicBezTo>
                  <a:pt x="2744" y="1272"/>
                  <a:pt x="2784" y="1336"/>
                  <a:pt x="2832" y="1416"/>
                </a:cubicBezTo>
                <a:cubicBezTo>
                  <a:pt x="2880" y="1496"/>
                  <a:pt x="2920" y="1576"/>
                  <a:pt x="2976" y="1656"/>
                </a:cubicBezTo>
                <a:cubicBezTo>
                  <a:pt x="3032" y="1736"/>
                  <a:pt x="3120" y="1840"/>
                  <a:pt x="3168" y="1896"/>
                </a:cubicBezTo>
                <a:cubicBezTo>
                  <a:pt x="3216" y="1952"/>
                  <a:pt x="3216" y="1960"/>
                  <a:pt x="3264" y="1992"/>
                </a:cubicBezTo>
                <a:cubicBezTo>
                  <a:pt x="3312" y="2024"/>
                  <a:pt x="3424" y="2072"/>
                  <a:pt x="3456" y="20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2209680"/>
            <a:ext cx="0" cy="33530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57200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4197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17:44:51Z</dcterms:created>
  <dc:creator>UNC6594</dc:creator>
  <dc:description/>
  <dc:language>en-US</dc:language>
  <cp:lastModifiedBy>Preferred Customer</cp:lastModifiedBy>
  <dcterms:modified xsi:type="dcterms:W3CDTF">2001-01-29T22:27:17Z</dcterms:modified>
  <cp:revision>35</cp:revision>
  <dc:subject/>
  <dc:title>PowerPoint Presentation</dc:title>
</cp:coreProperties>
</file>