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730-F9B2-41F0-B296-37E3F012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09F-9B77-4C48-82B7-5FDBE634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3FE-F4DD-4ADF-908D-8B82516B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64C-DA8C-4236-A032-62BB2618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6F2-2BCA-42D7-84D2-9890AC1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ABB-7CD1-462B-B83D-A93F362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7A5-C69D-4467-AF5D-1FDB9EF6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799-C1D9-4685-B807-F82339B7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84A-3AB6-487B-87F3-4E252929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CF8-B880-456E-A5F8-52688F27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CDF-E787-4933-BFE1-3DCCD184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3C6-358F-47F6-8FA2-347BC6AB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0515-0D8F-41CC-BCD0-3881BDD4A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functional trai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ca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ts as functions: functional, function-valued, infinite-dimen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imer in evolutionary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, inheritance, selection,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 to analysing functional tra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estimating genetic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2440" y="1463760"/>
            <a:ext cx="8432640" cy="392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533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rpillar growth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functional trai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ake 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es genetic variation (G) ma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responses to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directions of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sel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on a functional trait: a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and environmental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ng evolutionary trajec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G ma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and the response to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responses to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:  when evolution won’t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133720" y="2514600"/>
                <a:ext cx="3733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87640" y="276120"/>
            <a:ext cx="3162240" cy="6299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200000">
            <a:off x="900360" y="3061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gen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9144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-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971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ter-c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50292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st-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2440" y="1463760"/>
            <a:ext cx="8432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19400" y="2276640"/>
            <a:ext cx="4699080" cy="2298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62320" y="1219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ary Constraints: Identifying zero eigen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evolutionary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el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selection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): 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ng evolutionar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09680" y="4648320"/>
                <a:ext cx="37339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04920" y="0"/>
          <a:ext cx="8381880" cy="64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81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16200000">
            <a:off x="-60120" y="2268360"/>
            <a:ext cx="2770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gradien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08200" y="3251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23200" y="3251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7920" y="3251160"/>
            <a:ext cx="569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31924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11440" y="173520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30924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806400"/>
            <a:ext cx="4287600" cy="717480"/>
          </a:xfrm>
          <a:custGeom>
            <a:avLst/>
            <a:gdLst/>
            <a:ahLst/>
            <a:rect l="l" t="t" r="r" b="b"/>
            <a:pathLst>
              <a:path w="1756" h="693">
                <a:moveTo>
                  <a:pt x="0" y="692"/>
                </a:moveTo>
                <a:lnTo>
                  <a:pt x="9" y="639"/>
                </a:lnTo>
                <a:lnTo>
                  <a:pt x="19" y="588"/>
                </a:lnTo>
                <a:lnTo>
                  <a:pt x="28" y="541"/>
                </a:lnTo>
                <a:lnTo>
                  <a:pt x="37" y="495"/>
                </a:lnTo>
                <a:lnTo>
                  <a:pt x="46" y="452"/>
                </a:lnTo>
                <a:lnTo>
                  <a:pt x="56" y="412"/>
                </a:lnTo>
                <a:lnTo>
                  <a:pt x="65" y="374"/>
                </a:lnTo>
                <a:lnTo>
                  <a:pt x="74" y="338"/>
                </a:lnTo>
                <a:lnTo>
                  <a:pt x="83" y="304"/>
                </a:lnTo>
                <a:lnTo>
                  <a:pt x="93" y="272"/>
                </a:lnTo>
                <a:lnTo>
                  <a:pt x="102" y="243"/>
                </a:lnTo>
                <a:lnTo>
                  <a:pt x="111" y="215"/>
                </a:lnTo>
                <a:lnTo>
                  <a:pt x="120" y="189"/>
                </a:lnTo>
                <a:lnTo>
                  <a:pt x="130" y="166"/>
                </a:lnTo>
                <a:lnTo>
                  <a:pt x="139" y="144"/>
                </a:lnTo>
                <a:lnTo>
                  <a:pt x="148" y="124"/>
                </a:lnTo>
                <a:lnTo>
                  <a:pt x="157" y="106"/>
                </a:lnTo>
                <a:lnTo>
                  <a:pt x="166" y="89"/>
                </a:lnTo>
                <a:lnTo>
                  <a:pt x="176" y="74"/>
                </a:lnTo>
                <a:lnTo>
                  <a:pt x="185" y="61"/>
                </a:lnTo>
                <a:lnTo>
                  <a:pt x="194" y="49"/>
                </a:lnTo>
                <a:lnTo>
                  <a:pt x="204" y="38"/>
                </a:lnTo>
                <a:lnTo>
                  <a:pt x="213" y="29"/>
                </a:lnTo>
                <a:lnTo>
                  <a:pt x="222" y="21"/>
                </a:lnTo>
                <a:lnTo>
                  <a:pt x="231" y="15"/>
                </a:lnTo>
                <a:lnTo>
                  <a:pt x="240" y="10"/>
                </a:lnTo>
                <a:lnTo>
                  <a:pt x="250" y="6"/>
                </a:lnTo>
                <a:lnTo>
                  <a:pt x="259" y="3"/>
                </a:lnTo>
                <a:lnTo>
                  <a:pt x="268" y="1"/>
                </a:lnTo>
                <a:lnTo>
                  <a:pt x="277" y="1"/>
                </a:lnTo>
                <a:lnTo>
                  <a:pt x="287" y="1"/>
                </a:lnTo>
                <a:lnTo>
                  <a:pt x="296" y="2"/>
                </a:lnTo>
                <a:lnTo>
                  <a:pt x="305" y="4"/>
                </a:lnTo>
                <a:lnTo>
                  <a:pt x="314" y="7"/>
                </a:lnTo>
                <a:lnTo>
                  <a:pt x="324" y="11"/>
                </a:lnTo>
                <a:lnTo>
                  <a:pt x="333" y="16"/>
                </a:lnTo>
                <a:lnTo>
                  <a:pt x="342" y="22"/>
                </a:lnTo>
                <a:lnTo>
                  <a:pt x="351" y="28"/>
                </a:lnTo>
                <a:lnTo>
                  <a:pt x="361" y="35"/>
                </a:lnTo>
                <a:lnTo>
                  <a:pt x="370" y="42"/>
                </a:lnTo>
                <a:lnTo>
                  <a:pt x="379" y="50"/>
                </a:lnTo>
                <a:lnTo>
                  <a:pt x="388" y="58"/>
                </a:lnTo>
                <a:lnTo>
                  <a:pt x="397" y="68"/>
                </a:lnTo>
                <a:lnTo>
                  <a:pt x="407" y="77"/>
                </a:lnTo>
                <a:lnTo>
                  <a:pt x="416" y="87"/>
                </a:lnTo>
                <a:lnTo>
                  <a:pt x="425" y="98"/>
                </a:lnTo>
                <a:lnTo>
                  <a:pt x="434" y="108"/>
                </a:lnTo>
                <a:lnTo>
                  <a:pt x="444" y="119"/>
                </a:lnTo>
                <a:lnTo>
                  <a:pt x="453" y="131"/>
                </a:lnTo>
                <a:lnTo>
                  <a:pt x="462" y="142"/>
                </a:lnTo>
                <a:lnTo>
                  <a:pt x="471" y="154"/>
                </a:lnTo>
                <a:lnTo>
                  <a:pt x="481" y="166"/>
                </a:lnTo>
                <a:lnTo>
                  <a:pt x="490" y="179"/>
                </a:lnTo>
                <a:lnTo>
                  <a:pt x="499" y="191"/>
                </a:lnTo>
                <a:lnTo>
                  <a:pt x="508" y="203"/>
                </a:lnTo>
                <a:lnTo>
                  <a:pt x="517" y="216"/>
                </a:lnTo>
                <a:lnTo>
                  <a:pt x="527" y="228"/>
                </a:lnTo>
                <a:lnTo>
                  <a:pt x="536" y="241"/>
                </a:lnTo>
                <a:lnTo>
                  <a:pt x="545" y="254"/>
                </a:lnTo>
                <a:lnTo>
                  <a:pt x="554" y="266"/>
                </a:lnTo>
                <a:lnTo>
                  <a:pt x="564" y="279"/>
                </a:lnTo>
                <a:lnTo>
                  <a:pt x="573" y="291"/>
                </a:lnTo>
                <a:lnTo>
                  <a:pt x="582" y="304"/>
                </a:lnTo>
                <a:lnTo>
                  <a:pt x="592" y="316"/>
                </a:lnTo>
                <a:lnTo>
                  <a:pt x="601" y="328"/>
                </a:lnTo>
                <a:lnTo>
                  <a:pt x="610" y="340"/>
                </a:lnTo>
                <a:lnTo>
                  <a:pt x="619" y="351"/>
                </a:lnTo>
                <a:lnTo>
                  <a:pt x="628" y="363"/>
                </a:lnTo>
                <a:lnTo>
                  <a:pt x="638" y="374"/>
                </a:lnTo>
                <a:lnTo>
                  <a:pt x="647" y="385"/>
                </a:lnTo>
                <a:lnTo>
                  <a:pt x="656" y="396"/>
                </a:lnTo>
                <a:lnTo>
                  <a:pt x="665" y="406"/>
                </a:lnTo>
                <a:lnTo>
                  <a:pt x="674" y="416"/>
                </a:lnTo>
                <a:lnTo>
                  <a:pt x="684" y="426"/>
                </a:lnTo>
                <a:lnTo>
                  <a:pt x="693" y="435"/>
                </a:lnTo>
                <a:lnTo>
                  <a:pt x="702" y="444"/>
                </a:lnTo>
                <a:lnTo>
                  <a:pt x="712" y="453"/>
                </a:lnTo>
                <a:lnTo>
                  <a:pt x="721" y="462"/>
                </a:lnTo>
                <a:lnTo>
                  <a:pt x="730" y="469"/>
                </a:lnTo>
                <a:lnTo>
                  <a:pt x="739" y="477"/>
                </a:lnTo>
                <a:lnTo>
                  <a:pt x="748" y="484"/>
                </a:lnTo>
                <a:lnTo>
                  <a:pt x="758" y="491"/>
                </a:lnTo>
                <a:lnTo>
                  <a:pt x="767" y="497"/>
                </a:lnTo>
                <a:lnTo>
                  <a:pt x="776" y="503"/>
                </a:lnTo>
                <a:lnTo>
                  <a:pt x="785" y="508"/>
                </a:lnTo>
                <a:lnTo>
                  <a:pt x="795" y="513"/>
                </a:lnTo>
                <a:lnTo>
                  <a:pt x="804" y="518"/>
                </a:lnTo>
                <a:lnTo>
                  <a:pt x="813" y="522"/>
                </a:lnTo>
                <a:lnTo>
                  <a:pt x="822" y="525"/>
                </a:lnTo>
                <a:lnTo>
                  <a:pt x="832" y="528"/>
                </a:lnTo>
                <a:lnTo>
                  <a:pt x="841" y="530"/>
                </a:lnTo>
                <a:lnTo>
                  <a:pt x="850" y="532"/>
                </a:lnTo>
                <a:lnTo>
                  <a:pt x="859" y="534"/>
                </a:lnTo>
                <a:lnTo>
                  <a:pt x="869" y="535"/>
                </a:lnTo>
                <a:lnTo>
                  <a:pt x="878" y="535"/>
                </a:lnTo>
                <a:lnTo>
                  <a:pt x="887" y="535"/>
                </a:lnTo>
                <a:lnTo>
                  <a:pt x="896" y="535"/>
                </a:lnTo>
                <a:lnTo>
                  <a:pt x="905" y="534"/>
                </a:lnTo>
                <a:lnTo>
                  <a:pt x="915" y="532"/>
                </a:lnTo>
                <a:lnTo>
                  <a:pt x="924" y="530"/>
                </a:lnTo>
                <a:lnTo>
                  <a:pt x="933" y="528"/>
                </a:lnTo>
                <a:lnTo>
                  <a:pt x="943" y="525"/>
                </a:lnTo>
                <a:lnTo>
                  <a:pt x="952" y="522"/>
                </a:lnTo>
                <a:lnTo>
                  <a:pt x="961" y="518"/>
                </a:lnTo>
                <a:lnTo>
                  <a:pt x="970" y="513"/>
                </a:lnTo>
                <a:lnTo>
                  <a:pt x="979" y="508"/>
                </a:lnTo>
                <a:lnTo>
                  <a:pt x="989" y="503"/>
                </a:lnTo>
                <a:lnTo>
                  <a:pt x="998" y="497"/>
                </a:lnTo>
                <a:lnTo>
                  <a:pt x="1007" y="491"/>
                </a:lnTo>
                <a:lnTo>
                  <a:pt x="1016" y="484"/>
                </a:lnTo>
                <a:lnTo>
                  <a:pt x="1026" y="477"/>
                </a:lnTo>
                <a:lnTo>
                  <a:pt x="1035" y="469"/>
                </a:lnTo>
                <a:lnTo>
                  <a:pt x="1044" y="461"/>
                </a:lnTo>
                <a:lnTo>
                  <a:pt x="1053" y="453"/>
                </a:lnTo>
                <a:lnTo>
                  <a:pt x="1062" y="444"/>
                </a:lnTo>
                <a:lnTo>
                  <a:pt x="1072" y="435"/>
                </a:lnTo>
                <a:lnTo>
                  <a:pt x="1081" y="426"/>
                </a:lnTo>
                <a:lnTo>
                  <a:pt x="1090" y="416"/>
                </a:lnTo>
                <a:lnTo>
                  <a:pt x="1100" y="406"/>
                </a:lnTo>
                <a:lnTo>
                  <a:pt x="1109" y="395"/>
                </a:lnTo>
                <a:lnTo>
                  <a:pt x="1118" y="385"/>
                </a:lnTo>
                <a:lnTo>
                  <a:pt x="1127" y="374"/>
                </a:lnTo>
                <a:lnTo>
                  <a:pt x="1136" y="363"/>
                </a:lnTo>
                <a:lnTo>
                  <a:pt x="1146" y="351"/>
                </a:lnTo>
                <a:lnTo>
                  <a:pt x="1155" y="340"/>
                </a:lnTo>
                <a:lnTo>
                  <a:pt x="1164" y="328"/>
                </a:lnTo>
                <a:lnTo>
                  <a:pt x="1173" y="316"/>
                </a:lnTo>
                <a:lnTo>
                  <a:pt x="1182" y="303"/>
                </a:lnTo>
                <a:lnTo>
                  <a:pt x="1192" y="291"/>
                </a:lnTo>
                <a:lnTo>
                  <a:pt x="1201" y="278"/>
                </a:lnTo>
                <a:lnTo>
                  <a:pt x="1210" y="266"/>
                </a:lnTo>
                <a:lnTo>
                  <a:pt x="1220" y="253"/>
                </a:lnTo>
                <a:lnTo>
                  <a:pt x="1229" y="241"/>
                </a:lnTo>
                <a:lnTo>
                  <a:pt x="1238" y="228"/>
                </a:lnTo>
                <a:lnTo>
                  <a:pt x="1247" y="216"/>
                </a:lnTo>
                <a:lnTo>
                  <a:pt x="1256" y="203"/>
                </a:lnTo>
                <a:lnTo>
                  <a:pt x="1266" y="191"/>
                </a:lnTo>
                <a:lnTo>
                  <a:pt x="1275" y="178"/>
                </a:lnTo>
                <a:lnTo>
                  <a:pt x="1284" y="166"/>
                </a:lnTo>
                <a:lnTo>
                  <a:pt x="1293" y="154"/>
                </a:lnTo>
                <a:lnTo>
                  <a:pt x="1303" y="142"/>
                </a:lnTo>
                <a:lnTo>
                  <a:pt x="1312" y="130"/>
                </a:lnTo>
                <a:lnTo>
                  <a:pt x="1321" y="119"/>
                </a:lnTo>
                <a:lnTo>
                  <a:pt x="1331" y="108"/>
                </a:lnTo>
                <a:lnTo>
                  <a:pt x="1340" y="97"/>
                </a:lnTo>
                <a:lnTo>
                  <a:pt x="1349" y="87"/>
                </a:lnTo>
                <a:lnTo>
                  <a:pt x="1358" y="77"/>
                </a:lnTo>
                <a:lnTo>
                  <a:pt x="1367" y="67"/>
                </a:lnTo>
                <a:lnTo>
                  <a:pt x="1377" y="58"/>
                </a:lnTo>
                <a:lnTo>
                  <a:pt x="1386" y="50"/>
                </a:lnTo>
                <a:lnTo>
                  <a:pt x="1395" y="42"/>
                </a:lnTo>
                <a:lnTo>
                  <a:pt x="1404" y="34"/>
                </a:lnTo>
                <a:lnTo>
                  <a:pt x="1413" y="27"/>
                </a:lnTo>
                <a:lnTo>
                  <a:pt x="1423" y="21"/>
                </a:lnTo>
                <a:lnTo>
                  <a:pt x="1432" y="16"/>
                </a:lnTo>
                <a:lnTo>
                  <a:pt x="1441" y="11"/>
                </a:lnTo>
                <a:lnTo>
                  <a:pt x="1451" y="7"/>
                </a:lnTo>
                <a:lnTo>
                  <a:pt x="1460" y="4"/>
                </a:lnTo>
                <a:lnTo>
                  <a:pt x="1469" y="2"/>
                </a:lnTo>
                <a:lnTo>
                  <a:pt x="1478" y="1"/>
                </a:lnTo>
                <a:lnTo>
                  <a:pt x="1487" y="0"/>
                </a:lnTo>
                <a:lnTo>
                  <a:pt x="1497" y="1"/>
                </a:lnTo>
                <a:lnTo>
                  <a:pt x="1506" y="3"/>
                </a:lnTo>
                <a:lnTo>
                  <a:pt x="1515" y="5"/>
                </a:lnTo>
                <a:lnTo>
                  <a:pt x="1524" y="9"/>
                </a:lnTo>
                <a:lnTo>
                  <a:pt x="1534" y="15"/>
                </a:lnTo>
                <a:lnTo>
                  <a:pt x="1543" y="21"/>
                </a:lnTo>
                <a:lnTo>
                  <a:pt x="1552" y="29"/>
                </a:lnTo>
                <a:lnTo>
                  <a:pt x="1561" y="38"/>
                </a:lnTo>
                <a:lnTo>
                  <a:pt x="1571" y="49"/>
                </a:lnTo>
                <a:lnTo>
                  <a:pt x="1580" y="60"/>
                </a:lnTo>
                <a:lnTo>
                  <a:pt x="1589" y="74"/>
                </a:lnTo>
                <a:lnTo>
                  <a:pt x="1598" y="89"/>
                </a:lnTo>
                <a:lnTo>
                  <a:pt x="1608" y="106"/>
                </a:lnTo>
                <a:lnTo>
                  <a:pt x="1617" y="124"/>
                </a:lnTo>
                <a:lnTo>
                  <a:pt x="1626" y="144"/>
                </a:lnTo>
                <a:lnTo>
                  <a:pt x="1635" y="166"/>
                </a:lnTo>
                <a:lnTo>
                  <a:pt x="1644" y="189"/>
                </a:lnTo>
                <a:lnTo>
                  <a:pt x="1654" y="215"/>
                </a:lnTo>
                <a:lnTo>
                  <a:pt x="1663" y="243"/>
                </a:lnTo>
                <a:lnTo>
                  <a:pt x="1672" y="272"/>
                </a:lnTo>
                <a:lnTo>
                  <a:pt x="1681" y="304"/>
                </a:lnTo>
                <a:lnTo>
                  <a:pt x="1691" y="338"/>
                </a:lnTo>
                <a:lnTo>
                  <a:pt x="1700" y="374"/>
                </a:lnTo>
                <a:lnTo>
                  <a:pt x="1709" y="412"/>
                </a:lnTo>
                <a:lnTo>
                  <a:pt x="1718" y="452"/>
                </a:lnTo>
                <a:lnTo>
                  <a:pt x="1728" y="495"/>
                </a:lnTo>
                <a:lnTo>
                  <a:pt x="1737" y="541"/>
                </a:lnTo>
                <a:lnTo>
                  <a:pt x="1746" y="588"/>
                </a:lnTo>
                <a:lnTo>
                  <a:pt x="1755" y="6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17920" y="1617840"/>
            <a:ext cx="569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6360" y="55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11440" y="1015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43080" y="145908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92280" y="5338800"/>
            <a:ext cx="234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(°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19560" y="436896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28920" y="437364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05720" y="437688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08200" y="4929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7040" y="5029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65880" y="5029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94360" y="5029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23200" y="5029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7920" y="4929120"/>
            <a:ext cx="569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54120" y="50036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18880" y="50036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7720" y="50036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6560" y="50036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05400" y="50036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6360" y="4869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267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611440" y="341316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43080" y="47703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36920" y="1689120"/>
            <a:ext cx="4289400" cy="1432080"/>
          </a:xfrm>
          <a:custGeom>
            <a:avLst/>
            <a:gdLst/>
            <a:ahLst/>
            <a:rect l="l" t="t" r="r" b="b"/>
            <a:pathLst>
              <a:path w="1756" h="1382">
                <a:moveTo>
                  <a:pt x="0" y="1381"/>
                </a:moveTo>
                <a:lnTo>
                  <a:pt x="6" y="1379"/>
                </a:lnTo>
                <a:lnTo>
                  <a:pt x="12" y="1377"/>
                </a:lnTo>
                <a:lnTo>
                  <a:pt x="18" y="1374"/>
                </a:lnTo>
                <a:lnTo>
                  <a:pt x="24" y="1372"/>
                </a:lnTo>
                <a:lnTo>
                  <a:pt x="30" y="1370"/>
                </a:lnTo>
                <a:lnTo>
                  <a:pt x="35" y="1367"/>
                </a:lnTo>
                <a:lnTo>
                  <a:pt x="41" y="1365"/>
                </a:lnTo>
                <a:lnTo>
                  <a:pt x="47" y="1363"/>
                </a:lnTo>
                <a:lnTo>
                  <a:pt x="53" y="1360"/>
                </a:lnTo>
                <a:lnTo>
                  <a:pt x="59" y="1358"/>
                </a:lnTo>
                <a:lnTo>
                  <a:pt x="64" y="1356"/>
                </a:lnTo>
                <a:lnTo>
                  <a:pt x="71" y="1353"/>
                </a:lnTo>
                <a:lnTo>
                  <a:pt x="76" y="1351"/>
                </a:lnTo>
                <a:lnTo>
                  <a:pt x="82" y="1349"/>
                </a:lnTo>
                <a:lnTo>
                  <a:pt x="88" y="1346"/>
                </a:lnTo>
                <a:lnTo>
                  <a:pt x="94" y="1344"/>
                </a:lnTo>
                <a:lnTo>
                  <a:pt x="100" y="1342"/>
                </a:lnTo>
                <a:lnTo>
                  <a:pt x="106" y="1339"/>
                </a:lnTo>
                <a:lnTo>
                  <a:pt x="111" y="1337"/>
                </a:lnTo>
                <a:lnTo>
                  <a:pt x="117" y="1335"/>
                </a:lnTo>
                <a:lnTo>
                  <a:pt x="123" y="1332"/>
                </a:lnTo>
                <a:lnTo>
                  <a:pt x="129" y="1330"/>
                </a:lnTo>
                <a:lnTo>
                  <a:pt x="135" y="1327"/>
                </a:lnTo>
                <a:lnTo>
                  <a:pt x="141" y="1325"/>
                </a:lnTo>
                <a:lnTo>
                  <a:pt x="147" y="1323"/>
                </a:lnTo>
                <a:lnTo>
                  <a:pt x="152" y="1320"/>
                </a:lnTo>
                <a:lnTo>
                  <a:pt x="158" y="1318"/>
                </a:lnTo>
                <a:lnTo>
                  <a:pt x="164" y="1315"/>
                </a:lnTo>
                <a:lnTo>
                  <a:pt x="170" y="1313"/>
                </a:lnTo>
                <a:lnTo>
                  <a:pt x="176" y="1311"/>
                </a:lnTo>
                <a:lnTo>
                  <a:pt x="182" y="1308"/>
                </a:lnTo>
                <a:lnTo>
                  <a:pt x="187" y="1306"/>
                </a:lnTo>
                <a:lnTo>
                  <a:pt x="193" y="1304"/>
                </a:lnTo>
                <a:lnTo>
                  <a:pt x="199" y="1301"/>
                </a:lnTo>
                <a:lnTo>
                  <a:pt x="205" y="1299"/>
                </a:lnTo>
                <a:lnTo>
                  <a:pt x="211" y="1296"/>
                </a:lnTo>
                <a:lnTo>
                  <a:pt x="217" y="1294"/>
                </a:lnTo>
                <a:lnTo>
                  <a:pt x="223" y="1291"/>
                </a:lnTo>
                <a:lnTo>
                  <a:pt x="228" y="1289"/>
                </a:lnTo>
                <a:lnTo>
                  <a:pt x="234" y="1287"/>
                </a:lnTo>
                <a:lnTo>
                  <a:pt x="240" y="1284"/>
                </a:lnTo>
                <a:lnTo>
                  <a:pt x="246" y="1282"/>
                </a:lnTo>
                <a:lnTo>
                  <a:pt x="252" y="1279"/>
                </a:lnTo>
                <a:lnTo>
                  <a:pt x="258" y="1277"/>
                </a:lnTo>
                <a:lnTo>
                  <a:pt x="263" y="1274"/>
                </a:lnTo>
                <a:lnTo>
                  <a:pt x="269" y="1272"/>
                </a:lnTo>
                <a:lnTo>
                  <a:pt x="275" y="1269"/>
                </a:lnTo>
                <a:lnTo>
                  <a:pt x="281" y="1267"/>
                </a:lnTo>
                <a:lnTo>
                  <a:pt x="287" y="1264"/>
                </a:lnTo>
                <a:lnTo>
                  <a:pt x="293" y="1262"/>
                </a:lnTo>
                <a:lnTo>
                  <a:pt x="299" y="1259"/>
                </a:lnTo>
                <a:lnTo>
                  <a:pt x="304" y="1257"/>
                </a:lnTo>
                <a:lnTo>
                  <a:pt x="310" y="1255"/>
                </a:lnTo>
                <a:lnTo>
                  <a:pt x="316" y="1252"/>
                </a:lnTo>
                <a:lnTo>
                  <a:pt x="322" y="1249"/>
                </a:lnTo>
                <a:lnTo>
                  <a:pt x="328" y="1247"/>
                </a:lnTo>
                <a:lnTo>
                  <a:pt x="334" y="1245"/>
                </a:lnTo>
                <a:lnTo>
                  <a:pt x="340" y="1242"/>
                </a:lnTo>
                <a:lnTo>
                  <a:pt x="345" y="1239"/>
                </a:lnTo>
                <a:lnTo>
                  <a:pt x="351" y="1237"/>
                </a:lnTo>
                <a:lnTo>
                  <a:pt x="357" y="1234"/>
                </a:lnTo>
                <a:lnTo>
                  <a:pt x="363" y="1232"/>
                </a:lnTo>
                <a:lnTo>
                  <a:pt x="369" y="1229"/>
                </a:lnTo>
                <a:lnTo>
                  <a:pt x="375" y="1227"/>
                </a:lnTo>
                <a:lnTo>
                  <a:pt x="380" y="1224"/>
                </a:lnTo>
                <a:lnTo>
                  <a:pt x="386" y="1221"/>
                </a:lnTo>
                <a:lnTo>
                  <a:pt x="392" y="1219"/>
                </a:lnTo>
                <a:lnTo>
                  <a:pt x="398" y="1216"/>
                </a:lnTo>
                <a:lnTo>
                  <a:pt x="404" y="1214"/>
                </a:lnTo>
                <a:lnTo>
                  <a:pt x="410" y="1211"/>
                </a:lnTo>
                <a:lnTo>
                  <a:pt x="416" y="1208"/>
                </a:lnTo>
                <a:lnTo>
                  <a:pt x="422" y="1206"/>
                </a:lnTo>
                <a:lnTo>
                  <a:pt x="427" y="1203"/>
                </a:lnTo>
                <a:lnTo>
                  <a:pt x="433" y="1200"/>
                </a:lnTo>
                <a:lnTo>
                  <a:pt x="439" y="1198"/>
                </a:lnTo>
                <a:lnTo>
                  <a:pt x="445" y="1195"/>
                </a:lnTo>
                <a:lnTo>
                  <a:pt x="451" y="1192"/>
                </a:lnTo>
                <a:lnTo>
                  <a:pt x="456" y="1190"/>
                </a:lnTo>
                <a:lnTo>
                  <a:pt x="462" y="1187"/>
                </a:lnTo>
                <a:lnTo>
                  <a:pt x="468" y="1184"/>
                </a:lnTo>
                <a:lnTo>
                  <a:pt x="474" y="1182"/>
                </a:lnTo>
                <a:lnTo>
                  <a:pt x="480" y="1179"/>
                </a:lnTo>
                <a:lnTo>
                  <a:pt x="486" y="1176"/>
                </a:lnTo>
                <a:lnTo>
                  <a:pt x="492" y="1173"/>
                </a:lnTo>
                <a:lnTo>
                  <a:pt x="498" y="1171"/>
                </a:lnTo>
                <a:lnTo>
                  <a:pt x="503" y="1168"/>
                </a:lnTo>
                <a:lnTo>
                  <a:pt x="509" y="1165"/>
                </a:lnTo>
                <a:lnTo>
                  <a:pt x="515" y="1162"/>
                </a:lnTo>
                <a:lnTo>
                  <a:pt x="521" y="1160"/>
                </a:lnTo>
                <a:lnTo>
                  <a:pt x="527" y="1157"/>
                </a:lnTo>
                <a:lnTo>
                  <a:pt x="533" y="1154"/>
                </a:lnTo>
                <a:lnTo>
                  <a:pt x="539" y="1151"/>
                </a:lnTo>
                <a:lnTo>
                  <a:pt x="544" y="1148"/>
                </a:lnTo>
                <a:lnTo>
                  <a:pt x="550" y="1145"/>
                </a:lnTo>
                <a:lnTo>
                  <a:pt x="556" y="1143"/>
                </a:lnTo>
                <a:lnTo>
                  <a:pt x="562" y="1140"/>
                </a:lnTo>
                <a:lnTo>
                  <a:pt x="568" y="1137"/>
                </a:lnTo>
                <a:lnTo>
                  <a:pt x="574" y="1134"/>
                </a:lnTo>
                <a:lnTo>
                  <a:pt x="579" y="1131"/>
                </a:lnTo>
                <a:lnTo>
                  <a:pt x="585" y="1128"/>
                </a:lnTo>
                <a:lnTo>
                  <a:pt x="591" y="1125"/>
                </a:lnTo>
                <a:lnTo>
                  <a:pt x="597" y="1122"/>
                </a:lnTo>
                <a:lnTo>
                  <a:pt x="603" y="1119"/>
                </a:lnTo>
                <a:lnTo>
                  <a:pt x="609" y="1116"/>
                </a:lnTo>
                <a:lnTo>
                  <a:pt x="615" y="1113"/>
                </a:lnTo>
                <a:lnTo>
                  <a:pt x="620" y="1110"/>
                </a:lnTo>
                <a:lnTo>
                  <a:pt x="626" y="1107"/>
                </a:lnTo>
                <a:lnTo>
                  <a:pt x="632" y="1104"/>
                </a:lnTo>
                <a:lnTo>
                  <a:pt x="638" y="1101"/>
                </a:lnTo>
                <a:lnTo>
                  <a:pt x="644" y="1098"/>
                </a:lnTo>
                <a:lnTo>
                  <a:pt x="650" y="1095"/>
                </a:lnTo>
                <a:lnTo>
                  <a:pt x="655" y="1092"/>
                </a:lnTo>
                <a:lnTo>
                  <a:pt x="661" y="1089"/>
                </a:lnTo>
                <a:lnTo>
                  <a:pt x="667" y="1086"/>
                </a:lnTo>
                <a:lnTo>
                  <a:pt x="673" y="1083"/>
                </a:lnTo>
                <a:lnTo>
                  <a:pt x="679" y="1079"/>
                </a:lnTo>
                <a:lnTo>
                  <a:pt x="685" y="1076"/>
                </a:lnTo>
                <a:lnTo>
                  <a:pt x="691" y="1073"/>
                </a:lnTo>
                <a:lnTo>
                  <a:pt x="696" y="1070"/>
                </a:lnTo>
                <a:lnTo>
                  <a:pt x="702" y="1067"/>
                </a:lnTo>
                <a:lnTo>
                  <a:pt x="708" y="1064"/>
                </a:lnTo>
                <a:lnTo>
                  <a:pt x="714" y="1060"/>
                </a:lnTo>
                <a:lnTo>
                  <a:pt x="720" y="1057"/>
                </a:lnTo>
                <a:lnTo>
                  <a:pt x="726" y="1054"/>
                </a:lnTo>
                <a:lnTo>
                  <a:pt x="731" y="1051"/>
                </a:lnTo>
                <a:lnTo>
                  <a:pt x="737" y="1047"/>
                </a:lnTo>
                <a:lnTo>
                  <a:pt x="743" y="1044"/>
                </a:lnTo>
                <a:lnTo>
                  <a:pt x="749" y="1041"/>
                </a:lnTo>
                <a:lnTo>
                  <a:pt x="755" y="1037"/>
                </a:lnTo>
                <a:lnTo>
                  <a:pt x="761" y="1034"/>
                </a:lnTo>
                <a:lnTo>
                  <a:pt x="767" y="1031"/>
                </a:lnTo>
                <a:lnTo>
                  <a:pt x="772" y="1027"/>
                </a:lnTo>
                <a:lnTo>
                  <a:pt x="778" y="1024"/>
                </a:lnTo>
                <a:lnTo>
                  <a:pt x="784" y="1020"/>
                </a:lnTo>
                <a:lnTo>
                  <a:pt x="790" y="1017"/>
                </a:lnTo>
                <a:lnTo>
                  <a:pt x="796" y="1013"/>
                </a:lnTo>
                <a:lnTo>
                  <a:pt x="802" y="1010"/>
                </a:lnTo>
                <a:lnTo>
                  <a:pt x="808" y="1006"/>
                </a:lnTo>
                <a:lnTo>
                  <a:pt x="814" y="1003"/>
                </a:lnTo>
                <a:lnTo>
                  <a:pt x="819" y="999"/>
                </a:lnTo>
                <a:lnTo>
                  <a:pt x="825" y="996"/>
                </a:lnTo>
                <a:lnTo>
                  <a:pt x="831" y="992"/>
                </a:lnTo>
                <a:lnTo>
                  <a:pt x="837" y="988"/>
                </a:lnTo>
                <a:lnTo>
                  <a:pt x="843" y="985"/>
                </a:lnTo>
                <a:lnTo>
                  <a:pt x="848" y="981"/>
                </a:lnTo>
                <a:lnTo>
                  <a:pt x="854" y="978"/>
                </a:lnTo>
                <a:lnTo>
                  <a:pt x="860" y="974"/>
                </a:lnTo>
                <a:lnTo>
                  <a:pt x="866" y="970"/>
                </a:lnTo>
                <a:lnTo>
                  <a:pt x="872" y="966"/>
                </a:lnTo>
                <a:lnTo>
                  <a:pt x="878" y="963"/>
                </a:lnTo>
                <a:lnTo>
                  <a:pt x="884" y="959"/>
                </a:lnTo>
                <a:lnTo>
                  <a:pt x="890" y="955"/>
                </a:lnTo>
                <a:lnTo>
                  <a:pt x="895" y="951"/>
                </a:lnTo>
                <a:lnTo>
                  <a:pt x="901" y="947"/>
                </a:lnTo>
                <a:lnTo>
                  <a:pt x="907" y="944"/>
                </a:lnTo>
                <a:lnTo>
                  <a:pt x="913" y="940"/>
                </a:lnTo>
                <a:lnTo>
                  <a:pt x="919" y="935"/>
                </a:lnTo>
                <a:lnTo>
                  <a:pt x="925" y="932"/>
                </a:lnTo>
                <a:lnTo>
                  <a:pt x="930" y="928"/>
                </a:lnTo>
                <a:lnTo>
                  <a:pt x="936" y="924"/>
                </a:lnTo>
                <a:lnTo>
                  <a:pt x="942" y="920"/>
                </a:lnTo>
                <a:lnTo>
                  <a:pt x="948" y="916"/>
                </a:lnTo>
                <a:lnTo>
                  <a:pt x="954" y="912"/>
                </a:lnTo>
                <a:lnTo>
                  <a:pt x="960" y="908"/>
                </a:lnTo>
                <a:lnTo>
                  <a:pt x="966" y="903"/>
                </a:lnTo>
                <a:lnTo>
                  <a:pt x="971" y="899"/>
                </a:lnTo>
                <a:lnTo>
                  <a:pt x="977" y="895"/>
                </a:lnTo>
                <a:lnTo>
                  <a:pt x="983" y="891"/>
                </a:lnTo>
                <a:lnTo>
                  <a:pt x="989" y="887"/>
                </a:lnTo>
                <a:lnTo>
                  <a:pt x="995" y="882"/>
                </a:lnTo>
                <a:lnTo>
                  <a:pt x="1001" y="878"/>
                </a:lnTo>
                <a:lnTo>
                  <a:pt x="1007" y="874"/>
                </a:lnTo>
                <a:lnTo>
                  <a:pt x="1012" y="870"/>
                </a:lnTo>
                <a:lnTo>
                  <a:pt x="1018" y="865"/>
                </a:lnTo>
                <a:lnTo>
                  <a:pt x="1024" y="861"/>
                </a:lnTo>
                <a:lnTo>
                  <a:pt x="1030" y="856"/>
                </a:lnTo>
                <a:lnTo>
                  <a:pt x="1036" y="852"/>
                </a:lnTo>
                <a:lnTo>
                  <a:pt x="1042" y="847"/>
                </a:lnTo>
                <a:lnTo>
                  <a:pt x="1047" y="843"/>
                </a:lnTo>
                <a:lnTo>
                  <a:pt x="1053" y="838"/>
                </a:lnTo>
                <a:lnTo>
                  <a:pt x="1059" y="834"/>
                </a:lnTo>
                <a:lnTo>
                  <a:pt x="1065" y="829"/>
                </a:lnTo>
                <a:lnTo>
                  <a:pt x="1071" y="825"/>
                </a:lnTo>
                <a:lnTo>
                  <a:pt x="1077" y="820"/>
                </a:lnTo>
                <a:lnTo>
                  <a:pt x="1083" y="815"/>
                </a:lnTo>
                <a:lnTo>
                  <a:pt x="1088" y="811"/>
                </a:lnTo>
                <a:lnTo>
                  <a:pt x="1094" y="806"/>
                </a:lnTo>
                <a:lnTo>
                  <a:pt x="1100" y="801"/>
                </a:lnTo>
                <a:lnTo>
                  <a:pt x="1106" y="796"/>
                </a:lnTo>
                <a:lnTo>
                  <a:pt x="1112" y="791"/>
                </a:lnTo>
                <a:lnTo>
                  <a:pt x="1118" y="787"/>
                </a:lnTo>
                <a:lnTo>
                  <a:pt x="1123" y="782"/>
                </a:lnTo>
                <a:lnTo>
                  <a:pt x="1129" y="777"/>
                </a:lnTo>
                <a:lnTo>
                  <a:pt x="1135" y="772"/>
                </a:lnTo>
                <a:lnTo>
                  <a:pt x="1141" y="767"/>
                </a:lnTo>
                <a:lnTo>
                  <a:pt x="1147" y="762"/>
                </a:lnTo>
                <a:lnTo>
                  <a:pt x="1153" y="757"/>
                </a:lnTo>
                <a:lnTo>
                  <a:pt x="1159" y="751"/>
                </a:lnTo>
                <a:lnTo>
                  <a:pt x="1164" y="746"/>
                </a:lnTo>
                <a:lnTo>
                  <a:pt x="1170" y="741"/>
                </a:lnTo>
                <a:lnTo>
                  <a:pt x="1176" y="736"/>
                </a:lnTo>
                <a:lnTo>
                  <a:pt x="1182" y="731"/>
                </a:lnTo>
                <a:lnTo>
                  <a:pt x="1188" y="726"/>
                </a:lnTo>
                <a:lnTo>
                  <a:pt x="1194" y="720"/>
                </a:lnTo>
                <a:lnTo>
                  <a:pt x="1199" y="715"/>
                </a:lnTo>
                <a:lnTo>
                  <a:pt x="1206" y="709"/>
                </a:lnTo>
                <a:lnTo>
                  <a:pt x="1211" y="704"/>
                </a:lnTo>
                <a:lnTo>
                  <a:pt x="1217" y="699"/>
                </a:lnTo>
                <a:lnTo>
                  <a:pt x="1223" y="693"/>
                </a:lnTo>
                <a:lnTo>
                  <a:pt x="1229" y="688"/>
                </a:lnTo>
                <a:lnTo>
                  <a:pt x="1235" y="682"/>
                </a:lnTo>
                <a:lnTo>
                  <a:pt x="1240" y="677"/>
                </a:lnTo>
                <a:lnTo>
                  <a:pt x="1246" y="671"/>
                </a:lnTo>
                <a:lnTo>
                  <a:pt x="1252" y="665"/>
                </a:lnTo>
                <a:lnTo>
                  <a:pt x="1258" y="660"/>
                </a:lnTo>
                <a:lnTo>
                  <a:pt x="1264" y="654"/>
                </a:lnTo>
                <a:lnTo>
                  <a:pt x="1270" y="648"/>
                </a:lnTo>
                <a:lnTo>
                  <a:pt x="1276" y="642"/>
                </a:lnTo>
                <a:lnTo>
                  <a:pt x="1282" y="636"/>
                </a:lnTo>
                <a:lnTo>
                  <a:pt x="1287" y="630"/>
                </a:lnTo>
                <a:lnTo>
                  <a:pt x="1293" y="624"/>
                </a:lnTo>
                <a:lnTo>
                  <a:pt x="1299" y="618"/>
                </a:lnTo>
                <a:lnTo>
                  <a:pt x="1305" y="612"/>
                </a:lnTo>
                <a:lnTo>
                  <a:pt x="1311" y="606"/>
                </a:lnTo>
                <a:lnTo>
                  <a:pt x="1317" y="600"/>
                </a:lnTo>
                <a:lnTo>
                  <a:pt x="1322" y="594"/>
                </a:lnTo>
                <a:lnTo>
                  <a:pt x="1328" y="588"/>
                </a:lnTo>
                <a:lnTo>
                  <a:pt x="1334" y="582"/>
                </a:lnTo>
                <a:lnTo>
                  <a:pt x="1340" y="575"/>
                </a:lnTo>
                <a:lnTo>
                  <a:pt x="1346" y="569"/>
                </a:lnTo>
                <a:lnTo>
                  <a:pt x="1352" y="563"/>
                </a:lnTo>
                <a:lnTo>
                  <a:pt x="1358" y="556"/>
                </a:lnTo>
                <a:lnTo>
                  <a:pt x="1363" y="550"/>
                </a:lnTo>
                <a:lnTo>
                  <a:pt x="1369" y="543"/>
                </a:lnTo>
                <a:lnTo>
                  <a:pt x="1375" y="537"/>
                </a:lnTo>
                <a:lnTo>
                  <a:pt x="1381" y="530"/>
                </a:lnTo>
                <a:lnTo>
                  <a:pt x="1387" y="523"/>
                </a:lnTo>
                <a:lnTo>
                  <a:pt x="1393" y="517"/>
                </a:lnTo>
                <a:lnTo>
                  <a:pt x="1398" y="510"/>
                </a:lnTo>
                <a:lnTo>
                  <a:pt x="1404" y="503"/>
                </a:lnTo>
                <a:lnTo>
                  <a:pt x="1410" y="497"/>
                </a:lnTo>
                <a:lnTo>
                  <a:pt x="1416" y="490"/>
                </a:lnTo>
                <a:lnTo>
                  <a:pt x="1422" y="483"/>
                </a:lnTo>
                <a:lnTo>
                  <a:pt x="1428" y="476"/>
                </a:lnTo>
                <a:lnTo>
                  <a:pt x="1434" y="469"/>
                </a:lnTo>
                <a:lnTo>
                  <a:pt x="1439" y="462"/>
                </a:lnTo>
                <a:lnTo>
                  <a:pt x="1445" y="455"/>
                </a:lnTo>
                <a:lnTo>
                  <a:pt x="1451" y="447"/>
                </a:lnTo>
                <a:lnTo>
                  <a:pt x="1457" y="440"/>
                </a:lnTo>
                <a:lnTo>
                  <a:pt x="1463" y="433"/>
                </a:lnTo>
                <a:lnTo>
                  <a:pt x="1469" y="426"/>
                </a:lnTo>
                <a:lnTo>
                  <a:pt x="1475" y="418"/>
                </a:lnTo>
                <a:lnTo>
                  <a:pt x="1480" y="411"/>
                </a:lnTo>
                <a:lnTo>
                  <a:pt x="1486" y="404"/>
                </a:lnTo>
                <a:lnTo>
                  <a:pt x="1492" y="396"/>
                </a:lnTo>
                <a:lnTo>
                  <a:pt x="1498" y="388"/>
                </a:lnTo>
                <a:lnTo>
                  <a:pt x="1504" y="381"/>
                </a:lnTo>
                <a:lnTo>
                  <a:pt x="1510" y="373"/>
                </a:lnTo>
                <a:lnTo>
                  <a:pt x="1515" y="366"/>
                </a:lnTo>
                <a:lnTo>
                  <a:pt x="1521" y="358"/>
                </a:lnTo>
                <a:lnTo>
                  <a:pt x="1527" y="350"/>
                </a:lnTo>
                <a:lnTo>
                  <a:pt x="1533" y="342"/>
                </a:lnTo>
                <a:lnTo>
                  <a:pt x="1539" y="334"/>
                </a:lnTo>
                <a:lnTo>
                  <a:pt x="1545" y="326"/>
                </a:lnTo>
                <a:lnTo>
                  <a:pt x="1551" y="318"/>
                </a:lnTo>
                <a:lnTo>
                  <a:pt x="1556" y="310"/>
                </a:lnTo>
                <a:lnTo>
                  <a:pt x="1562" y="302"/>
                </a:lnTo>
                <a:lnTo>
                  <a:pt x="1568" y="294"/>
                </a:lnTo>
                <a:lnTo>
                  <a:pt x="1574" y="285"/>
                </a:lnTo>
                <a:lnTo>
                  <a:pt x="1580" y="277"/>
                </a:lnTo>
                <a:lnTo>
                  <a:pt x="1586" y="269"/>
                </a:lnTo>
                <a:lnTo>
                  <a:pt x="1591" y="260"/>
                </a:lnTo>
                <a:lnTo>
                  <a:pt x="1597" y="252"/>
                </a:lnTo>
                <a:lnTo>
                  <a:pt x="1603" y="243"/>
                </a:lnTo>
                <a:lnTo>
                  <a:pt x="1609" y="235"/>
                </a:lnTo>
                <a:lnTo>
                  <a:pt x="1615" y="226"/>
                </a:lnTo>
                <a:lnTo>
                  <a:pt x="1621" y="217"/>
                </a:lnTo>
                <a:lnTo>
                  <a:pt x="1627" y="209"/>
                </a:lnTo>
                <a:lnTo>
                  <a:pt x="1632" y="200"/>
                </a:lnTo>
                <a:lnTo>
                  <a:pt x="1638" y="191"/>
                </a:lnTo>
                <a:lnTo>
                  <a:pt x="1644" y="182"/>
                </a:lnTo>
                <a:lnTo>
                  <a:pt x="1650" y="173"/>
                </a:lnTo>
                <a:lnTo>
                  <a:pt x="1656" y="164"/>
                </a:lnTo>
                <a:lnTo>
                  <a:pt x="1662" y="154"/>
                </a:lnTo>
                <a:lnTo>
                  <a:pt x="1667" y="145"/>
                </a:lnTo>
                <a:lnTo>
                  <a:pt x="1674" y="136"/>
                </a:lnTo>
                <a:lnTo>
                  <a:pt x="1679" y="127"/>
                </a:lnTo>
                <a:lnTo>
                  <a:pt x="1685" y="117"/>
                </a:lnTo>
                <a:lnTo>
                  <a:pt x="1691" y="108"/>
                </a:lnTo>
                <a:lnTo>
                  <a:pt x="1697" y="99"/>
                </a:lnTo>
                <a:lnTo>
                  <a:pt x="1703" y="89"/>
                </a:lnTo>
                <a:lnTo>
                  <a:pt x="1709" y="79"/>
                </a:lnTo>
                <a:lnTo>
                  <a:pt x="1714" y="69"/>
                </a:lnTo>
                <a:lnTo>
                  <a:pt x="1720" y="60"/>
                </a:lnTo>
                <a:lnTo>
                  <a:pt x="1726" y="50"/>
                </a:lnTo>
                <a:lnTo>
                  <a:pt x="1732" y="40"/>
                </a:lnTo>
                <a:lnTo>
                  <a:pt x="1738" y="30"/>
                </a:lnTo>
                <a:lnTo>
                  <a:pt x="1744" y="20"/>
                </a:lnTo>
                <a:lnTo>
                  <a:pt x="1750" y="10"/>
                </a:lnTo>
                <a:lnTo>
                  <a:pt x="175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38920" y="1693800"/>
            <a:ext cx="0" cy="14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on on caterpillar growth rate TP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z(T) for a sample of individuals in the lab --&gt; estimate P(T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fitness of those individuals in the field (survival and time to pupation; pupal m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 (functional model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905120" y="1219320"/>
          <a:ext cx="556236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19320"/>
                    <a:ext cx="556236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438280" y="304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-specific mortality rat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osophi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letcher et al, Genetics (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895480" y="2449440"/>
          <a:ext cx="624852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49440"/>
                    <a:ext cx="624852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0" y="0"/>
          <a:ext cx="5257800" cy="34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25780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28600" y="457200"/>
          <a:ext cx="867096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7096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3049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n TPC and environmental temper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‘caterpillar’ temper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343400" y="3470400"/>
          <a:ext cx="48006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470400"/>
                    <a:ext cx="48006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MVC-011F" descr=""/>
          <p:cNvPicPr/>
          <p:nvPr/>
        </p:nvPicPr>
        <p:blipFill>
          <a:blip r:embed="rId3"/>
          <a:stretch/>
        </p:blipFill>
        <p:spPr>
          <a:xfrm>
            <a:off x="0" y="1447920"/>
            <a:ext cx="43434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56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33280" y="461880"/>
          <a:ext cx="86788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1880"/>
                    <a:ext cx="86788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04920" y="3971880"/>
          <a:ext cx="8026200" cy="25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971880"/>
                    <a:ext cx="80262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07960" y="2082960"/>
          <a:ext cx="7620120" cy="218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082960"/>
                    <a:ext cx="76201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01520" y="101520"/>
          <a:ext cx="8026560" cy="233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520" y="101520"/>
                    <a:ext cx="802656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ng evolutionary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62320" y="4648320"/>
                <a:ext cx="37335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057400" y="1828800"/>
            <a:ext cx="548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 phenotype, z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var-cov function, G(T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gradient funct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90920" y="152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ary Response to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39960" y="596880"/>
            <a:ext cx="3657600" cy="610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371600" y="1295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3200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ar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25780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ary change in on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zero eigen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methods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ing environmental information (distribution of 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ng evolutionar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33280" y="461880"/>
          <a:ext cx="86788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1880"/>
                    <a:ext cx="86788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, in 3 easy step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3520" y="1828800"/>
            <a:ext cx="7391160" cy="4787640"/>
            <a:chOff x="533520" y="1828800"/>
            <a:chExt cx="7391160" cy="4787640"/>
          </a:xfrm>
        </p:grpSpPr>
        <p:grpSp>
          <p:nvGrpSpPr>
            <p:cNvPr id="50" name=""/>
            <p:cNvGrpSpPr/>
            <p:nvPr/>
          </p:nvGrpSpPr>
          <p:grpSpPr>
            <a:xfrm>
              <a:off x="1447920" y="1828800"/>
              <a:ext cx="6476760" cy="3733920"/>
              <a:chOff x="1447920" y="1828800"/>
              <a:chExt cx="6476760" cy="3733920"/>
            </a:xfrm>
          </p:grpSpPr>
          <p:sp>
            <p:nvSpPr>
              <p:cNvPr id="51" name=""/>
              <p:cNvSpPr/>
              <p:nvPr/>
            </p:nvSpPr>
            <p:spPr>
              <a:xfrm>
                <a:off x="1447920" y="1828800"/>
                <a:ext cx="0" cy="37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47920" y="5562720"/>
                <a:ext cx="64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1752480" y="2247840"/>
              <a:ext cx="5486400" cy="3314880"/>
            </a:xfrm>
            <a:custGeom>
              <a:avLst/>
              <a:gdLst/>
              <a:ahLst/>
              <a:rect l="l" t="t" r="r" b="b"/>
              <a:pathLst>
                <a:path w="3456" h="2088">
                  <a:moveTo>
                    <a:pt x="0" y="2088"/>
                  </a:moveTo>
                  <a:cubicBezTo>
                    <a:pt x="80" y="2048"/>
                    <a:pt x="160" y="2008"/>
                    <a:pt x="240" y="1944"/>
                  </a:cubicBezTo>
                  <a:cubicBezTo>
                    <a:pt x="320" y="1880"/>
                    <a:pt x="408" y="1784"/>
                    <a:pt x="480" y="1704"/>
                  </a:cubicBezTo>
                  <a:cubicBezTo>
                    <a:pt x="552" y="1624"/>
                    <a:pt x="600" y="1560"/>
                    <a:pt x="672" y="1464"/>
                  </a:cubicBezTo>
                  <a:cubicBezTo>
                    <a:pt x="744" y="1368"/>
                    <a:pt x="848" y="1224"/>
                    <a:pt x="912" y="1128"/>
                  </a:cubicBezTo>
                  <a:cubicBezTo>
                    <a:pt x="976" y="1032"/>
                    <a:pt x="1000" y="992"/>
                    <a:pt x="1056" y="888"/>
                  </a:cubicBezTo>
                  <a:cubicBezTo>
                    <a:pt x="1112" y="784"/>
                    <a:pt x="1192" y="616"/>
                    <a:pt x="1248" y="504"/>
                  </a:cubicBezTo>
                  <a:cubicBezTo>
                    <a:pt x="1304" y="392"/>
                    <a:pt x="1336" y="288"/>
                    <a:pt x="1392" y="216"/>
                  </a:cubicBezTo>
                  <a:cubicBezTo>
                    <a:pt x="1448" y="144"/>
                    <a:pt x="1520" y="104"/>
                    <a:pt x="1584" y="72"/>
                  </a:cubicBezTo>
                  <a:cubicBezTo>
                    <a:pt x="1648" y="40"/>
                    <a:pt x="1712" y="32"/>
                    <a:pt x="1776" y="24"/>
                  </a:cubicBezTo>
                  <a:cubicBezTo>
                    <a:pt x="1840" y="16"/>
                    <a:pt x="1904" y="0"/>
                    <a:pt x="1968" y="24"/>
                  </a:cubicBezTo>
                  <a:cubicBezTo>
                    <a:pt x="2032" y="48"/>
                    <a:pt x="2104" y="112"/>
                    <a:pt x="2160" y="168"/>
                  </a:cubicBezTo>
                  <a:cubicBezTo>
                    <a:pt x="2216" y="224"/>
                    <a:pt x="2264" y="288"/>
                    <a:pt x="2304" y="360"/>
                  </a:cubicBezTo>
                  <a:cubicBezTo>
                    <a:pt x="2344" y="432"/>
                    <a:pt x="2368" y="520"/>
                    <a:pt x="2400" y="600"/>
                  </a:cubicBezTo>
                  <a:cubicBezTo>
                    <a:pt x="2432" y="680"/>
                    <a:pt x="2448" y="744"/>
                    <a:pt x="2496" y="840"/>
                  </a:cubicBezTo>
                  <a:cubicBezTo>
                    <a:pt x="2544" y="936"/>
                    <a:pt x="2632" y="1080"/>
                    <a:pt x="2688" y="1176"/>
                  </a:cubicBezTo>
                  <a:cubicBezTo>
                    <a:pt x="2744" y="1272"/>
                    <a:pt x="2784" y="1336"/>
                    <a:pt x="2832" y="1416"/>
                  </a:cubicBezTo>
                  <a:cubicBezTo>
                    <a:pt x="2880" y="1496"/>
                    <a:pt x="2920" y="1576"/>
                    <a:pt x="2976" y="1656"/>
                  </a:cubicBezTo>
                  <a:cubicBezTo>
                    <a:pt x="3032" y="1736"/>
                    <a:pt x="3120" y="1840"/>
                    <a:pt x="3168" y="1896"/>
                  </a:cubicBezTo>
                  <a:cubicBezTo>
                    <a:pt x="3216" y="1952"/>
                    <a:pt x="3216" y="1960"/>
                    <a:pt x="3264" y="1992"/>
                  </a:cubicBezTo>
                  <a:cubicBezTo>
                    <a:pt x="3312" y="2024"/>
                    <a:pt x="3424" y="2072"/>
                    <a:pt x="3456" y="20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60958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ait value 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-195840" y="3243600"/>
              <a:ext cx="19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95680" y="5562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343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562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2209680"/>
            <a:ext cx="5486400" cy="3314880"/>
          </a:xfrm>
          <a:custGeom>
            <a:avLst/>
            <a:gdLst/>
            <a:ahLst/>
            <a:rect l="l" t="t" r="r" b="b"/>
            <a:pathLst>
              <a:path w="3456" h="2088">
                <a:moveTo>
                  <a:pt x="0" y="2088"/>
                </a:moveTo>
                <a:cubicBezTo>
                  <a:pt x="80" y="2048"/>
                  <a:pt x="160" y="2008"/>
                  <a:pt x="240" y="1944"/>
                </a:cubicBezTo>
                <a:cubicBezTo>
                  <a:pt x="320" y="1880"/>
                  <a:pt x="408" y="1784"/>
                  <a:pt x="480" y="1704"/>
                </a:cubicBezTo>
                <a:cubicBezTo>
                  <a:pt x="552" y="1624"/>
                  <a:pt x="600" y="1560"/>
                  <a:pt x="672" y="1464"/>
                </a:cubicBezTo>
                <a:cubicBezTo>
                  <a:pt x="744" y="1368"/>
                  <a:pt x="848" y="1224"/>
                  <a:pt x="912" y="1128"/>
                </a:cubicBezTo>
                <a:cubicBezTo>
                  <a:pt x="976" y="1032"/>
                  <a:pt x="1000" y="992"/>
                  <a:pt x="1056" y="888"/>
                </a:cubicBezTo>
                <a:cubicBezTo>
                  <a:pt x="1112" y="784"/>
                  <a:pt x="1192" y="616"/>
                  <a:pt x="1248" y="504"/>
                </a:cubicBezTo>
                <a:cubicBezTo>
                  <a:pt x="1304" y="392"/>
                  <a:pt x="1336" y="288"/>
                  <a:pt x="1392" y="216"/>
                </a:cubicBezTo>
                <a:cubicBezTo>
                  <a:pt x="1448" y="144"/>
                  <a:pt x="1520" y="104"/>
                  <a:pt x="1584" y="72"/>
                </a:cubicBezTo>
                <a:cubicBezTo>
                  <a:pt x="1648" y="40"/>
                  <a:pt x="1712" y="32"/>
                  <a:pt x="1776" y="24"/>
                </a:cubicBezTo>
                <a:cubicBezTo>
                  <a:pt x="1840" y="16"/>
                  <a:pt x="1904" y="0"/>
                  <a:pt x="1968" y="24"/>
                </a:cubicBezTo>
                <a:cubicBezTo>
                  <a:pt x="2032" y="48"/>
                  <a:pt x="2104" y="112"/>
                  <a:pt x="2160" y="168"/>
                </a:cubicBezTo>
                <a:cubicBezTo>
                  <a:pt x="2216" y="224"/>
                  <a:pt x="2264" y="288"/>
                  <a:pt x="2304" y="360"/>
                </a:cubicBezTo>
                <a:cubicBezTo>
                  <a:pt x="2344" y="432"/>
                  <a:pt x="2368" y="520"/>
                  <a:pt x="2400" y="600"/>
                </a:cubicBezTo>
                <a:cubicBezTo>
                  <a:pt x="2432" y="680"/>
                  <a:pt x="2448" y="744"/>
                  <a:pt x="2496" y="840"/>
                </a:cubicBezTo>
                <a:cubicBezTo>
                  <a:pt x="2544" y="936"/>
                  <a:pt x="2632" y="1080"/>
                  <a:pt x="2688" y="1176"/>
                </a:cubicBezTo>
                <a:cubicBezTo>
                  <a:pt x="2744" y="1272"/>
                  <a:pt x="2784" y="1336"/>
                  <a:pt x="2832" y="1416"/>
                </a:cubicBezTo>
                <a:cubicBezTo>
                  <a:pt x="2880" y="1496"/>
                  <a:pt x="2920" y="1576"/>
                  <a:pt x="2976" y="1656"/>
                </a:cubicBezTo>
                <a:cubicBezTo>
                  <a:pt x="3032" y="1736"/>
                  <a:pt x="3120" y="1840"/>
                  <a:pt x="3168" y="1896"/>
                </a:cubicBezTo>
                <a:cubicBezTo>
                  <a:pt x="3216" y="1952"/>
                  <a:pt x="3216" y="1960"/>
                  <a:pt x="3264" y="1992"/>
                </a:cubicBezTo>
                <a:cubicBezTo>
                  <a:pt x="3312" y="2024"/>
                  <a:pt x="3424" y="2072"/>
                  <a:pt x="3456" y="20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209680"/>
            <a:ext cx="0" cy="33530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457200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4197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quantitative traits: som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organis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otype: observable trait with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otype: genetic ‘type’ (usually infer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otypic variance, P = G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variance,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change in mean trait value per generat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evolutionar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and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: P = G +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gradien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z’ - z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[ln(W)]/dz , where W =  mean population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tionary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3581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 = G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19320" y="21333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 may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a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(t) =   G(t,s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990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505320" y="4572000"/>
                <a:ext cx="387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s recap: Temperature and caterpillar growth rate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variation in T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genfunct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3124080"/>
          <a:ext cx="5257800" cy="34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124080"/>
                    <a:ext cx="525780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33280" y="461880"/>
          <a:ext cx="86788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1880"/>
                    <a:ext cx="86788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4T17:44:51Z</dcterms:created>
  <dc:creator>UNC6594</dc:creator>
  <dc:description/>
  <dc:language>en-US</dc:language>
  <cp:lastModifiedBy>UNC6594</cp:lastModifiedBy>
  <dcterms:modified xsi:type="dcterms:W3CDTF">2001-05-07T19:39:27Z</dcterms:modified>
  <cp:revision>46</cp:revision>
  <dc:subject/>
  <dc:title>PowerPoint Presentation</dc:title>
</cp:coreProperties>
</file>