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A0BF-3BA2-40C5-BB7D-D2F9F437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A54-1DD0-4CA6-BDBA-2DCAAB56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C4D-3E67-4958-BFC2-98366AA3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BCE-C549-46DB-9D6E-5191E55E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B0E-834B-4794-83C8-919EA248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A68-18D8-42F2-A391-B770DA1A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B13-FE89-422D-AD1E-145B2FBA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2D84-D754-46F8-905E-72BC5143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9BC-D25C-4827-88E6-C8D80724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A2F-8C94-4201-8AD5-024FE8DE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5BE-A84C-4C04-9F48-A1236E80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697-D145-431E-AE37-A4893BDE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C237-90D8-480A-A8F8-E4A51E7D9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Linear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8191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linear model ideas to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re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1880" y="533520"/>
          <a:ext cx="8220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533520"/>
                    <a:ext cx="8220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ational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4040" y="1523880"/>
            <a:ext cx="7086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wise min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is to estimate LMSSE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ing the regularized R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048120" y="4495680"/>
                <a:ext cx="914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752480" y="3276720"/>
                <a:ext cx="6248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‖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Z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‖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L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‖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828800" y="5181480"/>
                <a:ext cx="5257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L</m:t>
                        </m:r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ng with basis expansions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hoosing a K-vect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linearly independent func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epresenting observed Y and estim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he matrix system of linear equ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467480" y="1981080"/>
                <a:ext cx="45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600200" y="2590920"/>
                <a:ext cx="485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φ</m:t>
                    </m:r>
                    <m:r>
                      <m:rPr>
                        <m:lit/>
                        <m:nor/>
                      </m:rPr>
                      <m:t xml:space="preserve">         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514760" y="3219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600200" y="4114800"/>
                <a:ext cx="43876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L</m:t>
                        </m:r>
                      </m:e>
                    </m:d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interp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iz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for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interpo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LMSSE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ectly fit without error a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regularization to identif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qu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093760" y="2133720"/>
                <a:ext cx="51865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⟨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β</m:t>
                    </m:r>
                    <m:r>
                      <m:t xml:space="preserve">⟩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33280" y="495360"/>
          <a:ext cx="867744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95360"/>
                    <a:ext cx="86774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33280" y="495360"/>
          <a:ext cx="8677440" cy="58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280" y="495360"/>
                    <a:ext cx="86774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33280" y="495360"/>
          <a:ext cx="8677440" cy="586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3280" y="495360"/>
                    <a:ext cx="86774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43000" y="442800"/>
          <a:ext cx="8658000" cy="597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000" y="442800"/>
                    <a:ext cx="8658000" cy="59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rization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iscretizing th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basis fun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re-expressing the model an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moothing by basis trun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28680" y="595440"/>
          <a:ext cx="8486640" cy="56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595440"/>
                    <a:ext cx="848664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66760" y="495360"/>
          <a:ext cx="861048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495360"/>
                    <a:ext cx="86104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rization with roughness penalties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cross-validation score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905120" y="1676520"/>
                <a:ext cx="640080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NSSE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,β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⟨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β</m:t>
                                    </m:r>
                                    <m:r>
                                      <m:t xml:space="preserve">⟩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β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‖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β</m:t>
                        </m:r>
                        <m:r>
                          <m:t xml:space="preserve">⟩</m:t>
                        </m:r>
                        <m:sSup>
                          <m:e>
                            <m:r>
                              <m:t xml:space="preserve">‖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‖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sSup>
                          <m:e>
                            <m:r>
                              <m:t xml:space="preserve">‖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828800" y="4267080"/>
                <a:ext cx="54100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λ</m:t>
                                    </m:r>
                                  </m:sub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</m:t>
                                        </m:r>
                                      </m:e>
                                    </m:d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⟨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λ</m:t>
                                    </m:r>
                                  </m:sub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</m:t>
                                        </m:r>
                                      </m:e>
                                    </m:d>
                                  </m:sup>
                                </m:sSubSup>
                                <m:r>
                                  <m:t xml:space="preserve">⟩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functional linea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tting th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ing the 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14360" y="552600"/>
          <a:ext cx="8315280" cy="57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552600"/>
                    <a:ext cx="8315280" cy="57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61880" y="595440"/>
          <a:ext cx="8220240" cy="56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595440"/>
                    <a:ext cx="822024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576360" y="566640"/>
          <a:ext cx="7991280" cy="57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566640"/>
                    <a:ext cx="799128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542880" y="561960"/>
          <a:ext cx="8058240" cy="57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561960"/>
                    <a:ext cx="805824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for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06668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precipitation is associated          with higher temperatures in the last three months of the year and with lower temperatures in spring and early summ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28600" y="304920"/>
          <a:ext cx="8763120" cy="57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7631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80880" y="152280"/>
          <a:ext cx="8305920" cy="64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8305920" cy="64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linear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ormal te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 product repres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 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447920" y="1752480"/>
                <a:ext cx="670536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m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μ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for all 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600200" y="3733920"/>
                <a:ext cx="59864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em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⟨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,g</m:t>
                            </m:r>
                          </m:e>
                        </m:d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⟩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523880" y="5181480"/>
                <a:ext cx="3429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em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β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the LS to the functional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terpret the squared n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590920" y="3048120"/>
                <a:ext cx="29718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tem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Zβ</m:t>
                    </m:r>
                    <m:sSup>
                      <m:e>
                        <m:r>
                          <m:t xml:space="preserve">‖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92240" y="4800600"/>
                <a:ext cx="868176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MSS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β 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g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Temp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kg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d>
                                        <m:r>
                                          <m:t xml:space="preserve">−</m:t>
                                        </m:r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d>
                                                  <m:dPr>
                                                    <m:begChr m:val="⟨"/>
                                                    <m:endChr m:val="⟩"/>
                                                  </m:dPr>
                                                  <m:e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k,g</m:t>
                                                    </m:r>
                                                  </m:e>
                                                </m:d>
                                              </m:sub>
                                            </m:s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,β</m:t>
                                            </m:r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r>
                                                  <m:t xml:space="preserve">t</m:t>
                                                </m:r>
                                              </m:e>
                                            </m:d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3520" y="228600"/>
          <a:ext cx="8210520" cy="59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8210520" cy="59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52600" y="442800"/>
          <a:ext cx="8038800" cy="597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442800"/>
                    <a:ext cx="8038800" cy="59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ing the 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sum of squares functions LM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d correlation functions R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-ratio functions F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847880" y="1803240"/>
                <a:ext cx="6894360" cy="18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,g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mp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g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Z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^"/>
                                              </m:accPr>
                                              <m:e>
                                                <m:r>
                                                  <m:t xml:space="preserve">β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kg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,g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mp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g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limUp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lim/>
                                    </m:limUp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752480" y="4114800"/>
                <a:ext cx="5334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S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S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S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/SS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752480" y="5029200"/>
                <a:ext cx="541044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d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d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de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ATIO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MS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00:57:01Z</dcterms:created>
  <dc:creator>Tao Huang</dc:creator>
  <dc:description/>
  <dc:language>en-US</dc:language>
  <cp:lastModifiedBy>teaching</cp:lastModifiedBy>
  <dcterms:modified xsi:type="dcterms:W3CDTF">2001-03-06T04:00:53Z</dcterms:modified>
  <cp:revision>63</cp:revision>
  <dc:subject/>
  <dc:title>Functional Linear Models</dc:title>
</cp:coreProperties>
</file>