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518-DDBE-4C51-A1C0-03777018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D5C-3C9A-4951-BB5B-0D82408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E9C-E903-4C90-9316-0630661F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64E-ECD3-440D-A227-3E9CF4D0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893-57D8-442B-8A75-0B2259C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EE4-264C-4B22-AC10-C98E4AF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643-3A08-4931-A90D-4686A48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767-3D61-45A1-AC86-3969EAA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7B3-E77A-41FB-9EF0-EA0BACE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C0D-48D0-4809-8F2E-1CE4154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4A0-2D1D-4053-B31E-F7A8E45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8AA-B662-40BB-83E5-125AAFD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16FA-CA6D-4959-B3F7-03940DB291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A94ABA-5321-4AE6-882C-0F3B12C6A318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:13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13A-67D9-4A6F-9049-CBCD17412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lib.stat.cmu.edu/~bjones" TargetMode="External"/><Relationship Id="rId2" Type="http://schemas.openxmlformats.org/officeDocument/2006/relationships/hyperlink" Target="http://lib.stat.cmu.edu/~bjones" TargetMode="External"/><Relationship Id="rId3" Type="http://schemas.openxmlformats.org/officeDocument/2006/relationships/hyperlink" Target="http://lib.stat.cmu.edu/~bjones" TargetMode="External"/><Relationship Id="rId4" Type="http://schemas.openxmlformats.org/officeDocument/2006/relationships/hyperlink" Target="http://lib.stat.cmu.edu/~bjones" TargetMode="External"/><Relationship Id="rId5" Type="http://schemas.openxmlformats.org/officeDocument/2006/relationships/hyperlink" Target="http://lib.stat.cmu.edu/~bjones" TargetMode="External"/><Relationship Id="rId6" Type="http://schemas.openxmlformats.org/officeDocument/2006/relationships/hyperlink" Target="http://lib.stat.cmu.edu/~bjones" TargetMode="External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Finite Mixture Model:</a:t>
            </a:r>
            <a:br>
              <a:rPr sz="4000"/>
            </a:b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 Application in Latent Traj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ng 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d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321 class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4FB-CE34-40D5-9960-F229D509E6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CCA02-83E7-4543-AC8F-B0F456D131DD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of a mixing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fines a discrete p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2990880" cy="80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28120" y="30470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337176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727-67BD-4DB7-9A9C-FA11722873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1F780-DA9A-497F-89C2-9E7CD0A0CCDC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 mixing distribu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est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indsay (1983) considered the “non-parametric” ML estimation of the mixing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He showed that finding the MLE involved a standard problem of convex optimization, In particular, it is possible to determine by evaluation of a simple gradient function how close a candidate estima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 a ML sol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D9A-AD5C-4586-A015-812F612A96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9556B-D778-4C69-8E08-3557BB66A19C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plete data and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mul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. If we vie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prior probab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osterior probability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4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3040" y="22849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1743120" cy="50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08320" y="22849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observable or incomple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1733400" cy="50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1920" y="281844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unobservabl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750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46480" y="499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419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648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4800600" cy="65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5105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4876920"/>
            <a:ext cx="2971800" cy="120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A75-8C29-4759-B0C7-F79BAB2297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EAAAC-E023-4800-8366-20DF590659A0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plete data and EM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algorithm: tre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missing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step (expec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step (maxim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04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750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6480" y="499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4419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4648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105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2209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4191120" cy="1033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05120" y="33526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47920" y="3124080"/>
            <a:ext cx="3200400" cy="59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71600" y="3809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371600" y="3809880"/>
            <a:ext cx="3505320" cy="709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00200" y="510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523880" y="5029200"/>
                <a:ext cx="3353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max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543-8EA5-4887-8A2C-45178971E1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69C22-71E2-4459-BEA4-D9EDCED68069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ability of mixtur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interchange of component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! perm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impose restriction that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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overfitting (fit too 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show under different condition, some are identif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22720" y="20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892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ADB-0101-402C-9981-D0DFC206CF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1BB74-50F3-42C1-957B-BE6F2FD0AEB6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the number of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, the regularity condition doesn’t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tic chi-squared distrib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revised version of  L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trap method, need large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esian method, such as B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20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E2A-386D-4919-AA6F-287F7A866A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5FD80-C9BF-40E8-A342-ADC4071CA0AA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 (cont.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ttemp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inimize                , the distance between the mixture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Math1"/>
                <a:ea typeface="Math1"/>
              </a:rPr>
              <a:t>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empirical distribution function      that places mass one at each data point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j=1,…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22720" y="20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1104840" cy="571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892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39996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96C-875B-464D-B3D9-28FD8CBB07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C5081-D756-4B9D-ABF7-350873A96756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ou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ture models with normal/non-norm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ture of facto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ture models for failure-ti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ture analysis of direction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Markov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Lachlan, G. and D. Peel. (2000) Finite Mixtur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Lachlan, G. and K. Basford (1988) …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9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984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22720" y="20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92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93C-C46E-4DD1-92A5-39AA192679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782FF-471E-4F7B-9D41-4813A3DC7D6D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-course and developmental theories of crime and deviance is to understand and explain the evolution of such behaviors from childhood through adulthood. Such path of evolution is referred as criminal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traje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ffitt’s theory(199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or neurological development and poor paren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olescent-limited offenders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v.s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e-course-persistent offend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Is there such taxonom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What are the risk factors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D55-BA4F-4029-89CF-15E3CB7018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02BB7-3FEB-42DC-90C6-CEFE620A6CE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 Study of Delinquent Development: a prospective longitudinal survey of 403 males from London (1961-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8 years old, continued for 22 years till 3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involvement measured by convictions for criminal offenses. (36%, 4.4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s of risk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 and at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social family and parent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activity, impulsivity, and attention defic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d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6F7-AF38-4496-A1A2-35022A3BEB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20A12-59A3-40DC-AD39-8028F1B3F0FA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Finite Mix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mixing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-data and EM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ability of mixtur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the number of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4E3-2EC2-47A1-B875-BCFB410D3D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16987-2D31-488C-8A8C-E5F90186BC9E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Group memb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:  Risk factors (time 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 Observed traje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Time 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190512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58128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58128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58128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447920" y="2437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51460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723920" y="3962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7280" y="198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5400" y="3732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91680" y="3694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2240" y="365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0A-1944-4EE3-AD5B-6AB6C7916C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7F295-E0F7-4B11-B9F2-DCAC72EC9B33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facto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tent class, latent cl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kelihood of criminal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on latent class, criminal behavio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sk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iven latent class membership, nothing more about criminal activity can be learned from the risk factor, or vic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81D-63E6-420B-8459-5E1F4AFCD4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4EDAB-3A23-4B0D-A4D6-60E2D7A42E37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n  (n=4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J  (J=11 periods, 2-year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crimes committed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ividual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(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…,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rime hi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nobservabl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1,…,K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rresponds 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 expected crime traje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table binary variables. (two risk f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dependent variables.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9B6-1F32-42DF-A27F-506328F586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67FAD-2FDD-4A46-97B9-B92575050F29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x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finite mixture distributio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(C=k|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utcome logit with covariate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model: risk factor and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114880" cy="771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472428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5C7-8248-4C15-9F20-233918E220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410F5-3296-4ED4-8DE4-F299B8F070C2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risk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ychotomous logit regression model to relate risk factors to the criminal behavior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log odds of membership in lev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.s 1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5334120" cy="941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3505320" cy="5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1DD-2F48-45C0-AAD3-1E51E9D5FF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6038F-34AD-4AFD-9719-61D40660BEB0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Mixture of Zero-Inflated Poissons(MZIP)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|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model(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intermittency param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114880" cy="952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1676160" cy="466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365760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632-6A36-4F33-9D2C-2813F46D49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5CF17-ED1A-4623-B63E-E92EC9FBAB9F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trajectories (cont.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prob.of observ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ividual’s crime histor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2743200" cy="717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4667400" cy="13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D62-2481-4DBA-9D54-1C8EED25128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D49E0-798F-40C3-BE0B-67CF56AF271A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trajectories (cont.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ginal likelihood 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int likelihood 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,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2819160" cy="58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5295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361-87E9-4139-81DF-0FCC3A7F4D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65BF5-0A31-47A7-A2C4-BD5362D4226A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lat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 belongingnes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=k, k=1,…,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mant or active state in ZIP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=0 or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0 or &gt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latent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miss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te log-likeliho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y, z, c, d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53440" y="571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800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7086600" cy="5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B22-0025-40BC-B3EA-A7FD1DA2B0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2A6D0-E715-4001-8559-11CD243ADA0F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-EM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3743280" cy="743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4200480" cy="723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057400" y="4419720"/>
            <a:ext cx="4562640" cy="84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59F-39EC-4206-B810-82A0DEA33C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F05E7-9D3B-46E1-9133-617F83F0A03B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Out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ing Uncertainty in Latent Class Membersh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ase study in Criminology (Roeder, Lynch and Nagin,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7CC-EEF3-445D-A267-FCCD6D9EA5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0BC8-52EB-439C-AC7A-C16643A5FFB9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-EM algorithm (cont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Y,Z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!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ctorization of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562280" cy="780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7191360" cy="628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3085920" cy="609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1400" y="365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C0C-B9A8-4694-820D-809C38F09BC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7BC6C-A171-4F3E-9508-193FE4E09624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estimation-EM algorithm (cont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ighted  polychotomous logistic regressio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ed logistic regressio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ZIP model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 (1-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E92-4423-488F-9812-D8A56A39F1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7E11-FF96-49E4-BB43-F3C049F559F3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act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risk factor for various criminal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whe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s across late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approach: classify-anal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by the largest posterior probability of membership, then analyze as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. Exaggerate the certainty of group and inflate pr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kelihood ratio test based on the mixture model accounts for uncertainty in 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019920" cy="88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5E1-60C9-4514-99C4-936E1984678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BFB0C-78D3-4AA5-A707-7768B5DE3D14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actor Analysi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v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not have asymptotic chi-squared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ften on the boundary of the parameter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lack of identifiability, the degree of freedom is sometimes hard to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proble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on the boundary, and the difference in dimension of competing models is clearly defined. S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ion will ap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A93-8090-4A5C-B092-3A82EEB322F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2ED62-C9E7-48ED-8B3C-E256DFC37DF2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Selection and B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yesian Information Criterion to choose among differen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good properties under weaker regularity condition than LRT (Keribin, 1998; Leroux, 1992; Roeder and Wasserman, 1997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consistent even when the models are not nested (Nishii, 1988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8AD-738B-48A8-A3C6-BA4DF091DC0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0AA90-A836-4E91-96F2-E2507237F444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to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the life-course-persistent and adolescent-limited trajectories are present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there is a distinctive etiology of the former group. Specifcally, an interaction between neurological deficits and poor child-rearing practices in heightening the probability of following a trajectory of chronic offe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FE-6378-4D57-B7C8-1443B44E536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B8EF2-E3F2-48C3-8AC8-9DC991944F9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late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1. BIC values for a selection of MZIP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&l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: 0=constant, 1=linear, 2=quadratic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C=BI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I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intermittency parameter, is constant for al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terior probability that a model is corr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146240" y="2205000"/>
          <a:ext cx="6456240" cy="22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205000"/>
                    <a:ext cx="645624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362320" y="5791320"/>
            <a:ext cx="29908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4EF-5CEA-49EE-933D-F923FBBDF0A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883AD-6E4B-4F9A-8805-56B86EF0D82C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latent classes (cont.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. Biannual conviction rate by age and offende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traj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095880" cy="3666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514600" y="60199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60958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: …+…   AL: 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--- LLC:--o--   HLC –X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901-3993-4F94-975D-121FA18CB4D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39518-FB26-4875-BCAB-113782E34EA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latent classes (cont.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2: Parameter estimation for Model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&l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914400" y="1905120"/>
          <a:ext cx="732780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278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8F8-F051-4190-8B3C-C72A32B810E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6D752-E708-40DA-AA9F-F98F2189227B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latent classes (cont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3: Distribution of the Maximum Posterior Membership Prob,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4: Latent class membership probabilities, %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752480" y="1981080"/>
          <a:ext cx="5624640" cy="16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6246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066680" y="4419720"/>
          <a:ext cx="7042320" cy="136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19720"/>
                    <a:ext cx="70423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CDE-70C6-42BB-B887-4F51AFD6703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AF953-FDA8-4030-B9BD-BB29F5CFFA30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ample of size n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m and 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df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mixing proportions or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called component densities of the mix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omponent finite mixture dens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73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2171880" cy="752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143000" cy="433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981000" cy="81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21B-30AD-489D-8D75-B9CBF48FDD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4CF68-71D1-44F0-A1AE-DCB5CE0279C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risk fact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iates: daring, child-rearing and their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logistic regression mode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NC v.s. 2=AL, 3=LLC, 4=H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owed to differ for each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models at each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Null, b=Daring, c=Rearing, d=D+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D+R+D*R, f=D+D*R, g=D*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43 choices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16D-E966-4A2C-A3B7-9E34AE72BA3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5C7EE-FFF2-4339-A6A9-A55726A97B4C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risk factor analysis (cont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5. BIC for the covariat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&l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987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146240" y="1905120"/>
          <a:ext cx="5610240" cy="25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905120"/>
                    <a:ext cx="56102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21F-50D6-483E-B690-376C81CDAFC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6A0A0-01FD-422E-A4DD-923182F069B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risk factor analysis (cont.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6. Parameter estimat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 covariates=D*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&l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987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5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66680" y="1828800"/>
          <a:ext cx="698508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985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966-842C-4118-95B6-C57DC9965CB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4908B-AA39-438F-8E26-A1FE63B6C233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for risk factor analysis (cont.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7. Parameter estimates and comparison with C-A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: probability&lt;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987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5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128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14400" y="1981080"/>
          <a:ext cx="7218360" cy="25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21836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E23-D057-4362-B275-9E6B9485F15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12AFE-023A-4E6F-9BA9-DD317277D123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tent Trajectorie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AS procedure for estimating developmental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lib.stat.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mu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du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~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b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D3E-9662-407B-A7B6-0C42FE0D0E6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9B1E0-AE50-4F48-AAB5-3AC00D2D6288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79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75280" y="36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36640" y="27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12880" y="30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0600" y="316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27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8920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97180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     You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729-A77D-45EC-BE33-2A3C5379BD3F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10E9B-5CD5-4AEE-A851-0434BE7D6445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categorical r.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mponent label of the feature ve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i)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i)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work with g-dim component label ve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1 or 0, whether the label of orig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mix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73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932-BFA3-4874-820B-E4489BCA5A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0213-7F2F-4DD6-85E5-8211084C5B62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esting niche between parametric and non-parametric approaches to statistical estimation and modeling heterogene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mi-parametric compromi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y parametric model with single parametric family (g=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non-parametric model by the kernel estimation (g=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5E5-5293-4151-B7AD-4B8C51A15B9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6830B-0F68-4202-BF6A-E47F92358494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pplic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rawn from a popu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sis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group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por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are known: two groups, with or without diseases, estimate disease preval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are unknown: more interesting. model-based approach to clustering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73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53E-ACCE-4FD8-9FF8-D76618170F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AB4B9-16EF-47AE-9FC8-0BE050029D97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ric formulation of Mix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ble to estimat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mitted.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, the component densities are assumed to belo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ame parametric family,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25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22440" y="209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05120" y="1447920"/>
                <a:ext cx="2993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g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079720" y="323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245772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4419720"/>
            <a:ext cx="299088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DE5-CB80-47B1-A5EA-44170E046C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44FB0-8059-4A4C-BB8F-7918A3DA3B81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troduction to Mixtur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ric form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of a mixture with multivariate normal compon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736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5080" y="384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9720" y="323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5440" y="49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71800" cy="47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03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6486480" cy="752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7080" y="36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3429000"/>
            <a:ext cx="237168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3960" y="3326400"/>
            <a:ext cx="26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B8E-BACC-49B2-AD23-29C18F56F6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D4886-ACF3-4A50-A2CB-1BB63314E07C}" type="datetime8">
              <a:rPr lang="en-US"/>
              <a:t>07/30/26 10:13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06:17:32Z</dcterms:created>
  <dc:creator>Ying Lu</dc:creator>
  <dc:description/>
  <dc:language>en-US</dc:language>
  <cp:lastModifiedBy>rizem</cp:lastModifiedBy>
  <cp:lastPrinted>2001-04-30T20:37:28Z</cp:lastPrinted>
  <dcterms:modified xsi:type="dcterms:W3CDTF">2001-05-01T15:43:19Z</dcterms:modified>
  <cp:revision>47</cp:revision>
  <dc:subject/>
  <dc:title>Finite Mixture Model: With Application in Latent Trajectories</dc:title>
</cp:coreProperties>
</file>