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EE2B-B5B7-49C9-A3CF-1D996847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 Dump, from MarronBrain STree.exe NormalA-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p9correct.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Mdif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Mdif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 &amp; HDLSSx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p8correct.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A56-B1C1-4095-824F-28B6C8AC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DE5-3F89-44EA-91E3-F17F1EB5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B00-8CAB-4B0C-A60E-82307ADD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34F-4E75-4D25-80C0-1EE30B99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922-5D8A-449A-A7E5-6047F94B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D59-A24A-4D99-9D2A-16A284CF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D99-854A-4383-A9FD-6D15430B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132-B369-4CB8-96C6-9B7E3CEA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02D-BA52-4F1C-8D11-F7AE156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51A-DF9C-4F7F-8325-6F39FF9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70E-55C9-4570-B961-1E1F79A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729-E517-4A19-AD51-494FB8B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6A5-1D9D-439D-B770-099FAA9A7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asilab.med.unc.edu/Bullitt_Home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Inference for Histograms &amp; S.P.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, Boundary Rep’ns, Medial Rep’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data on mani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Exampl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ood Vessel Trees in B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Dr. Elizabeth Bulli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ed from M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complex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to study population of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bjects ar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blood vessel trees (one per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8635" r="55019" b="28782"/>
          <a:stretch/>
        </p:blipFill>
        <p:spPr>
          <a:xfrm>
            <a:off x="2286000" y="1933560"/>
            <a:ext cx="455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blood vessel trees (one per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8635" r="55019" b="28782"/>
          <a:stretch/>
        </p:blipFill>
        <p:spPr>
          <a:xfrm>
            <a:off x="2286000" y="1933560"/>
            <a:ext cx="455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blood vessel trees (one per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8635" r="55019" b="28782"/>
          <a:stretch/>
        </p:blipFill>
        <p:spPr>
          <a:xfrm>
            <a:off x="2286000" y="1933560"/>
            <a:ext cx="455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blood vessel trees (one per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8635" r="55019" b="28782"/>
          <a:stretch/>
        </p:blipFill>
        <p:spPr>
          <a:xfrm>
            <a:off x="2286000" y="1933560"/>
            <a:ext cx="455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blood vessel trees (one per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8635" r="55019" b="28782"/>
          <a:stretch/>
        </p:blipFill>
        <p:spPr>
          <a:xfrm>
            <a:off x="2286000" y="1933560"/>
            <a:ext cx="455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 on Population of Tree-Structured Data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og of PCA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, si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 of trees not a linear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even approximately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 tangent pla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of Population of Tree-Structured Data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approach: Frechét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a metric (dis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tre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95480" y="3276720"/>
                <a:ext cx="3733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priate metrics on tree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g and Marron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nodal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n’t go further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gives appropriate Frechét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Tree Spa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t best approximate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t best approximate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g and Marron (2004) define noti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reelin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n stucture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Analysis of M-r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points on smooth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in non-Euclidea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Tree Spa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useful to consider 1-d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e space of nodal attrib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Blood vessel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4 nodes  &amp; simplified to sti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computational trac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node Blood vessel trees  -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P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fli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r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re up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PC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l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all data at one end or oth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body near the middl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tree was degenerate in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2631" t="29440" r="7578" b="58881"/>
          <a:stretch/>
        </p:blipFill>
        <p:spPr>
          <a:xfrm>
            <a:off x="1455840" y="2079720"/>
            <a:ext cx="631188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applications in M-rep worl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figural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some figures mi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object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some objects mi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hands with missing fi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Big Pi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statistical goals of OO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population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, PGA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 e. 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2+ pop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of Data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ical Spectra, Mortalit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:  Two Class (Binary)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“training data”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and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a “rule”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igning new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a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onical Example:  Diseas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Patients are “Healthy” or “I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ermined based 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xt time:  go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ervised vs. Un-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now done on 10/25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statisticians, these are syn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biologists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ng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sorting organisms into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aybe this is wh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s used, until politically incorrect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a number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ools of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often cast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 vs. EE - 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Analysis of M-r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Summar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e Grou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and/or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mmetric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E – CS vari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ificial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ur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ing Viewpo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l Classe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ability Distribut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to study class diff’s &amp; fi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E – 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are ju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ts of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les distinguish between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thought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mbine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Overview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da, Hart and Stork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much about neural net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zer disagre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date of Duda &amp; Hart (197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sonal Viewpoint:     Point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211284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and Natura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k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oi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“skewer through two meatball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Simple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M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’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Example (slanted cloud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211284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lanted clou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terr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mi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’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for slanted clou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litt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mi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oun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chét mean of nu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chét mean in Euclidean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chét mean on a manifo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Euclidean        by  Geodes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1752480"/>
                <a:ext cx="37339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876920" y="5334120"/>
                <a:ext cx="34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8240" y="5797440"/>
                <a:ext cx="176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43200" y="3505320"/>
                <a:ext cx="3733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77320" y="533412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&amp; Covarian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st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cale (standardize) coordinate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 e. replace (full)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do Mean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“Naïve Bayes Appro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" y="3657600"/>
                <a:ext cx="87631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Naïve Bay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adjus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’t so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388620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Solution:  Fisher Linear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s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common terminology (for FL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Discriminant Analysis (L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notation (data vectors of length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+1:                      Class -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po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467480" y="1981080"/>
                <a:ext cx="352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76520" y="3657600"/>
                <a:ext cx="2511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19920" y="3581280"/>
                <a:ext cx="2506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1813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5424480"/>
                <a:ext cx="312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s,                          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uter produ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centered, normalized data matr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use “MLE” version of estimated covariance matrices, for simpler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705720" y="1295280"/>
                <a:ext cx="1828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48120" y="1143000"/>
                <a:ext cx="274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3505320"/>
                <a:ext cx="67053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ssump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covariances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or “similar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 this:                       Not th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724280" cy="3338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72428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estimate of (common) within class cov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led (weighted average) within class co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ul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2819520"/>
                <a:ext cx="53308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47720" y="5048280"/>
                <a:ext cx="50101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        is similar to          from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covariance matrix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ing class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f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lass by Class Cen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important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24980" t="0" r="16951" b="10104"/>
          <a:stretch/>
        </p:blipFill>
        <p:spPr>
          <a:xfrm>
            <a:off x="5257800" y="2819520"/>
            <a:ext cx="3551400" cy="388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28800" y="1365120"/>
                <a:ext cx="533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181480" y="1371600"/>
                <a:ext cx="312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way to find “correct cov. adjustmen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ividually transform subpopulations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” about thei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                de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2303" t="3789" r="12490" b="56842"/>
          <a:stretch/>
        </p:blipFill>
        <p:spPr>
          <a:xfrm>
            <a:off x="1371600" y="2895480"/>
            <a:ext cx="6808680" cy="2901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410080" y="5791320"/>
                <a:ext cx="2624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505320" y="350532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396252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209680" y="5867280"/>
                <a:ext cx="1676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 of Manifold Data:  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chét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rmi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uclide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0621" t="22138" r="8851" b="9488"/>
          <a:stretch/>
        </p:blipFill>
        <p:spPr>
          <a:xfrm>
            <a:off x="3809880" y="1882800"/>
            <a:ext cx="4932360" cy="468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71800" y="3200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990360"/>
            <a:ext cx="5943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ransformed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separating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pendicular bisector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 between mea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60665" t="2526" r="11598" b="11367"/>
          <a:stretch/>
        </p:blipFill>
        <p:spPr>
          <a:xfrm>
            <a:off x="6170760" y="1073160"/>
            <a:ext cx="2473200" cy="5421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V="1">
            <a:off x="7010280" y="4724280"/>
            <a:ext cx="1143000" cy="1447920"/>
          </a:xfrm>
          <a:prstGeom prst="line">
            <a:avLst/>
          </a:prstGeom>
          <a:ln w="349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51460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880" y="990360"/>
            <a:ext cx="5943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ransformed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Hyperplane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ff"/>
                </a:solidFill>
                <a:latin typeface="Arial Unicode MS"/>
                <a:ea typeface="Arial Unicode MS"/>
              </a:rPr>
              <a:t>Transformed Normal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rmed Inter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60665" t="2526" r="11598" b="11367"/>
          <a:stretch/>
        </p:blipFill>
        <p:spPr>
          <a:xfrm>
            <a:off x="6170760" y="1073160"/>
            <a:ext cx="2473200" cy="5421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1480" y="2590920"/>
                <a:ext cx="431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727280" y="3200400"/>
                <a:ext cx="2884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638680" y="2438280"/>
            <a:ext cx="21337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95280" y="4114800"/>
                <a:ext cx="3810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05120" y="4724280"/>
                <a:ext cx="2438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495680" y="5029200"/>
            <a:ext cx="297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371600" y="5867280"/>
                <a:ext cx="4038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: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discrimination rul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new data vector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+1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(transforming back to origin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257800" y="1523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81080" y="2666880"/>
                <a:ext cx="5410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47920" y="4038480"/>
                <a:ext cx="6073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438280" y="4648320"/>
                <a:ext cx="3124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63880" y="5492880"/>
                <a:ext cx="5168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070000" y="5956200"/>
                <a:ext cx="4965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(in orig’l space) have separ’ting hyperplane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rmal vector:                    Intercep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21411" t="45470" r="11598" b="11367"/>
          <a:stretch/>
        </p:blipFill>
        <p:spPr>
          <a:xfrm>
            <a:off x="1219320" y="2895480"/>
            <a:ext cx="6686280" cy="304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124080" y="1447920"/>
                <a:ext cx="838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86600" y="1523880"/>
                <a:ext cx="838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flipH="1">
            <a:off x="2895480" y="2057400"/>
            <a:ext cx="457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33560" y="1523880"/>
            <a:ext cx="37335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743200" y="2133720"/>
            <a:ext cx="4572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onship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halanobis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For                         , a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distance meas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free”,    i.e.  “standardiz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sentiall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ou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uclidean dist. applied to             &amp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key transformation for F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F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in Mahalanobis spac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666880" y="1905120"/>
                <a:ext cx="2149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29000" y="2286000"/>
                <a:ext cx="4994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4120" y="4191120"/>
                <a:ext cx="93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10280" y="4191120"/>
                <a:ext cx="968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derivation of FLD w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in any textbook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(don’t need Gaussian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Used no probability dis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distributions are multivariat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distributional assump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905120" y="3276720"/>
                <a:ext cx="1869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181480" y="3352680"/>
                <a:ext cx="1752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a location      ,  the likelihood ratio,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ing between Class +1 and Class -1,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is the Gaussian den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covari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048120" y="1828800"/>
                <a:ext cx="47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8960" y="3505320"/>
                <a:ext cx="8429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905120" y="46483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ying, using the the Gaussian dens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(critically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ovarian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133720" y="23623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66680" y="4121280"/>
                <a:ext cx="8812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0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(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0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(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25280" y="5210280"/>
                <a:ext cx="4703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39800" y="5792760"/>
                <a:ext cx="8047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                            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38080" y="2209680"/>
                <a:ext cx="8105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371600" y="2971800"/>
                <a:ext cx="3724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981080" y="3429000"/>
                <a:ext cx="6997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00200" y="4146480"/>
                <a:ext cx="33526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648320" y="4824360"/>
                <a:ext cx="41907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23880" y="5675400"/>
                <a:ext cx="6477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og of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Principal geodesic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t best fit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t best fits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emented as PCA in 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apped back to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-Yeon Jeong will demo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dder – Prostate – Rectum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ing          ,         and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aximum likelihood estim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        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the likelihood ratio discrimination ru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+1,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s above, so:     FLD can be view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lihood Ratio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685960" y="1704960"/>
                <a:ext cx="743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1752480"/>
                <a:ext cx="743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791320" y="1752480"/>
                <a:ext cx="533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943600" y="2889360"/>
                <a:ext cx="5335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86200" y="2895480"/>
                <a:ext cx="817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666880" y="2895480"/>
                <a:ext cx="817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219320" y="4589640"/>
                <a:ext cx="76197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Ratio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. k. a. “nonlinear discriminant analysi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 Assu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distributions ar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lihood Ratio rule is straightf’d num’l cal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us can easily implement, and do discrim’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504040" y="3679920"/>
                <a:ext cx="2172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Ratio Discrim’n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longer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’g hyperplan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egions determined by quadratic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airly complicated case-wise calc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display:  for each point, color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f assigned 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Cy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f assigned to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ns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ngth of assignm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Tilted Point Clouds –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Tilted Point Clouds –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Donut –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Donut – Works well (good quadra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X –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X – Better, but not g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Ope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lly geodesic P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data “just north of equator” on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Distribution on Manifo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og of Covari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ulation on Manifo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de:  There is a mathematical statistics literature on “data on manifold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ymgaart (198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driks, Janssen &amp; Ruymgaart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 &amp; Ruymgaart (199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im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hattacharya &amp; Patrangenaru (2003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Non-Euclidean Spa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es as Data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Graph The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raph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set of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des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ree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as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ot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bjects:   set of tr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3998" t="28548" r="12631" b="57989"/>
          <a:stretch/>
        </p:blipFill>
        <p:spPr>
          <a:xfrm>
            <a:off x="2819520" y="1828800"/>
            <a:ext cx="5181480" cy="156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5029200" y="335232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581280" y="236196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010280" y="304776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 </cp:lastModifiedBy>
  <dcterms:modified xsi:type="dcterms:W3CDTF">2005-10-18T19:20:22Z</dcterms:modified>
  <cp:revision>845</cp:revision>
  <dc:subject/>
  <dc:title>Title</dc:title>
</cp:coreProperties>
</file>