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9F0B-24D5-4975-BEE1-41C99522A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egFLD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FE6-35B0-4862-BCD6-D98471A4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966-77D1-4008-B350-95226C7A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BD7-D460-44A0-BAE5-19F40221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DF2-C211-48E5-99F7-48A56EBC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CCE4-7B21-4FA7-80F0-5410BFD0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56E-2B1D-48EA-B0E8-9DBBB67F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EA6-F4ED-43B1-AA73-6CE1B096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FD6-1E2A-4F13-B3AB-9A50F7AA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D04-7048-4533-8824-A6534536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AFFE-2CCA-473A-8FC8-0D96DAAF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70F8-71FF-4C1C-A6CA-4044DB1C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1E9-8121-4FA2-89F0-E1BEA951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2551-D5E9-41B7-8A3F-A673918613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Non-Euclidean Sp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ee sp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Tangent Pl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- Discri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Difference (Centroid metho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aphical Viewpoint (nonparametri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um Likelihood Derivation (Gaussian ba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ncipal Discriminant Analysis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way to find “interesting directions” among the mea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n set of m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   Eigen-analysis of “between class covariance matrix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ide:  can show:  overa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800600" y="3962520"/>
                <a:ext cx="175248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133720" y="4572000"/>
                <a:ext cx="51051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p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e>
                              </m:acc>
                              <m:r>
                                <m:t xml:space="preserve">−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</m:acc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p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e>
                              </m:acc>
                              <m:r>
                                <m:t xml:space="preserve">−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</m:acc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504040" y="5638680"/>
                <a:ext cx="34700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k</m:t>
                        </m:r>
                      </m:e>
                    </m:rad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ncipal Discriminant Analysis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PCA only works like Mean Differenc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ect can improve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aking covariance into accou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lind application of above ideas suggests eigen-analysis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029200" y="5486400"/>
                <a:ext cx="13716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ncipal Discriminant Analysis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arter ways to compu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“generalized eigenvalue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represent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his solves optimization prob’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cial case: 2 classes,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duces to standard F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reference for more:    Section 3.8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da, Hart &amp; Stork (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mary of Classical Ide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mong “Simple Method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 and FLD sometimes simi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times FLD be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FLD i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efer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mong Complicated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i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always use 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tory chang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 </a:t>
            </a:r>
            <a:r>
              <a:rPr b="0" lang="en-US" sz="28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et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main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su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ple Size,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&lt;    Dimension,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gular covariance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can’t use matrix in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can’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ndardiz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th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quires root inverse covaria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’t do classical multivariate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 approach to non-invertible covaria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e by generalized inver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times called pseudo inver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:  there are sev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re use Moore Penrose in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 used by Matlab    (pinv.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ten provides useful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but not al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Algebra Review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Algeb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990720"/>
            <a:ext cx="830592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 Decomposi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(symmetric) square matri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diagonal matrix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n orthonormal matrix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                      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at:                    ,    i.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858000" y="1905120"/>
                <a:ext cx="838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257800" y="2666880"/>
                <a:ext cx="3200400" cy="18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867280" y="4648320"/>
                <a:ext cx="76212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14600" y="5334120"/>
                <a:ext cx="320040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362320" y="6019920"/>
                <a:ext cx="213336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638680" y="5943600"/>
                <a:ext cx="2210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Algebra 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990720"/>
            <a:ext cx="876312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 Decomp. solves matrix 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 Roo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ositive (nonn’ve, i.e. semi) definite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429000" y="1828800"/>
                <a:ext cx="38862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429000" y="3657600"/>
                <a:ext cx="39625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b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8080" y="519120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029200" y="6019920"/>
                <a:ext cx="533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8229600" y="5257800"/>
                <a:ext cx="504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400800" y="5943600"/>
                <a:ext cx="15238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(</m:t>
                    </m:r>
                    <m:r>
                      <m:t xml:space="preserve">≥</m:t>
                    </m:r>
                    <m:r>
                      <m:t xml:space="preserve">)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Algebra 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990720"/>
            <a:ext cx="87631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re-Penrose Generalized Inver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828800" y="2819520"/>
                <a:ext cx="6248520" cy="34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t xml:space="preserve">⋯</m:t>
                              </m:r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/>
                            <m:e/>
                            <m:e/>
                            <m:e/>
                          </m:mr>
                          <m:mr>
                            <m:e/>
                            <m:e/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⋱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/>
                            <m:e/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t xml:space="preserve">⋯</m:t>
                              </m:r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295280" y="2057400"/>
                <a:ext cx="4589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Algebra 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990720"/>
            <a:ext cx="876312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see this satisfies the definition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(Pseudo) In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295280" y="3048120"/>
                <a:ext cx="2286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19320" y="3962520"/>
                <a:ext cx="24382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219320" y="4800600"/>
                <a:ext cx="914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219320" y="5638680"/>
                <a:ext cx="973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-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ckground:  Two Class (Binary) vers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ing “training data”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lass +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and 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Class 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velop a “rule” f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signing new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 a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onical Example:  Disease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w Patients are “Healthy” or “Il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termined based on measu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Algebra 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990720"/>
            <a:ext cx="876312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re-Penrose Generalized Inver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matrix inverse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n-null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linear trans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s to ordinary inverse,  in full rank cas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for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 = d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 could ju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ways use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y aspec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0  vs. = 0”   &amp;   floating point arithme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lication of Generalized Inverse to F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 (Normal) Vect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cep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ve replaced              by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019320" y="3048120"/>
                <a:ext cx="46339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D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048120" y="4471920"/>
                <a:ext cx="39621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D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429000" y="5715000"/>
                <a:ext cx="11430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638680" y="5715000"/>
                <a:ext cx="10350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:    Increasing 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opi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DLSS Properties of F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ized inverse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about HDLSS, as on 04/03/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al Data Pi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ding and Kernel Spac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-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Distinct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vs.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 labels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know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al: understand dif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uster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al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Fin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lass labels (to b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h are abou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umps of similar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much different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-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Distinct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vs.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terminolog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: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ervised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ustering: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supervised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aphical Introduction (non-Gaussian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9627" t="3789" r="11598" b="12631"/>
          <a:stretch/>
        </p:blipFill>
        <p:spPr>
          <a:xfrm>
            <a:off x="2011320" y="1824120"/>
            <a:ext cx="5713560" cy="4900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343400" y="2819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34304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52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ove derivation of FLD w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in any textbooks(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parametric (don’t need Gaussian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Used no probability distrib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hine Learning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ha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mary of FLD vs. GL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ilted Point Cloud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nut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b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b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OK, not g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Conclusion:     GLR generally b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will see a different answer for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Generalization II     (Gen. I was GL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 prior prob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idea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 different weights to 2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assum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 priori equally lik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velopment is “straightforwar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ified likelih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ange intercept in F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n’t explore further he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Generaliza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ncipal Discriminant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FLD-like approach to  &gt; two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sumption:    Class covariance matrices are th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(simila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but not Gaussian, same situation as for F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idea: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antify “location of classes” by their m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276720" y="5791320"/>
                <a:ext cx="3174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p>
                        </m:sSup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 </cp:lastModifiedBy>
  <dcterms:modified xsi:type="dcterms:W3CDTF">2005-10-20T14:55:39Z</dcterms:modified>
  <cp:revision>887</cp:revision>
  <dc:subject/>
  <dc:title>Title</dc:title>
</cp:coreProperties>
</file>