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F0A-DC39-4C33-B370-20B0AEE1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204-2D7A-4977-BC01-F8629338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06F-3DF5-46B0-AA47-68A936B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8AE-F7EB-432E-9FED-27D007F6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5B8-F68B-481C-89FC-495A2147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59A-F6A4-4A19-BA39-2BD138B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412-4AC3-40A1-AA5A-E706172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2FB-E191-4A90-87C7-DB7D79D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8D8-AB27-4116-9242-92475F8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890-0BA5-41FB-9F28-337E4FC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38D-E9A2-4E0A-9265-27A78EE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C77-F609-4BB3-A3F5-B3B606C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11-3163-4EF4-9FCA-7FCBBF5F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E15-6077-4CA4-97EB-33D6D624F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8182-06D2-46EC-83C7-61FC0ADCA323}" type="slidenum">
              <a:rPr b="0" lang="ko-KR" sz="1000" spc="-1" strike="noStrike">
                <a:solidFill>
                  <a:srgbClr val="2a3d7a"/>
                </a:solidFill>
                <a:latin typeface="Arial"/>
                <a:ea typeface="Guli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DFs/PExd3FLDcombine.pdf" TargetMode="External"/><Relationship Id="rId2" Type="http://schemas.openxmlformats.org/officeDocument/2006/relationships/hyperlink" Target="file:///PDFs/PExd3GLRcombine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DFs/PEdonFLDcombine.pdf" TargetMode="External"/><Relationship Id="rId2" Type="http://schemas.openxmlformats.org/officeDocument/2006/relationships/hyperlink" Target="file:///PDFs/PEdonGLRcombine.pd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DFs/EGkdeCombined.pd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DFs/PEchbFLDcombine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PDFs/DWDToyEg1Combine.pdf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Movies/SVMeg2p4v1.mpg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ovies/ToddSVMtwoOutliers.avi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Movies/TwoDprojSVMBayes.avi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Movies/TwoDprojSVM.avi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nc.edu/~marron/UNCstat322-2005/9-6-05.ppt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Movies/ToyMovie_PAMDWD.avi" TargetMode="External"/><Relationship Id="rId3" Type="http://schemas.openxmlformats.org/officeDocument/2006/relationships/hyperlink" Target="file:///Movies/ToyMovie_PAMDWD.avi" TargetMode="External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DFs/PEod1PC1combine.pdf" TargetMode="External"/><Relationship Id="rId2" Type="http://schemas.openxmlformats.org/officeDocument/2006/relationships/hyperlink" Target="file:///PDFs/PEod1FLDcombine.pdf" TargetMode="External"/><Relationship Id="rId3" Type="http://schemas.openxmlformats.org/officeDocument/2006/relationships/hyperlink" Target="file:///PDFs/PEod1GLRcombine.pdf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 (aka Class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&amp; GLR very att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never better, sometimes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&amp; GLR fall a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much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DLSS space is a strang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pidly improves with higher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ever ellipse around blues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 fit for low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over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with No Embe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quare shap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overfitting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many extra terms create spurious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ave “overfitt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s typically get w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 Topic Variation:       “Kernel Machin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replace polynomial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moid fun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neural n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ker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ed to 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kernel density estima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:  smoothed histogra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 ways to emb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  (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  (evaluate at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dedding  (inner prod. bas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verybody currently does the lat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some “grid points”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 “bandwidth” (i.e. standard dev’n)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 (     dim’al) 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data matrix wit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572000" y="1600200"/>
                <a:ext cx="14479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8001000" y="2438280"/>
                <a:ext cx="380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590920" y="2895480"/>
                <a:ext cx="41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514600" y="3505320"/>
                <a:ext cx="3733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828800" y="4749840"/>
                <a:ext cx="57150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discrimination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radial basis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new data vector      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33920" y="4343400"/>
                <a:ext cx="24382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48320" y="3505320"/>
                <a:ext cx="533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1:  Parallel Clou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2:  Split  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zerman, Braverman and Rozoner (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inear discrimina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dd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compone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mbedding in a higher dim’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use of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’g, Toy E.g. 3:  Don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t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,  Main less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good in regions with 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predictable where data are spa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olynomial Embedd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for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ly better for higher de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s don’t have needed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naïve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 too big in hig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mputationally tractable 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 only at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on full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here data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types of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studied soon, 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 to Support Vector Machin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s of this idea to other types of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ome clever computational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“Kernel based, nonlinear Principal Components Analy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:   Schölkopf, Smola and Müller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520" y="1143000"/>
                <a:ext cx="363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a linear method that “works we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mbedd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   Embedded data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n-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valu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new approac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8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ser, Guyon &amp; Vapnik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9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 Web Resou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kernel-machines.org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for cubic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4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r f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3886200"/>
                <a:ext cx="4191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tuto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rges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Monograp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tianini &amp; Shawe-Taylor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ölkopf &amp; Alex Smola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st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closest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49568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ulate Optimization problem,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feature)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Normal Vect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determines intercept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right side)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wrong side)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ve (convex problem) by quadratic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486400" y="1523880"/>
                <a:ext cx="1447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733920" y="21016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114800" y="281952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7162920" y="3352680"/>
                <a:ext cx="2919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334120" y="3809880"/>
                <a:ext cx="2438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791320" y="4572000"/>
                <a:ext cx="1143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grange Multipli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mulation  (separable cas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ize: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  are Lagrange multip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agrangian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971800" y="1828800"/>
                <a:ext cx="5943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981080" y="26668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276720" y="4343400"/>
                <a:ext cx="48765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86400" y="5410080"/>
                <a:ext cx="2971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Computational 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er only depends on data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nner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enough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store 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s big savings in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ecially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so creates vari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interpretation?!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is almost always done i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’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n “Embedding Map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ightforward application of embed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ner product ad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410080" y="10666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6858000" y="1447920"/>
                <a:ext cx="19051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752480" y="3429000"/>
                <a:ext cx="5562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2895480" y="4572000"/>
                <a:ext cx="426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’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m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defined only 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ains optimization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us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comm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to explicit 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“better”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971800" y="1523880"/>
                <a:ext cx="48769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666880" y="2895480"/>
                <a:ext cx="3657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 severely affected by outlie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 possible weaknes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ti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only 2 points drive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ge range of chosen hyperpl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l are “pretty good discriminato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happens w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le range is O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or b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violators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s on distance to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ak for violators near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as they mov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major impact o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depends on tuning paramete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  available algorithms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reated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unn’s Matlab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d’s Matlab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rious errors in Gunn’s version, does not find real optimum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View:       for origina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                            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                                      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ensional                                with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                                        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53080" y="1495440"/>
                <a:ext cx="2057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429000" y="2743200"/>
                <a:ext cx="282420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/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Regularization Parameter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 penalty for vi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ying on wrong side of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in slack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ects performance of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=Axis:   Opt. Dir’n     Other:  SVM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is the mar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angle to optimal (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p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r angle (less 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 gap (but maybe not better???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ween:      Very small 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look at 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MD on horizontal ax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SVM and M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C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es for large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ata piling for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 of SVM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milar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ier movie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838080" y="2286000"/>
                <a:ext cx="1143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762120" y="28954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33520" y="3581280"/>
                <a:ext cx="1828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80880" y="4343400"/>
                <a:ext cx="2286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erfe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G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Larg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4800600" y="1904760"/>
            <a:ext cx="27432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Support Vector Machine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igger G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Feels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Ugly subp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Improv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Distance Weighted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Addr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’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Nice subp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Re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 dist.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g. d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Optimization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precisely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appropriate penalty for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ization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Order Con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convex” gen’n of quad’c program’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fast greedy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use available fast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DP3,  Michael Todd, et 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561000" y="1241280"/>
                <a:ext cx="1278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’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=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3" name="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Batch and Source Adjustmen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Recall from Class Meeting, </a:t>
            </a:r>
            <a:r>
              <a:rPr b="0" lang="en-US" sz="2800" spc="-1" strike="noStrike" u="sng">
                <a:solidFill>
                  <a:srgbClr val="b0ae6a"/>
                </a:solidFill>
                <a:uFillTx/>
                <a:latin typeface="Tahoma"/>
                <a:ea typeface="Gulim"/>
                <a:hlinkClick r:id="rId1"/>
              </a:rPr>
              <a:t>9/6/0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For Perou’s Stanford Breast Canc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nalysis in Benito, et al (2004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Bioinforma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https://genome.unc.edu/pubsup/dw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Use DWD as usefu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direction 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djust for Sourc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Different sources of mR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lim"/>
              </a:rPr>
              <a:t>Adjust for Batch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Arrays fabricated at different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Fisher Linear Discrim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1, for any            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f class boundaries in original spa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ica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do Gaussian Lik. Rat. (or oth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 image by classifying points from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62720" y="1447920"/>
                <a:ext cx="1371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47920" y="2057400"/>
                <a:ext cx="651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Biological Class Colors &amp; Symbol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Adj’d, PCA view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ource Adj’d, Class Colore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Gulim"/>
              </a:rPr>
              <a:t>DWD Adj:  S. &amp; B Adj’d, Adj’d PC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Problem:   Proj’d Distrib’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r Dist’ns (opposite skew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allow sensib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igid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cely Fixed by D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ed Dist’ns near Gauss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ible to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is complicated:   value ad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uxin Liu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sizes of biological sub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ing ratio trips up m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DWD more rob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though still not per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widdle ratios of subtyp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290160" y="443556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Link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Arial"/>
                <a:hlinkClick r:id="rId3"/>
              </a:rPr>
              <a:t>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M. Benito &amp;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ed using land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 – Femal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R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730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for 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Linear Disc. In Embedded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Effect in Original Data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 Nonlinear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st Se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nse 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discriminatio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ing the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648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esting summ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DWD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separa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121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304560" y="1523520"/>
            <a:ext cx="43434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Compari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SVM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stingu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t as well as DW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5027760" y="2055960"/>
            <a:ext cx="31255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04920" y="4724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ifference: Project onto nor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has “small gap”    (feels noise artifa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“more informative” (feels real structur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rcRect l="0" t="22303" r="0" b="22303"/>
          <a:stretch/>
        </p:blipFill>
        <p:spPr>
          <a:xfrm>
            <a:off x="1143000" y="1371600"/>
            <a:ext cx="7167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V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“driver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gions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 to Discr’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“best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for human perce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 links on face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op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WD outcomes, from SAMSI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WD simulations, from SAMSI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up from FDA04-22-02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VMoverviewSAMSI09-06-03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Class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, Y., Lin, Y. and Wahba, G. (2002) "Multicategory Support Vector Machines, Theory, and Application to the Classification of Microarray Data and Satellite Radiance Data", U. Wisc. TR 106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far only have “implicit”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based” variation i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 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s “embedded greatest var.” onl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FL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3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discrimination a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overfitting probl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38280" y="59436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1-17T02:42:17Z</dcterms:modified>
  <cp:revision>1094</cp:revision>
  <dc:subject/>
  <dc:title>Title</dc:title>
</cp:coreProperties>
</file>