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39D5-3573-45F8-B5FE-B1E54EC94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:\Documents and Settings\J S Marron\My Documents\Research\ComplexPopn\MaxDataPiling\dppic2_2.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DLSSod1egFLD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EF80-EAF0-403E-8A14-5476FA062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A6BD-D6F4-4938-B74A-880612D5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F8DA-5056-405F-AC91-D0E5765D3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ECDF-CE6F-40B3-BC7B-AB6BE99A5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2360-2BA5-48C2-B8D6-D47F0D04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2C9B-4E12-42B9-A6FE-B712D959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1644-CF4D-4F50-B194-2157BE26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BB52-F8FF-4CCA-B068-DE66C48A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96FB-9A09-4180-8308-117073D7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6504-0991-4FBF-9A8C-0762CCC5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6D15-3695-4282-B456-D5FA5CB8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38A0-1D2D-4840-BEA4-FFA24620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27FF-A50B-4046-9ECF-57BEA2A61E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Movies/EGIncDimClass1FLD.avi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Movies/EGIncDimClass1MD.avi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file:///Movies/EGIncDimClass1MDP.avi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Object Orie’d Data Analysis, Last Tim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ldly Non-Euclidean Sp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ongly Non-Euclidean Sp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ree sp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 Tangent Pla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 - Discrim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an Difference (Centroid)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sher Linear Discrimi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raphical Viewpoint (nonparametri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um Likelihood Derivation (Gaussian ba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80880" y="11430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ncipal Discriminant Analysis (cont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ple way to find “interesting directions” among the mea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on set of me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   Eigen-analysis of “between class covariance matrix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side:  can show:  overal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800600" y="3962520"/>
                <a:ext cx="175248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133720" y="4572000"/>
                <a:ext cx="510516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k</m:t>
                            </m:r>
                          </m:e>
                        </m:rad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sSup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p>
                                      <m:r>
                                        <m:t xml:space="preserve">(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p>
                                </m:e>
                              </m:acc>
                              <m:r>
                                <m:t xml:space="preserve">−</m:t>
                              </m:r>
                              <m:acc>
                                <m:accPr>
                                  <m:chr m:val="⃗"/>
                                </m:accPr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</m:acc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sSup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p>
                                      <m:r>
                                        <m:t xml:space="preserve">(</m:t>
                                      </m:r>
                                      <m:r>
                                        <m:t xml:space="preserve">k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p>
                                </m:e>
                              </m:acc>
                              <m:r>
                                <m:t xml:space="preserve">−</m:t>
                              </m:r>
                              <m:acc>
                                <m:accPr>
                                  <m:chr m:val="⃗"/>
                                </m:accPr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</m:acc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504040" y="5638680"/>
                <a:ext cx="347004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k</m:t>
                        </m:r>
                      </m:e>
                    </m:rad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80880" y="11430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ncipal Discriminant Analysis (cont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PCA only works like Mean Differenc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pect can improve 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aking covariance into accoun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lind application of above ideas suggests eigen-analysis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029200" y="5486400"/>
                <a:ext cx="13716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sup>
                    </m:sSup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11430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ncipal Discriminant Analysis (cont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re a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marter ways to compu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“generalized eigenvalue”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ther representat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this solves optimization prob’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ecial case: 2 classes,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duces to standard F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ood reference for more:    Section 3.8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uda, Hart &amp; Stork (200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0880" y="11430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mmary of Classical Ide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mong “Simple Method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D and FLD sometimes simi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metimes FLD bet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 FLD is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efer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mong Complicated Meth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LR is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 always use 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Story changes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for </a:t>
            </a:r>
            <a:r>
              <a:rPr b="0" lang="en-US" sz="28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ett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0880" y="11430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main 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su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mple Size, 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&lt;    Dimension, 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ngular covariance matr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 can’t use matrix in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can’t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ndardiz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her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the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requires root inverse covarian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’t do classical multivariate 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0880" y="11430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 approach to non-invertible covaria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lace by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neralized inver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metimes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seudo inver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e:  there are seve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ere use Moore Penrose in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s used by Matlab    (pinv.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ften provides useful resul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but not alway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Linear Algebra Review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Linear Algebr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990720"/>
            <a:ext cx="8305920" cy="55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genvalue Decomposi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(symmetric) square matrix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 diagonal matrix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an orthonormal matrix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.e.                            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that:                    ,    i.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858000" y="1905120"/>
                <a:ext cx="8380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257800" y="2666880"/>
                <a:ext cx="3200400" cy="18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867280" y="4648320"/>
                <a:ext cx="762120" cy="52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514600" y="5334120"/>
                <a:ext cx="320040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362320" y="6019920"/>
                <a:ext cx="213336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638680" y="5943600"/>
                <a:ext cx="22100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Linear Algebra 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990720"/>
            <a:ext cx="8763120" cy="55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genvalue Decomp. solves matrix problem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rsion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uare Root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positive (nonn’ve, i.e. semi) definite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429000" y="1828800"/>
                <a:ext cx="3886200" cy="15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429000" y="3657600"/>
                <a:ext cx="396252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sup>
                              </m:sSubSup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  <m:sup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sup>
                              </m:sSubSup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838080" y="5191200"/>
                <a:ext cx="4572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5029200" y="6019920"/>
                <a:ext cx="5335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8229600" y="5257800"/>
                <a:ext cx="50472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6400800" y="5943600"/>
                <a:ext cx="15238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(</m:t>
                    </m:r>
                    <m:r>
                      <m:t xml:space="preserve">≥</m:t>
                    </m:r>
                    <m:r>
                      <m:t xml:space="preserve">)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Linear Algebra 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990720"/>
            <a:ext cx="876312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ore-Penrose Generalized Invers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828800" y="2819520"/>
                <a:ext cx="6248520" cy="34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/>
                            <m:e>
                              <m:r>
                                <m:t xml:space="preserve">⋯</m:t>
                              </m:r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/>
                            <m:e/>
                            <m:e/>
                            <m:e/>
                          </m:mr>
                          <m:mr>
                            <m:e/>
                            <m:e/>
                            <m:e>
                              <m:sSubSup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⋱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/>
                            <m:e/>
                          </m:mr>
                          <m:mr>
                            <m:e/>
                            <m:e/>
                            <m:e/>
                            <m:e/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/>
                            <m:e>
                              <m:r>
                                <m:t xml:space="preserve">⋯</m:t>
                              </m:r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295280" y="2057400"/>
                <a:ext cx="45896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Linear Algebra 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990720"/>
            <a:ext cx="876312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see this satisfies the definition o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(Pseudo) In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metr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metr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295280" y="3048120"/>
                <a:ext cx="22860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122480" y="3962520"/>
                <a:ext cx="26334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219320" y="4800600"/>
                <a:ext cx="9144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219320" y="5638680"/>
                <a:ext cx="9730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 -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ackground:  Two Class (Binary) vers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ing “training data” fr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Class +1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and   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Class 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velop a “rule” fo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ssigning new data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to a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onical Example:  Disease Diagn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w Patients are “Healthy” or “Ill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termined based on measur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Linear Algebra 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" y="990720"/>
            <a:ext cx="8763120" cy="54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ore-Penrose Generalized Invers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matrix inverse 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n-null sp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corresponding linear trans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s to ordinary inverse,  in full rank cas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 for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 = d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 could jus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lways use th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cky aspec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0  vs. = 0”   &amp;   floating point arithme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0880" y="11430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pplication of Generalized Inverse to FL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rection (Normal) Vecto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cep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ave replaced              by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019320" y="3048120"/>
                <a:ext cx="463392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LD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0" y="303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048120" y="4471920"/>
                <a:ext cx="396216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LD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3429000" y="5715000"/>
                <a:ext cx="11430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638680" y="5715000"/>
                <a:ext cx="103500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 flipH="1" flipV="1">
            <a:off x="4952880" y="3809880"/>
            <a:ext cx="99072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0880" y="11430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:    Increasing Dim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vector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try 1: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Class +1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              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Class –1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ther Entri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l Entries Independ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ok through dimensions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3124080" y="3200400"/>
                <a:ext cx="160020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533520" y="1905120"/>
                <a:ext cx="2176200" cy="52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6858000" y="3200400"/>
                <a:ext cx="167652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733920" y="3809880"/>
                <a:ext cx="110484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5257800" y="5702400"/>
                <a:ext cx="30481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⋯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0666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creasing Dimension Exam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j. 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pt’l Dir’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j. 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 Dir’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j. 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th Dir’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rcRect l="3206" t="14959" r="3206" b="8055"/>
          <a:stretch/>
        </p:blipFill>
        <p:spPr>
          <a:xfrm>
            <a:off x="3200400" y="1947960"/>
            <a:ext cx="5638680" cy="43084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666880" y="2819520"/>
            <a:ext cx="152424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819520" y="3428640"/>
            <a:ext cx="220968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14600" y="4191120"/>
            <a:ext cx="4267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0666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dd a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Unicode MS"/>
                <a:ea typeface="Arial Unicode MS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mension (nois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m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roj. 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pt’l Dir’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xes s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s dir’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w See 2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m’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rcRect l="3206" t="14960" r="3206" b="8054"/>
          <a:stretch/>
        </p:blipFill>
        <p:spPr>
          <a:xfrm>
            <a:off x="3200400" y="1947960"/>
            <a:ext cx="5638680" cy="43084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371600" y="3505320"/>
            <a:ext cx="281952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71600" y="3505320"/>
            <a:ext cx="556272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2362320" y="3276720"/>
            <a:ext cx="2057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362320" y="3124080"/>
            <a:ext cx="54864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0666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dd a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Unicode MS"/>
                <a:ea typeface="Arial Unicode MS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mension (nois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ject 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-d sub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ner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y optim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r’n &amp; 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 dir’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rcRect l="3206" t="14960" r="3206" b="8054"/>
          <a:stretch/>
        </p:blipFill>
        <p:spPr>
          <a:xfrm>
            <a:off x="3200400" y="1947960"/>
            <a:ext cx="5638680" cy="43084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2438280" y="2133720"/>
            <a:ext cx="1828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0880" y="99072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vie Through Increasing Dimen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Link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303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80880" y="11430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 in Increasing Dimen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w dimensions (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 = 2-9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sually good sepa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mall angle between FLD and Opti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ood generaliz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um Dimensions (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 = 10-26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sual separation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o good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?!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rger angle between FLD and Opti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rse generaliz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eel effect of sampling no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303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0880" y="11430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 in Increasing Dimen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igh Dimensions (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=27-37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ch worse ang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ry poor generaliz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very small within class var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or separation between cla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rge separation / variation rat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03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80880" y="11430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 in Increasing Dimen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t 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oundary (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=38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8 = degrees of freed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need to estimate 2 class mean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thin class variation = 0 ?!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le up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on just two po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erfect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eparation / variation rati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only feels microscopic noise asp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 likely not generaliz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gle to optimal very lar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303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 -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ortant Distinction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 vs. Clus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 labels a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know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oal: understand differ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uster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oal: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Fin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lass labels (to b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ila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th are about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umps of similar data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much different go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11430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 in Increasing Dimen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Just beyond 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oundary (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=39-70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roves with higher dimension?!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gle gets bet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roving generalizabilit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re noise helps classification?!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303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0880" y="11430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 in Increasing Dimen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ar beyond 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oun’ry (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=70-1000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ality degr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jections look terr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populations overla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d Generalizability falls apart, as we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th’s worked out by Bickel &amp; Levina (200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blem is estimation of d x d covariance matri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303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80880" y="11430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ple 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an Difference (Centroid)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 classically recommen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ually no better than F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metimes wor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avoids estimation of covari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ans are very st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n’t feel 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robl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303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an Difference (Centroid)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m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vi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m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Lin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303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2133720" y="152388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3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80880" y="11430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an Difference (Centroid)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ar more stable over dimen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ecause is likelihood ratio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for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nown variance - Gaussian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esn’t feel 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ound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ventually become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o goo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?!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dening gap between clusters?!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reful:   angle to optimal gro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 lose generaliz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DLSS data present some odd effect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303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al Data Pi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0666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ange FLD effect at 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ounda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Pil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each clas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l dat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ject t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ng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a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rcRect l="3207" t="14960" r="3207" b="8054"/>
          <a:stretch/>
        </p:blipFill>
        <p:spPr>
          <a:xfrm>
            <a:off x="3200400" y="1947960"/>
            <a:ext cx="5638680" cy="430848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2666880" y="2209680"/>
            <a:ext cx="441972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al Data Pi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9144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at is happen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ard to imag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nce our intuition is 3-dim’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me from our ancestor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ry to understand data piling wi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me 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al Data Pi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ple example (Ahn &amp; Marron 2005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t         be the hyperplan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nerated by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Class +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ich has dimension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line containing the 2 p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ilarly, let            be the hyperpla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nerated by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Class 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362320" y="1752480"/>
                <a:ext cx="19112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5105520" y="1676520"/>
                <a:ext cx="53316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447920" y="2362320"/>
                <a:ext cx="609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</m:e>
                      <m:sub>
                        <m:r>
                          <m:t xml:space="preserve">+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3200400" y="5105520"/>
                <a:ext cx="6094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al Data Pi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ple example:                    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t               b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rallel shifts o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 that they pass through the orig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ill have dimension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now are subsp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4114800" y="1066680"/>
                <a:ext cx="19112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6705720" y="990720"/>
                <a:ext cx="53316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1371600" y="1752480"/>
                <a:ext cx="14158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4381560" y="2400480"/>
                <a:ext cx="1414440" cy="60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al Data Pi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ple example:                    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4114800" y="1066680"/>
                <a:ext cx="19112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6705720" y="990720"/>
                <a:ext cx="53316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rcRect l="7855" t="23964" r="4713" b="8559"/>
          <a:stretch/>
        </p:blipFill>
        <p:spPr>
          <a:xfrm>
            <a:off x="1143000" y="1600200"/>
            <a:ext cx="70866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 -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ortant Distinction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 vs. Clus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eful terminolog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:   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pervised lear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ustering:   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supervised lear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al Data Pi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ple example:                    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struction 1: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t                   b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bspace generated by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wo dimens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hown as </a:t>
            </a:r>
            <a:r>
              <a:rPr b="0" lang="en-US" sz="3200" spc="-1" strike="noStrike">
                <a:solidFill>
                  <a:srgbClr val="00ffff"/>
                </a:solidFill>
                <a:latin typeface="Arial Unicode MS"/>
                <a:ea typeface="Arial Unicode MS"/>
              </a:rPr>
              <a:t>cyan pla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4038480" y="1066680"/>
                <a:ext cx="19116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6705720" y="990720"/>
                <a:ext cx="53316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5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1523880" y="2362320"/>
                <a:ext cx="163224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5715000" y="3048120"/>
                <a:ext cx="17096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∧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al Data Pi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ple example:                    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struction 1 (cont.):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t            b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rection orthogonal to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ne dimens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kes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Class +1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ata project to one p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d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Class -1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ata project to one p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al Data Piling Dir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4038480" y="1066680"/>
                <a:ext cx="19116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6705720" y="990720"/>
                <a:ext cx="53316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1371600" y="2362320"/>
                <a:ext cx="10936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DP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7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5715000" y="3124080"/>
                <a:ext cx="1631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al Data Pi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ple example:                    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struction 2: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t                     b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bspaces orthogonal to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respectivel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jection collapses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Class +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jection collapses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Class 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th are 2-d (plan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4038480" y="1066680"/>
                <a:ext cx="19116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6705720" y="990720"/>
                <a:ext cx="53316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1447920" y="2362320"/>
                <a:ext cx="19047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+</m:t>
                        </m:r>
                      </m:sub>
                      <m:sup/>
                    </m:sSubSup>
                    <m:r>
                      <m:t xml:space="preserve">∧</m:t>
                    </m:r>
                    <m:sSubSup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−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8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5867280" y="3048120"/>
                <a:ext cx="17114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∧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1143000" y="4419720"/>
                <a:ext cx="60948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+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8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1162080" y="5097600"/>
                <a:ext cx="59040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−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al Data Pi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ple example:                    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struction 2 (cont.):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t intersection of                     b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me Maximal Data Piling Dir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j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llapses bo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Class +1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d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Class 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section of 2-d (planes) is 1-d dir’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4038480" y="1066680"/>
                <a:ext cx="19116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6705720" y="990720"/>
                <a:ext cx="53316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9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4267080" y="2362320"/>
                <a:ext cx="17528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+</m:t>
                        </m:r>
                      </m:sub>
                      <m:sup/>
                    </m:sSubSup>
                    <m:r>
                      <m:t xml:space="preserve">∧</m:t>
                    </m:r>
                    <m:sSubSup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−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7315200" y="2362320"/>
                <a:ext cx="9237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DP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al Data Pi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neral Case:             in        wi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t                 b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yperplanes generated by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f Dimensions                          (resp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t                 b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rallel subsp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shifts to orig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f Dimensions                          (resp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3429000" y="1066680"/>
                <a:ext cx="10000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0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5334120" y="990720"/>
                <a:ext cx="59040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0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1447920" y="1676520"/>
                <a:ext cx="16444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∧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4114800" y="3124080"/>
                <a:ext cx="267336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7010280" y="1066680"/>
                <a:ext cx="198144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371600" y="3809880"/>
                <a:ext cx="16606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∧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4114800" y="5791320"/>
                <a:ext cx="261612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al Data Pi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neral Case:             in        wi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t                 b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thogonal Hyperplan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f Dim’ns                                     (resp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j’n in        Dir’ns Collapse 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Class +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j’n in        Dir’ns Collapse </a:t>
            </a:r>
            <a:r>
              <a:rPr b="0" lang="en-US" sz="28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Class -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pect                          inters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3429000" y="1066680"/>
                <a:ext cx="10000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5334120" y="990720"/>
                <a:ext cx="59040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1419120" y="1666800"/>
                <a:ext cx="17020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+</m:t>
                        </m:r>
                      </m:sub>
                      <m:sup/>
                    </m:sSubSup>
                    <m:r>
                      <m:t xml:space="preserve">∧</m:t>
                    </m:r>
                    <m:sSubSup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−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2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3276720" y="3124080"/>
                <a:ext cx="396216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7010280" y="1066680"/>
                <a:ext cx="198144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3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3124080" y="4419720"/>
                <a:ext cx="5335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+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3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2590920" y="5638680"/>
                <a:ext cx="269388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3143160" y="5018040"/>
                <a:ext cx="5144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−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al Data Pi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neral Case:             in        wi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54400" indent="-55440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show  (Ahn &amp; Marron 2005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54400" indent="-5544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st dir’ns in intersection collapse all to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54400" indent="-5544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there is a direction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54400" indent="-5544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ere Classes collapse to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54400" indent="-5544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iqu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n subspace generated by the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54400" indent="-5544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al Data Piling Dir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3429000" y="1066680"/>
                <a:ext cx="10000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5334120" y="990720"/>
                <a:ext cx="59040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4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7010280" y="1108080"/>
                <a:ext cx="18288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5638680" y="3048120"/>
                <a:ext cx="91440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DP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5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al Data Pi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vie Through Increasing Dimen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Lin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1905120" y="167652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4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al Data Pi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 in Increasing Dimen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b 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mensions (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 = 1-37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oks similar to FLD?!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ason for thi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t 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oundary (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 = 38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gain similar to FLD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al Data Pi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 in Increasing Dimen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mensions (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 = 39-1000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ways have data pi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ap between grows for larger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ven though noise increas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gle (gen’bility) firs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improves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 = 39–18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worsens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 = 200-1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ventually noise domin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rade-off is where gap near optimal diff’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sher Linear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raphical Introduction (non-Gaussian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9627" t="3789" r="11598" b="12631"/>
          <a:stretch/>
        </p:blipFill>
        <p:spPr>
          <a:xfrm>
            <a:off x="2011320" y="1824120"/>
            <a:ext cx="5713560" cy="4900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343400" y="2819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34304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al Data Pi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w to compute         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show  (Ahn &amp; Marron 2005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FLD formul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Only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fference i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lobal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s.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thin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variance Estimate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3809880" y="914400"/>
                <a:ext cx="91440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DP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1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3276720" y="3962520"/>
                <a:ext cx="388620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LD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p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4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3276720" y="2286000"/>
                <a:ext cx="3670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DP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al Data Pi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istorical No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covery of MD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me from a programming err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getting to us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thin clas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ovari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 FLD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al Data Pi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sual similarity of             &amp;           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show  (Ahn &amp; Marron 2005),   for 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&lt;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rections are the sam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w can this b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e lengths are different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udy from transformation viewp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4191120" y="914400"/>
                <a:ext cx="91440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DP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4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6095880" y="914400"/>
                <a:ext cx="7956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LD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47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2209680" y="2438280"/>
                <a:ext cx="542628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DP</m:t>
                                </m:r>
                              </m:sub>
                            </m:sSub>
                          </m:e>
                        </m:acc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DP</m:t>
                                    </m:r>
                                  </m:sub>
                                </m:sSub>
                              </m:e>
                            </m:acc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LD</m:t>
                                </m:r>
                              </m:sub>
                            </m:sSub>
                          </m:e>
                        </m:acc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LD</m:t>
                                    </m:r>
                                  </m:sub>
                                </m:sSub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al Data Pi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ransfo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ew o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2590920" y="990720"/>
            <a:ext cx="5481360" cy="57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5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al Data Pi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clu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res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D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ransfo’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th g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sul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2590920" y="1038240"/>
            <a:ext cx="617220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5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al Data Pi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tail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p’ing pla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rmal ve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thin Clas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lobal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rcRect l="3862" t="17142" r="2575" b="9142"/>
          <a:stretch/>
        </p:blipFill>
        <p:spPr>
          <a:xfrm>
            <a:off x="3530520" y="1389240"/>
            <a:ext cx="5251680" cy="466056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3276720" y="22860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3276720" y="2057040"/>
            <a:ext cx="281916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276720" y="2286000"/>
            <a:ext cx="43434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352680" y="2819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352680" y="2819520"/>
            <a:ext cx="2667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352680" y="2819520"/>
            <a:ext cx="4191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1600200" y="2514600"/>
            <a:ext cx="4876920" cy="12952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1600200" y="3429000"/>
            <a:ext cx="6477120" cy="3808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1676520" y="2971800"/>
            <a:ext cx="4724280" cy="1371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1676520" y="3580920"/>
            <a:ext cx="6324480" cy="762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1523880" y="4800240"/>
            <a:ext cx="4267440" cy="68580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1600200" y="3733920"/>
            <a:ext cx="4724280" cy="228600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al Data Pi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cknowledgemen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is viewp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insight into why FLD = MD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for low dim’al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ggested by Daniel Peñ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al Data Pi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 e.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ta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rom PC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 MD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r’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2743200" y="990720"/>
            <a:ext cx="6172200" cy="55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639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6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al Data Pi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DP for other class labelling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ways exi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paration bigger for natural clus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uld be used for clus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sider all dir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nd one that makes largest g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ry hard optimization probl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ver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Unicode MS"/>
                <a:ea typeface="Arial Unicode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ossible dir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al Data Pi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 point of terminology (Ahn &amp; Marron 2005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DP is “maximal” in 2 sens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# of data pi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ze of g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within sub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n’d by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rcRect l="8955" t="26606" r="8955" b="13796"/>
          <a:stretch/>
        </p:blipFill>
        <p:spPr>
          <a:xfrm>
            <a:off x="4687920" y="2941560"/>
            <a:ext cx="3854520" cy="318132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7391520" y="5638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76720" y="3200400"/>
            <a:ext cx="441936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520" y="114264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bove derivation of FLD w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nstand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 in any textbooks(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nparametric (don’t need Gaussian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Used no probability distrib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r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chine Learning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than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ti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al Data Pi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urring, over-arching, issu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pace is a weird p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izerman, Braverman and Rozoner (196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tivating ide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tend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op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f linear discrimination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y adding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nlinear component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to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embedding in a higher dim’al spa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etter use of nam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nlinear discriminat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 1d, 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near separatio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splits the dom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o only 2 pa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1143000" y="2133720"/>
                <a:ext cx="1828800" cy="52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720" name="" descr=""/>
          <p:cNvPicPr/>
          <p:nvPr/>
        </p:nvPicPr>
        <p:blipFill>
          <a:blip r:embed="rId1"/>
          <a:stretch/>
        </p:blipFill>
        <p:spPr>
          <a:xfrm>
            <a:off x="914400" y="3276720"/>
            <a:ext cx="7391520" cy="27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720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72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7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457200" y="914400"/>
            <a:ext cx="4038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in the “quadratic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mbedded domain”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near separ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give 3 par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457200" y="2362320"/>
                <a:ext cx="373392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</m:e>
                    </m:d>
                    <m:r>
                      <m:t xml:space="preserve">⊂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4876920" y="990720"/>
            <a:ext cx="3840120" cy="5546520"/>
          </a:xfrm>
          <a:prstGeom prst="rect">
            <a:avLst/>
          </a:prstGeom>
          <a:ln w="0">
            <a:noFill/>
          </a:ln>
        </p:spPr>
      </p:pic>
      <p:sp>
        <p:nvSpPr>
          <p:cNvPr id="740" name=""/>
          <p:cNvSpPr/>
          <p:nvPr/>
        </p:nvSpPr>
        <p:spPr>
          <a:xfrm>
            <a:off x="3200400" y="2971800"/>
            <a:ext cx="3200400" cy="1828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739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739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7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in th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adratic embedded dom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near separation can give 3 pa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iginal data space lies in 1d manif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ry sparse region of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urvature of manifold give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etter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nea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epa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hav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y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2 break p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2 points       lin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2743200" y="1523880"/>
                <a:ext cx="35812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</m:e>
                    </m:d>
                    <m:r>
                      <m:t xml:space="preserve">⊂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59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5181480" y="3276720"/>
                <a:ext cx="5335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6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876920" y="5715000"/>
                <a:ext cx="53316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onger effects fo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igher ord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lynomial embedd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 for cubic,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near separ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give 4 par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or few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1"/>
          <a:stretch/>
        </p:blipFill>
        <p:spPr>
          <a:xfrm>
            <a:off x="4724280" y="129528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780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228600" y="3886200"/>
                <a:ext cx="41911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</m:e>
                    </m:d>
                    <m:r>
                      <m:t xml:space="preserve">⊂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779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779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" dur="1" fill="hold"/>
                                        <p:tgtEl>
                                          <p:spTgt spid="7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onger effects - high. ord. poly. embedd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iginal space lies in 1-d manifold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ven sparser in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igher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urvature giv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roved linear sepa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hav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y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3 break poin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3 points        plane)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e:  relatively few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esting separating planes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6248520" y="2057400"/>
                <a:ext cx="53316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0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4648320" y="4557600"/>
                <a:ext cx="45720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neral View:       for original data matrix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dd row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mbe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ig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mens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9" name=""/>
              <p:cNvSpPr txBox="1"/>
              <p:nvPr/>
            </p:nvSpPr>
            <p:spPr>
              <a:xfrm>
                <a:off x="6553080" y="1495440"/>
                <a:ext cx="205740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0" name=""/>
          <p:cNvSpPr/>
          <p:nvPr/>
        </p:nvSpPr>
        <p:spPr>
          <a:xfrm>
            <a:off x="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1" name=""/>
              <p:cNvSpPr txBox="1"/>
              <p:nvPr/>
            </p:nvSpPr>
            <p:spPr>
              <a:xfrm>
                <a:off x="3657600" y="2819520"/>
                <a:ext cx="2824200" cy="39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/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n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456840" y="91404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mbeddedFisher Linear Discrimin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oose Class 1, for any             wh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mbedde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p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age of class boundaries in original space i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nlin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lows mor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plicate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lass reg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also do Gaussian Lik. Rat. (or others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pute image by classifying points from original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9" name=""/>
              <p:cNvSpPr txBox="1"/>
              <p:nvPr/>
            </p:nvSpPr>
            <p:spPr>
              <a:xfrm>
                <a:off x="5562720" y="1447920"/>
                <a:ext cx="137160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acc>
                    <m:r>
                      <m:t xml:space="preserve">∈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40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1" name=""/>
              <p:cNvSpPr txBox="1"/>
              <p:nvPr/>
            </p:nvSpPr>
            <p:spPr>
              <a:xfrm>
                <a:off x="1447920" y="2057400"/>
                <a:ext cx="6514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p>
                        </m:sSup>
                      </m:e>
                    </m:acc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p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</m:e>
                    </m:d>
                    <m:r>
                      <m:t xml:space="preserve">≤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</m:e>
                    </m:d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p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80880" y="11430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mmary of FLD vs. GL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ilted Point Clouds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522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 g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522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LR g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nut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522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 b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522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LR g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522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 b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522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LR OK, not gre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Conclusion:     GLR generally be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will see a different answer for 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80880" y="11430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 Generalization II     (Gen. I was GL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fferent prior proba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in idea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ive different weights to 2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assum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 priori equally like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velopment is “straightforward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dified likelih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ange intercept in F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n’t explore further he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0880" y="11430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 Generalization I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ncipal Discriminant 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dea: FLD-like approach to  &gt; two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ssumption:    Class covariance matrices are th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m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(simila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but not Gaussian, same situation as for FL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in idea: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antify “location of classes” by their me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276720" y="5791320"/>
                <a:ext cx="31748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sup>
                        </m:sSup>
                      </m:e>
                    </m:acc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</m:e>
                            </m:d>
                          </m:sup>
                        </m:sSup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1:38:43Z</dcterms:created>
  <dc:creator>Preferred Customer</dc:creator>
  <dc:description/>
  <dc:language>en-US</dc:language>
  <cp:lastModifiedBy> </cp:lastModifiedBy>
  <dcterms:modified xsi:type="dcterms:W3CDTF">2005-11-09T23:08:44Z</dcterms:modified>
  <cp:revision>998</cp:revision>
  <dc:subject/>
  <dc:title>Title</dc:title>
</cp:coreProperties>
</file>