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2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8.xml.rels" ContentType="application/vnd.openxmlformats-package.relationships+xml"/>
  <Override PartName="/ppt/notesSlides/notesSlide62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3.png" ContentType="image/png"/>
  <Override PartName="/ppt/media/image8.wmf" ContentType="image/x-wmf"/>
  <Override PartName="/ppt/media/image9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0.wmf" ContentType="image/x-wmf"/>
  <Override PartName="/ppt/media/image2.png" ContentType="image/png"/>
  <Override PartName="/ppt/media/image25.png" ContentType="image/png"/>
  <Override PartName="/ppt/media/image6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wmf" ContentType="image/x-wmf"/>
  <Override PartName="/ppt/media/image26.png" ContentType="image/png"/>
  <Override PartName="/ppt/media/image14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2F9F4-2F82-410F-88CA-608DD8FF2C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WD1figGBig.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WD1figHBig.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tchEffect1fig4Big.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CAeg1p1d1Ori.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CAeg1p1d1Mix.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CAeg1p1d1PCAdecomp.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CAeg1p1d1ICAdecomp.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CAeg1p1d1Ori.ps &amp; ICAeg1p1d1OriSP.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CAeg1p1d1Mix.ps &amp; ICAeg1p1d1MixSP.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CAeg1p1d1Mix.ps &amp; ICAeg1p1d1MixSP.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CAeg1p1d1Mix.ps &amp; ICAeg1p1d1MixSP.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WD1figEBig.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WD1figFBig.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77BE1-DF98-4166-A24E-D7237461B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CDF48-5AC4-47FC-A8BD-916E6EE05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84C77-2945-4DDF-B1F9-80FFF59E4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F1D27-88A9-4BA4-8DFB-26891C68D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279F5-2794-4C32-B87C-F4C634720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EE338-B1AB-42B5-B1DA-1C2E72C51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4D7FE-3F3A-49CD-9ADF-F231326B2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BF31C-E67F-4E00-B659-BD4E5B37A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92AC8-71E8-4B86-A587-1027A2BD7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0CF1A-C849-40E4-AA0B-ECB4493C4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B8243-7085-4E66-B567-6511FC93C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37FFE-BF08-4988-A84F-265BAC8F0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f5ff"/>
            </a:gs>
            <a:gs pos="50000">
              <a:srgbClr val="ffffff"/>
            </a:gs>
            <a:gs pos="100000">
              <a:srgbClr val="dcf5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DFFCB-4807-4AA7-802E-B8A5180EBA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ddf1"/>
            </a:gs>
            <a:gs pos="50000">
              <a:srgbClr val="fefefe"/>
            </a:gs>
            <a:gs pos="100000">
              <a:srgbClr val="c9ddf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76160" y="456840"/>
            <a:ext cx="71485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f"/>
                </a:solidFill>
                <a:latin typeface="Tahoma"/>
              </a:rPr>
              <a:t>Click to edit the title text format</a:t>
            </a:r>
            <a:endParaRPr b="1" lang="en-US" sz="2400" spc="-1" strike="noStrike">
              <a:solidFill>
                <a:srgbClr val="00007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31440" y="1479240"/>
            <a:ext cx="8094600" cy="476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-457200" algn="ctr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457200" indent="-457200" algn="ctr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457200" indent="-457200" algn="ctr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457200" indent="-457200" algn="ctr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457200" indent="-457200" algn="ctr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457200" indent="-457200" algn="ctr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"/>
          <p:cNvSpPr/>
          <p:nvPr/>
        </p:nvSpPr>
        <p:spPr>
          <a:xfrm>
            <a:off x="1198440" y="1230480"/>
            <a:ext cx="7820280" cy="0"/>
          </a:xfrm>
          <a:prstGeom prst="line">
            <a:avLst/>
          </a:prstGeom>
          <a:ln w="28440">
            <a:solidFill>
              <a:srgbClr val="0fc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539560" y="6629400"/>
            <a:ext cx="755280" cy="2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9CAD4-5AE1-4E0B-9EF1-842DAB89383F}" type="slidenum">
              <a:rPr b="0" lang="ko-KR" sz="1000" spc="-1" strike="noStrike">
                <a:solidFill>
                  <a:srgbClr val="2a3d7a"/>
                </a:solidFill>
                <a:latin typeface="Arial"/>
                <a:ea typeface="Gulim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28600" y="228600"/>
          <a:ext cx="762120" cy="914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228600"/>
                    <a:ext cx="76212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"/>
          <p:cNvSpPr/>
          <p:nvPr/>
        </p:nvSpPr>
        <p:spPr>
          <a:xfrm>
            <a:off x="-16560" y="1143000"/>
            <a:ext cx="12715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ahoma"/>
              </a:rPr>
              <a:t>UNC, Stat &amp; 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0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8.xml"/><Relationship Id="rId4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8.xml"/><Relationship Id="rId4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8.xml"/><Relationship Id="rId4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8.xml"/><Relationship Id="rId3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hyperlink" Target="http://www.cis.hut.fi/projects/ica/fastica/" TargetMode="External"/><Relationship Id="rId2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8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8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hyperlink" Target="http://www.stat.unc.edu/postscript/papers/marron/Teaching/CornellFDA/Lecture03-11-02/FDA03-11-02.pdf" TargetMode="External"/><Relationship Id="rId2" Type="http://schemas.openxmlformats.org/officeDocument/2006/relationships/hyperlink" Target="http://www.stat.unc.edu/postscript/papers/marron/Teaching/CornellFDA/Lecture03-25-02/FDA03-25-02.pdf" TargetMode="External"/><Relationship Id="rId3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f5ff"/>
            </a:gs>
            <a:gs pos="50000">
              <a:srgbClr val="ffffff"/>
            </a:gs>
            <a:gs pos="100000">
              <a:srgbClr val="dcf5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</a:rPr>
              <a:t>Object Orie’d Data Analysis, Last Time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Kernel Embedd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se linear methods in a non-linear w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upport Vector Machi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mpletely Non-Gaussian Classific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istance Weighted Discrimin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00ff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Arial Unicode MS"/>
                <a:ea typeface="Arial Unicode MS"/>
              </a:rPr>
              <a:t>HDLSS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mprovement of SV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sed in microarray data combin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ace Data,  Male vs. Fema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e6eff"/>
            </a:gs>
            <a:gs pos="50000">
              <a:srgbClr val="ffffff"/>
            </a:gs>
            <a:gs pos="100000">
              <a:srgbClr val="6e6e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Arial Unicode MS"/>
                <a:ea typeface="Arial Unicode MS"/>
              </a:rPr>
              <a:t>HDLSS</a:t>
            </a: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Discrim’n Simula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684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-578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lier Mixtur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8880" indent="-578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80% dim. 1                ,  other dims 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8880" indent="-578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0% dim. 1  ±100,  dim. 2  ±500,  others 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8880" indent="-578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D is a disaster, driven by outli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8880" indent="-578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VM &amp; DWD are both very robu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8880" indent="-578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VM is be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8880" indent="-578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WD very close to SVM (insig’t differenc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8880" indent="-578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thods converge for higher dimension?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8880" indent="-578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gnore RLR (a mistak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0" y="324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2819520" y="1523880"/>
                <a:ext cx="175248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±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e6eff"/>
            </a:gs>
            <a:gs pos="50000">
              <a:srgbClr val="ffffff"/>
            </a:gs>
            <a:gs pos="100000">
              <a:srgbClr val="6e6e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Arial Unicode MS"/>
                <a:ea typeface="Arial Unicode MS"/>
              </a:rPr>
              <a:t>HDLSS</a:t>
            </a: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Discrim’n Simula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45684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obble Mixtur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>
            <a:off x="1066680" y="1600200"/>
            <a:ext cx="7162920" cy="50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e6eff"/>
            </a:gs>
            <a:gs pos="50000">
              <a:srgbClr val="ffffff"/>
            </a:gs>
            <a:gs pos="100000">
              <a:srgbClr val="6e6e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Arial Unicode MS"/>
                <a:ea typeface="Arial Unicode MS"/>
              </a:rPr>
              <a:t>HDLSS</a:t>
            </a: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Discrim’n Simula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45684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-578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obble Mixtur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8880" indent="-578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80% dim. 1                ,  other dims 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8880" indent="-578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0% dim. 1  ±0.1,  rand dim  ±100,  others 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8880" indent="-578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D still very bad, driven by outli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8880" indent="-578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VM &amp; DWD are both very robu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8880" indent="-578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VM loses (affected by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argin push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8880" indent="-578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WD slightly better (by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’ted influence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8880" indent="-578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thods converge for higher dimension?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8880" indent="-578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gnore RLR (a mistak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0" y="324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8" name=""/>
              <p:cNvSpPr txBox="1"/>
              <p:nvPr/>
            </p:nvSpPr>
            <p:spPr>
              <a:xfrm>
                <a:off x="2819520" y="1523880"/>
                <a:ext cx="175248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±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e6eff"/>
            </a:gs>
            <a:gs pos="50000">
              <a:srgbClr val="ffffff"/>
            </a:gs>
            <a:gs pos="100000">
              <a:srgbClr val="6e6e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Arial Unicode MS"/>
                <a:ea typeface="Arial Unicode MS"/>
              </a:rPr>
              <a:t>HDLSS</a:t>
            </a: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Discrim’n Simula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684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ested Spher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1"/>
          <a:stretch/>
        </p:blipFill>
        <p:spPr>
          <a:xfrm>
            <a:off x="1066680" y="1600200"/>
            <a:ext cx="7162920" cy="50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e6eff"/>
            </a:gs>
            <a:gs pos="50000">
              <a:srgbClr val="ffffff"/>
            </a:gs>
            <a:gs pos="100000">
              <a:srgbClr val="6e6e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Arial Unicode MS"/>
                <a:ea typeface="Arial Unicode MS"/>
              </a:rPr>
              <a:t>HDLSS</a:t>
            </a: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Discrim’n Simula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45684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-5788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ested Spher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8880" indent="-5788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 Unicode MS"/>
                <a:ea typeface="Arial Unicode MS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d/2 dim’s, Gaussian with var 1 or 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8880" indent="-5788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 Unicode MS"/>
                <a:ea typeface="Arial Unicode MS"/>
              </a:rPr>
              <a:t>nd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d/2 dim’s, the squares of th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 Unicode MS"/>
                <a:ea typeface="Arial Unicode MS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dim’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8880" indent="-5788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as for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 Unicode MS"/>
                <a:ea typeface="Arial Unicode MS"/>
              </a:rPr>
              <a:t>nd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degree polynomial embedding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8880" indent="-578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ach method best somewhe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8880" indent="-578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D best in highest d (data non-Gaussian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8880" indent="-578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thods not comparable (realistic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8880" indent="-578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thods converge for higher dimension?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8880" indent="-578880">
              <a:lnSpc>
                <a:spcPct val="90000"/>
              </a:lnSpc>
              <a:spcBef>
                <a:spcPts val="799"/>
              </a:spcBef>
              <a:buClr>
                <a:srgbClr val="00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Arial Unicode MS"/>
                <a:ea typeface="Arial Unicode MS"/>
              </a:rPr>
              <a:t>HDLSS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space is a strange pl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8880" indent="-5788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gnore RLR (a mistak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0" y="324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e6eff"/>
            </a:gs>
            <a:gs pos="50000">
              <a:srgbClr val="ffffff"/>
            </a:gs>
            <a:gs pos="100000">
              <a:srgbClr val="6e6e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Arial Unicode MS"/>
                <a:ea typeface="Arial Unicode MS"/>
              </a:rPr>
              <a:t>HDLSS</a:t>
            </a: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Discrim’n Simula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45684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nclusions: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verything (sensible) is best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ometim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WD often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very near be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D weak beyond Gaussi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aution about simulations (and examples)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Very easy to cherry pick best o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ood practice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n Machine Learn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104840" indent="-533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gnore method proposed, but re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04840" indent="-5331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aper for useful comparison of others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e6eff"/>
            </a:gs>
            <a:gs pos="50000">
              <a:srgbClr val="ffffff"/>
            </a:gs>
            <a:gs pos="100000">
              <a:srgbClr val="6e6e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Arial Unicode MS"/>
                <a:ea typeface="Arial Unicode MS"/>
              </a:rPr>
              <a:t>HDLSS</a:t>
            </a: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Discrim’n Simula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45684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aution:  There are additional play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.g. Regularized Logistic Regression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ooks also very competiti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nteresting Phenomeno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ll methods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me togeth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n very high dimensions??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78"/>
            </a:gs>
            <a:gs pos="50000">
              <a:srgbClr val="ffffff"/>
            </a:gs>
            <a:gs pos="100000">
              <a:srgbClr val="ffff7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676160" y="456840"/>
            <a:ext cx="71485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ahoma"/>
              </a:rPr>
              <a:t>HDLSS</a:t>
            </a:r>
            <a:r>
              <a:rPr b="1" lang="en-US" sz="2400" spc="-1" strike="noStrike">
                <a:solidFill>
                  <a:srgbClr val="00007f"/>
                </a:solidFill>
                <a:latin typeface="Tahoma"/>
              </a:rPr>
              <a:t> Asymptotics: Simple Paradoxes, I</a:t>
            </a:r>
            <a:endParaRPr b="1" lang="en-US" sz="2400" spc="-1" strike="noStrike">
              <a:solidFill>
                <a:srgbClr val="00007f"/>
              </a:solidFill>
              <a:latin typeface="Tahom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80550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     dim’al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tandard Norma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ist’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uclidean Distance to Origin (as            )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 Data lie roughly on surface of sphere of radiu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 Yet origin is point of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ighest dens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??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 Paradox resolved b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ensity w. r. t. Lebesgue Measu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1" name=""/>
              <p:cNvSpPr txBox="1"/>
              <p:nvPr/>
            </p:nvSpPr>
            <p:spPr>
              <a:xfrm>
                <a:off x="1219320" y="1523880"/>
                <a:ext cx="24912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2" name=""/>
              <p:cNvSpPr txBox="1"/>
              <p:nvPr/>
            </p:nvSpPr>
            <p:spPr>
              <a:xfrm>
                <a:off x="5105520" y="3200400"/>
                <a:ext cx="914400" cy="29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→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3" name=""/>
              <p:cNvSpPr txBox="1"/>
              <p:nvPr/>
            </p:nvSpPr>
            <p:spPr>
              <a:xfrm>
                <a:off x="5867280" y="1523880"/>
                <a:ext cx="259092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Z</m:t>
                        </m:r>
                      </m:e>
                    </m:acc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t xml:space="preserve">d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rPr>
                        <m:lit/>
                        <m:nor/>
                      </m:rPr>
                      <m:t xml:space="preserve">~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0</m:t>
                            </m:r>
                          </m:e>
                        </m:acc>
                        <m:r>
                          <m:t xml:space="preserve">,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4" name=""/>
              <p:cNvSpPr txBox="1"/>
              <p:nvPr/>
            </p:nvSpPr>
            <p:spPr>
              <a:xfrm>
                <a:off x="6019920" y="3657600"/>
                <a:ext cx="20444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‖"/>
                        <m:endChr m:val="‖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Z</m:t>
                            </m:r>
                          </m:e>
                        </m:acc>
                      </m:e>
                    </m: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d</m:t>
                        </m:r>
                      </m:e>
                    </m:rad>
                    <m:r>
                      <m:t xml:space="preserve">+</m:t>
                    </m:r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5" name=""/>
              <p:cNvSpPr txBox="1"/>
              <p:nvPr/>
            </p:nvSpPr>
            <p:spPr>
              <a:xfrm>
                <a:off x="7238880" y="4267080"/>
                <a:ext cx="444600" cy="3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d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78"/>
            </a:gs>
            <a:gs pos="50000">
              <a:srgbClr val="ffffff"/>
            </a:gs>
            <a:gs pos="100000">
              <a:srgbClr val="ffff7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676160" y="456840"/>
            <a:ext cx="71485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ahoma"/>
              </a:rPr>
              <a:t>HDLSS</a:t>
            </a:r>
            <a:r>
              <a:rPr b="1" lang="en-US" sz="2400" spc="-1" strike="noStrike">
                <a:solidFill>
                  <a:srgbClr val="00007f"/>
                </a:solidFill>
                <a:latin typeface="Tahoma"/>
              </a:rPr>
              <a:t> Asymptotics: Simple Paradoxes, II</a:t>
            </a:r>
            <a:endParaRPr b="1" lang="en-US" sz="2400" spc="-1" strike="noStrike">
              <a:solidFill>
                <a:srgbClr val="00007f"/>
              </a:solidFill>
              <a:latin typeface="Tahom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80550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   dim’al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Standard Norma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ist’n: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.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uclidean Dist. between      and      (as          )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tends to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non-rando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constant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extend to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re do they all go??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we can only perceive 3 dim’ns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8" name=""/>
              <p:cNvSpPr txBox="1"/>
              <p:nvPr/>
            </p:nvSpPr>
            <p:spPr>
              <a:xfrm>
                <a:off x="1219320" y="1523880"/>
                <a:ext cx="22860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9" name=""/>
              <p:cNvSpPr txBox="1"/>
              <p:nvPr/>
            </p:nvSpPr>
            <p:spPr>
              <a:xfrm>
                <a:off x="6934320" y="3048120"/>
                <a:ext cx="106668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→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0" name=""/>
              <p:cNvSpPr txBox="1"/>
              <p:nvPr/>
            </p:nvSpPr>
            <p:spPr>
              <a:xfrm>
                <a:off x="5486400" y="1981080"/>
                <a:ext cx="1981080" cy="4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acc>
                    <m:r>
                      <m:rPr>
                        <m:lit/>
                        <m:nor/>
                      </m:rPr>
                      <m:t xml:space="preserve">~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0</m:t>
                            </m:r>
                          </m:e>
                        </m:acc>
                        <m:r>
                          <m:t xml:space="preserve">,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1" name=""/>
              <p:cNvSpPr txBox="1"/>
              <p:nvPr/>
            </p:nvSpPr>
            <p:spPr>
              <a:xfrm>
                <a:off x="4800600" y="4038480"/>
                <a:ext cx="327672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‖"/>
                        <m:endChr m:val="‖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acc>
                        <m:r>
                          <m:t xml:space="preserve">−</m:t>
                        </m:r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acc>
                      </m:e>
                    </m: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  <m:r>
                          <m:t xml:space="preserve">d</m:t>
                        </m:r>
                      </m:e>
                    </m:rad>
                    <m:r>
                      <m:t xml:space="preserve">+</m:t>
                    </m:r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2" name=""/>
              <p:cNvSpPr txBox="1"/>
              <p:nvPr/>
            </p:nvSpPr>
            <p:spPr>
              <a:xfrm>
                <a:off x="3200400" y="1981080"/>
                <a:ext cx="40176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3" name=""/>
              <p:cNvSpPr txBox="1"/>
              <p:nvPr/>
            </p:nvSpPr>
            <p:spPr>
              <a:xfrm>
                <a:off x="4572000" y="2971800"/>
                <a:ext cx="4017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4" name=""/>
              <p:cNvSpPr txBox="1"/>
              <p:nvPr/>
            </p:nvSpPr>
            <p:spPr>
              <a:xfrm>
                <a:off x="5791320" y="2971800"/>
                <a:ext cx="46980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5" name=""/>
              <p:cNvSpPr txBox="1"/>
              <p:nvPr/>
            </p:nvSpPr>
            <p:spPr>
              <a:xfrm>
                <a:off x="3124080" y="4551480"/>
                <a:ext cx="1143000" cy="37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acc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acc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78"/>
            </a:gs>
            <a:gs pos="50000">
              <a:srgbClr val="ffffff"/>
            </a:gs>
            <a:gs pos="100000">
              <a:srgbClr val="ffff7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676160" y="456840"/>
            <a:ext cx="71485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ahoma"/>
              </a:rPr>
              <a:t>HDLSS</a:t>
            </a:r>
            <a:r>
              <a:rPr b="1" lang="en-US" sz="2400" spc="-1" strike="noStrike">
                <a:solidFill>
                  <a:srgbClr val="00007f"/>
                </a:solidFill>
                <a:latin typeface="Tahoma"/>
              </a:rPr>
              <a:t> Asymptotics: Simple Paradoxes, III</a:t>
            </a:r>
            <a:endParaRPr b="1" lang="en-US" sz="2400" spc="-1" strike="noStrike">
              <a:solidFill>
                <a:srgbClr val="00007f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80550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   dim’al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Standard Norma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ist’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.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im’al Angles   (as             )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Everything is orthogona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??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- Where do they all go??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again our perceptual limitation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- Again 1st order structure i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non-rando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8" name=""/>
              <p:cNvSpPr txBox="1"/>
              <p:nvPr/>
            </p:nvSpPr>
            <p:spPr>
              <a:xfrm>
                <a:off x="1219320" y="1447920"/>
                <a:ext cx="290520" cy="35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9" name=""/>
              <p:cNvSpPr txBox="1"/>
              <p:nvPr/>
            </p:nvSpPr>
            <p:spPr>
              <a:xfrm>
                <a:off x="4648320" y="2819520"/>
                <a:ext cx="106668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→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0" name=""/>
              <p:cNvSpPr txBox="1"/>
              <p:nvPr/>
            </p:nvSpPr>
            <p:spPr>
              <a:xfrm>
                <a:off x="5562720" y="1981080"/>
                <a:ext cx="2057400" cy="43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acc>
                    <m:r>
                      <m:rPr>
                        <m:lit/>
                        <m:nor/>
                      </m:rPr>
                      <m:t xml:space="preserve">~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0</m:t>
                            </m:r>
                          </m:e>
                        </m:acc>
                        <m:r>
                          <m:t xml:space="preserve">,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1" name=""/>
              <p:cNvSpPr txBox="1"/>
              <p:nvPr/>
            </p:nvSpPr>
            <p:spPr>
              <a:xfrm>
                <a:off x="3498840" y="3422520"/>
                <a:ext cx="4359240" cy="49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ngle</m:t>
                    </m:r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acc>
                        <m:r>
                          <m:t xml:space="preserve">,</m:t>
                        </m:r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acc>
                      </m:e>
                    </m:d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(</m:t>
                    </m:r>
                    <m:sSup>
                      <m:e>
                        <m:r>
                          <m:t xml:space="preserve">d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2" name=""/>
              <p:cNvSpPr txBox="1"/>
              <p:nvPr/>
            </p:nvSpPr>
            <p:spPr>
              <a:xfrm>
                <a:off x="3352680" y="1981080"/>
                <a:ext cx="40176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acc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8ff"/>
            </a:gs>
            <a:gs pos="50000">
              <a:srgbClr val="ffffff"/>
            </a:gs>
            <a:gs pos="100000">
              <a:srgbClr val="ff98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upport Vector Machin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684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orgotten last time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mportant Extensio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ct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lti-Class SVM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Hsu &amp; Lin (2002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ee, Lin, &amp; Wahba (2002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efined for “implicit” ver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irection Based” variation??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78"/>
            </a:gs>
            <a:gs pos="50000">
              <a:srgbClr val="ffffff"/>
            </a:gs>
            <a:gs pos="100000">
              <a:srgbClr val="ffff7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676160" y="456840"/>
            <a:ext cx="71485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ahoma"/>
              </a:rPr>
              <a:t>HDLSS</a:t>
            </a:r>
            <a:r>
              <a:rPr b="1" lang="en-US" sz="2400" spc="-1" strike="noStrike">
                <a:solidFill>
                  <a:srgbClr val="00007f"/>
                </a:solidFill>
                <a:latin typeface="Tahoma"/>
              </a:rPr>
              <a:t> Asy’s: Geometrical Representation, I</a:t>
            </a:r>
            <a:endParaRPr b="1" lang="en-US" sz="2400" spc="-1" strike="noStrike">
              <a:solidFill>
                <a:srgbClr val="00007f"/>
              </a:solidFill>
              <a:latin typeface="Tahom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38862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sume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                        ,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t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dy Subspace Generated by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yperplane through 0, of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mension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ints are “nearly equidistant to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”, &amp; dis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thin plane, can “rotate  towards          Unit Simplex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ll Gaussian data set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re“near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it Simplex Vertices”!!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ndomness”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ppears only in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rotati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of simplex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5" name=""/>
              <p:cNvSpPr txBox="1"/>
              <p:nvPr/>
            </p:nvSpPr>
            <p:spPr>
              <a:xfrm>
                <a:off x="2895480" y="2971800"/>
                <a:ext cx="187560" cy="18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6" name=""/>
              <p:cNvSpPr txBox="1"/>
              <p:nvPr/>
            </p:nvSpPr>
            <p:spPr>
              <a:xfrm>
                <a:off x="4419720" y="1447920"/>
                <a:ext cx="914400" cy="29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→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7" name=""/>
              <p:cNvSpPr txBox="1"/>
              <p:nvPr/>
            </p:nvSpPr>
            <p:spPr>
              <a:xfrm>
                <a:off x="1600200" y="1447920"/>
                <a:ext cx="2209680" cy="33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acc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acc>
                    <m:r>
                      <m:rPr>
                        <m:lit/>
                        <m:nor/>
                      </m:rPr>
                      <m:t xml:space="preserve">~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0</m:t>
                            </m:r>
                          </m:e>
                        </m:acc>
                        <m:r>
                          <m:t xml:space="preserve">,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8" name=""/>
              <p:cNvSpPr txBox="1"/>
              <p:nvPr/>
            </p:nvSpPr>
            <p:spPr>
              <a:xfrm>
                <a:off x="1600200" y="4343400"/>
                <a:ext cx="609480" cy="32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d</m:t>
                        </m:r>
                      </m:e>
                    </m:rad>
                    <m:r>
                      <m:t xml:space="preserve">×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9" name=""/>
              <p:cNvSpPr txBox="1"/>
              <p:nvPr/>
            </p:nvSpPr>
            <p:spPr>
              <a:xfrm>
                <a:off x="2743200" y="3657600"/>
                <a:ext cx="372960" cy="28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d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pic>
        <p:nvPicPr>
          <p:cNvPr id="410" name="" descr=""/>
          <p:cNvPicPr/>
          <p:nvPr/>
        </p:nvPicPr>
        <p:blipFill>
          <a:blip r:embed="rId1"/>
          <a:stretch/>
        </p:blipFill>
        <p:spPr>
          <a:xfrm rot="5400000">
            <a:off x="5181480" y="1904760"/>
            <a:ext cx="3244680" cy="370224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/>
          <p:nvPr/>
        </p:nvSpPr>
        <p:spPr>
          <a:xfrm>
            <a:off x="5029200" y="5867280"/>
            <a:ext cx="3886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ll, Marron &amp; Neeman (2005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78"/>
            </a:gs>
            <a:gs pos="50000">
              <a:srgbClr val="ffffff"/>
            </a:gs>
            <a:gs pos="100000">
              <a:srgbClr val="ffff7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676160" y="456840"/>
            <a:ext cx="71485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ahoma"/>
              </a:rPr>
              <a:t>HDLSS</a:t>
            </a:r>
            <a:r>
              <a:rPr b="1" lang="en-US" sz="2400" spc="-1" strike="noStrike">
                <a:solidFill>
                  <a:srgbClr val="00007f"/>
                </a:solidFill>
                <a:latin typeface="Tahoma"/>
              </a:rPr>
              <a:t> Asy’s: Geometrical Representation, II</a:t>
            </a:r>
            <a:endParaRPr b="1" lang="en-US" sz="2400" spc="-1" strike="noStrike">
              <a:solidFill>
                <a:srgbClr val="00007f"/>
              </a:solidFill>
              <a:latin typeface="Tahom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38862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sume                              , l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dy Hyperplane Generated by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mensional hyperpla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ints are pairwise equidistant,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s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ints lie at vertices of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regular       hedron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ain “randomness in data” is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only in r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rprisingly rigid structure in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4" name=""/>
              <p:cNvSpPr txBox="1"/>
              <p:nvPr/>
            </p:nvSpPr>
            <p:spPr>
              <a:xfrm>
                <a:off x="990720" y="2590920"/>
                <a:ext cx="533160" cy="26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5" name=""/>
              <p:cNvSpPr txBox="1"/>
              <p:nvPr/>
            </p:nvSpPr>
            <p:spPr>
              <a:xfrm>
                <a:off x="4419720" y="1447920"/>
                <a:ext cx="914400" cy="29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→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6" name=""/>
              <p:cNvSpPr txBox="1"/>
              <p:nvPr/>
            </p:nvSpPr>
            <p:spPr>
              <a:xfrm>
                <a:off x="1600200" y="1447920"/>
                <a:ext cx="2209680" cy="33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acc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acc>
                    <m:r>
                      <m:rPr>
                        <m:lit/>
                        <m:nor/>
                      </m:rPr>
                      <m:t xml:space="preserve">~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0</m:t>
                            </m:r>
                          </m:e>
                        </m:acc>
                        <m:r>
                          <m:t xml:space="preserve">,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7" name=""/>
              <p:cNvSpPr txBox="1"/>
              <p:nvPr/>
            </p:nvSpPr>
            <p:spPr>
              <a:xfrm>
                <a:off x="3586320" y="3657600"/>
                <a:ext cx="752400" cy="32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  <m:r>
                          <m:t xml:space="preserve">d</m:t>
                        </m:r>
                      </m:e>
                    </m:rad>
                    <m:r>
                      <m:t xml:space="preserve">×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8" name=""/>
              <p:cNvSpPr txBox="1"/>
              <p:nvPr/>
            </p:nvSpPr>
            <p:spPr>
              <a:xfrm>
                <a:off x="2133720" y="3276720"/>
                <a:ext cx="576000" cy="28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~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d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pic>
        <p:nvPicPr>
          <p:cNvPr id="419" name="" descr=""/>
          <p:cNvPicPr/>
          <p:nvPr/>
        </p:nvPicPr>
        <p:blipFill>
          <a:blip r:embed="rId1"/>
          <a:stretch/>
        </p:blipFill>
        <p:spPr>
          <a:xfrm>
            <a:off x="4648320" y="2438280"/>
            <a:ext cx="4267080" cy="3200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20" name=""/>
              <p:cNvSpPr txBox="1"/>
              <p:nvPr/>
            </p:nvSpPr>
            <p:spPr>
              <a:xfrm>
                <a:off x="2590920" y="4114800"/>
                <a:ext cx="390240" cy="19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19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19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4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78"/>
            </a:gs>
            <a:gs pos="50000">
              <a:srgbClr val="ffffff"/>
            </a:gs>
            <a:gs pos="100000">
              <a:srgbClr val="ffff7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447920" y="456840"/>
            <a:ext cx="737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ahoma"/>
              </a:rPr>
              <a:t>HDLSS</a:t>
            </a:r>
            <a:r>
              <a:rPr b="1" lang="en-US" sz="2400" spc="-1" strike="noStrike">
                <a:solidFill>
                  <a:srgbClr val="00007f"/>
                </a:solidFill>
                <a:latin typeface="Tahoma"/>
              </a:rPr>
              <a:t> Asy’s: Geometrical Representation, III</a:t>
            </a:r>
            <a:endParaRPr b="1" lang="en-US" sz="2400" spc="-1" strike="noStrike">
              <a:solidFill>
                <a:srgbClr val="00007f"/>
              </a:solidFill>
              <a:latin typeface="Tahom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31800" y="1479600"/>
            <a:ext cx="7902720" cy="80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ulation View:  shows “rigidity after rotation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23" name="" descr=""/>
          <p:cNvPicPr/>
          <p:nvPr/>
        </p:nvPicPr>
        <p:blipFill>
          <a:blip r:embed="rId1"/>
          <a:stretch/>
        </p:blipFill>
        <p:spPr>
          <a:xfrm rot="5400000">
            <a:off x="2293560" y="1820520"/>
            <a:ext cx="44798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78"/>
            </a:gs>
            <a:gs pos="50000">
              <a:srgbClr val="ffffff"/>
            </a:gs>
            <a:gs pos="100000">
              <a:srgbClr val="ffff7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447920" y="456840"/>
            <a:ext cx="737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ahoma"/>
              </a:rPr>
              <a:t>HDLSS</a:t>
            </a:r>
            <a:r>
              <a:rPr b="1" lang="en-US" sz="2400" spc="-1" strike="noStrike">
                <a:solidFill>
                  <a:srgbClr val="00007f"/>
                </a:solidFill>
                <a:latin typeface="Tahoma"/>
              </a:rPr>
              <a:t> Asy’s: Geometrical Representation, III</a:t>
            </a:r>
            <a:endParaRPr b="1" lang="en-US" sz="2400" spc="-1" strike="noStrike">
              <a:solidFill>
                <a:srgbClr val="00007f"/>
              </a:solidFill>
              <a:latin typeface="Tahom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31800" y="1479600"/>
            <a:ext cx="7902720" cy="4921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aightforward Generalization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Gaussian data:    only need mo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independent:    use “mixing conditions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ld Eigenvalue condition on Theoretical Cov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with J. Ahn, K. Muller &amp; Y. Chi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based on simple “Laws of Large Numbers”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6" name=""/>
              <p:cNvSpPr txBox="1"/>
              <p:nvPr/>
            </p:nvSpPr>
            <p:spPr>
              <a:xfrm>
                <a:off x="2057400" y="4419720"/>
                <a:ext cx="201600" cy="69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⋮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78"/>
            </a:gs>
            <a:gs pos="50000">
              <a:srgbClr val="ffffff"/>
            </a:gs>
            <a:gs pos="100000">
              <a:srgbClr val="ffff7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447920" y="456840"/>
            <a:ext cx="737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ahoma"/>
              </a:rPr>
              <a:t>HDLSS</a:t>
            </a:r>
            <a:r>
              <a:rPr b="1" lang="en-US" sz="2400" spc="-1" strike="noStrike">
                <a:solidFill>
                  <a:srgbClr val="00007f"/>
                </a:solidFill>
                <a:latin typeface="Tahoma"/>
              </a:rPr>
              <a:t> Asy’s: Geometrical Representation, IV</a:t>
            </a:r>
            <a:endParaRPr b="1" lang="en-US" sz="2400" spc="-1" strike="noStrike">
              <a:solidFill>
                <a:srgbClr val="00007f"/>
              </a:solidFill>
              <a:latin typeface="Tahom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80880" y="1479600"/>
            <a:ext cx="8305920" cy="4921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anation of Observed (Simulation) Behavio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thing similar for very high 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d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 popn’s are 2 simplices  (i.e. regular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-hedron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are same distance from the other cla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.e. everything is a support vec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.e. all sensible directions show “data piling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 “sensible methods are all nearly the same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luding  1 - N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78"/>
            </a:gs>
            <a:gs pos="50000">
              <a:srgbClr val="ffffff"/>
            </a:gs>
            <a:gs pos="100000">
              <a:srgbClr val="ffff7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447920" y="456840"/>
            <a:ext cx="737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ahoma"/>
              </a:rPr>
              <a:t>HDLSS</a:t>
            </a:r>
            <a:r>
              <a:rPr b="1" lang="en-US" sz="2400" spc="-1" strike="noStrike">
                <a:solidFill>
                  <a:srgbClr val="00007f"/>
                </a:solidFill>
                <a:latin typeface="Tahoma"/>
              </a:rPr>
              <a:t> Asy’s: Geometrical Representation, V</a:t>
            </a:r>
            <a:endParaRPr b="1" lang="en-US" sz="2400" spc="-1" strike="noStrike">
              <a:solidFill>
                <a:srgbClr val="00007f"/>
              </a:solidFill>
              <a:latin typeface="Tahom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380880" y="1479600"/>
            <a:ext cx="8305920" cy="4921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rther Consequences of Geometric Re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.  Inefficiency of DWD for uneven sample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motivate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weighted vers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work in progres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.  DWD mor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stabl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han SV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based on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deeper limiting distribution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reflects intuitive idea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feeling sampling varia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something lik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mean vs. media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  1-NN rule inefficiency is quantifie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78"/>
            </a:gs>
            <a:gs pos="50000">
              <a:srgbClr val="ffffff"/>
            </a:gs>
            <a:gs pos="100000">
              <a:srgbClr val="ffff7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447920" y="456840"/>
            <a:ext cx="737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f"/>
                </a:solidFill>
                <a:latin typeface="Tahoma"/>
              </a:rPr>
              <a:t>The Future of Geometrical Representation?</a:t>
            </a:r>
            <a:endParaRPr b="1" lang="en-US" sz="2400" spc="-1" strike="noStrike">
              <a:solidFill>
                <a:srgbClr val="00007f"/>
              </a:solidFill>
              <a:latin typeface="Tahom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80880" y="1479600"/>
            <a:ext cx="8305920" cy="4921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Tahoma"/>
              </a:rPr>
              <a:t>HDLS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version of “optimality” result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iguity” approach?    Params depend on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s of Convergence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s of DWD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e.g. other functions of distance than invers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is still early days 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ddf1"/>
            </a:gs>
            <a:gs pos="50000">
              <a:srgbClr val="fefefe"/>
            </a:gs>
            <a:gs pos="100000">
              <a:srgbClr val="c9ddf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73915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f"/>
                </a:solidFill>
                <a:latin typeface="Tahoma"/>
                <a:ea typeface="Gulim"/>
              </a:rPr>
              <a:t>NCI 60 Data</a:t>
            </a:r>
            <a:endParaRPr b="1" lang="en-US" sz="2400" spc="-1" strike="noStrike">
              <a:solidFill>
                <a:srgbClr val="00007f"/>
              </a:solidFill>
              <a:latin typeface="Tahoma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304560" y="1479240"/>
            <a:ext cx="8421480" cy="476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443160" indent="-4431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call from Sept. 6 &amp; 8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43160" indent="-44316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CI 60 Cell Lin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43160" indent="-443160">
              <a:lnSpc>
                <a:spcPct val="110000"/>
              </a:lnSpc>
              <a:spcBef>
                <a:spcPts val="9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nteresting benchmark, since </a:t>
            </a:r>
            <a:r>
              <a:rPr b="0" i="1" lang="en-US" sz="3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ame</a:t>
            </a:r>
            <a:r>
              <a:rPr b="0" lang="en-US" sz="3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cell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443160" indent="-443160">
              <a:lnSpc>
                <a:spcPct val="110000"/>
              </a:lnSpc>
              <a:spcBef>
                <a:spcPts val="9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ata Web available: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443160" indent="-443160"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http://discover.nci.nih.gov/datasetsNature2000.js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43160" indent="-443160">
              <a:lnSpc>
                <a:spcPct val="110000"/>
              </a:lnSpc>
              <a:spcBef>
                <a:spcPts val="9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oth</a:t>
            </a:r>
            <a:r>
              <a:rPr b="0" lang="en-US" sz="3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cDNA and Affymetrix Platform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ddf1"/>
            </a:gs>
            <a:gs pos="50000">
              <a:srgbClr val="fefefe"/>
            </a:gs>
            <a:gs pos="100000">
              <a:srgbClr val="c9ddf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73915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f"/>
                </a:solidFill>
                <a:latin typeface="Tahoma"/>
                <a:ea typeface="Gulim"/>
              </a:rPr>
              <a:t>NCI 60:  Fully Adjusted Data,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Gulim"/>
              </a:rPr>
              <a:t>Melanoma Cluster</a:t>
            </a:r>
            <a:endParaRPr b="1" lang="en-US" sz="2400" spc="-1" strike="noStrike">
              <a:solidFill>
                <a:srgbClr val="00007f"/>
              </a:solidFill>
              <a:latin typeface="Tahoma"/>
            </a:endParaRPr>
          </a:p>
        </p:txBody>
      </p:sp>
      <p:pic>
        <p:nvPicPr>
          <p:cNvPr id="436" name="" descr=""/>
          <p:cNvPicPr/>
          <p:nvPr/>
        </p:nvPicPr>
        <p:blipFill>
          <a:blip r:embed="rId1"/>
          <a:stretch/>
        </p:blipFill>
        <p:spPr>
          <a:xfrm>
            <a:off x="611280" y="1370160"/>
            <a:ext cx="7786440" cy="5500440"/>
          </a:xfrm>
          <a:prstGeom prst="rect">
            <a:avLst/>
          </a:prstGeom>
          <a:ln w="0">
            <a:noFill/>
          </a:ln>
        </p:spPr>
      </p:pic>
      <p:sp>
        <p:nvSpPr>
          <p:cNvPr id="437" name=""/>
          <p:cNvSpPr/>
          <p:nvPr/>
        </p:nvSpPr>
        <p:spPr>
          <a:xfrm>
            <a:off x="666720" y="4067280"/>
            <a:ext cx="2438280" cy="256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BREAST.MDAMB43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BREAST.MDN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MELAN.MALME3M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MELAN.SKMEL2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MELAN.SKMEL5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MELAN.SKMEL28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MELAN.M14 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MELAN.UACC62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MELAN.UACC257</a:t>
            </a:r>
            <a:r>
              <a:rPr b="0" lang="en-US" sz="1800" spc="-1" strike="noStrike">
                <a:solidFill>
                  <a:srgbClr val="5b5249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ddf1"/>
            </a:gs>
            <a:gs pos="50000">
              <a:srgbClr val="fefefe"/>
            </a:gs>
            <a:gs pos="100000">
              <a:srgbClr val="c9ddf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73915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f"/>
                </a:solidFill>
                <a:latin typeface="Tahoma"/>
                <a:ea typeface="Gulim"/>
              </a:rPr>
              <a:t>NCI 60:  Fully Adjusted Data,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Gulim"/>
              </a:rPr>
              <a:t>Leukemia Cluster</a:t>
            </a:r>
            <a:endParaRPr b="1" lang="en-US" sz="2400" spc="-1" strike="noStrike">
              <a:solidFill>
                <a:srgbClr val="00007f"/>
              </a:solidFill>
              <a:latin typeface="Tahoma"/>
            </a:endParaRPr>
          </a:p>
        </p:txBody>
      </p:sp>
      <p:pic>
        <p:nvPicPr>
          <p:cNvPr id="439" name="" descr=""/>
          <p:cNvPicPr/>
          <p:nvPr/>
        </p:nvPicPr>
        <p:blipFill>
          <a:blip r:embed="rId1"/>
          <a:stretch/>
        </p:blipFill>
        <p:spPr>
          <a:xfrm>
            <a:off x="611280" y="1370160"/>
            <a:ext cx="7786440" cy="5500440"/>
          </a:xfrm>
          <a:prstGeom prst="rect">
            <a:avLst/>
          </a:prstGeom>
          <a:ln w="0">
            <a:noFill/>
          </a:ln>
        </p:spPr>
      </p:pic>
      <p:sp>
        <p:nvSpPr>
          <p:cNvPr id="440" name=""/>
          <p:cNvSpPr/>
          <p:nvPr/>
        </p:nvSpPr>
        <p:spPr>
          <a:xfrm>
            <a:off x="661680" y="4067280"/>
            <a:ext cx="1891800" cy="17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LEUK.CCRFCEM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LEUK.K562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LEUK.MOLT4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LEUK.HL60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LEUK.RPMI826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LEUK.SR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78"/>
            </a:gs>
            <a:gs pos="50000">
              <a:srgbClr val="ffffff"/>
            </a:gs>
            <a:gs pos="100000">
              <a:srgbClr val="ffff78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istance Weighted Discrim’n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684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=d Visualizatio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ushes Pla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way Fro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ll Poi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Have So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nflue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5228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3009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31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302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301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301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1295280" y="1523880"/>
                <a:ext cx="1378080" cy="102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,</m:t>
                        </m:r>
                        <m:r>
                          <m:t xml:space="preserve">β</m:t>
                        </m:r>
                      </m:lim>
                    </m:limLow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p:pic>
        <p:nvPicPr>
          <p:cNvPr id="134" name="" descr=""/>
          <p:cNvPicPr/>
          <p:nvPr/>
        </p:nvPicPr>
        <p:blipFill>
          <a:blip r:embed="rId1"/>
          <a:srcRect l="10014" t="23385" r="7153" b="14615"/>
          <a:stretch/>
        </p:blipFill>
        <p:spPr>
          <a:xfrm>
            <a:off x="3041640" y="2008080"/>
            <a:ext cx="5616720" cy="41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ddf1"/>
            </a:gs>
            <a:gs pos="50000">
              <a:srgbClr val="fefefe"/>
            </a:gs>
            <a:gs pos="100000">
              <a:srgbClr val="c9ddf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73915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f"/>
                </a:solidFill>
                <a:latin typeface="Tahoma"/>
                <a:ea typeface="Gulim"/>
              </a:rPr>
              <a:t>NCI 60:  Views using DWD Dir’ns (focus on biology)</a:t>
            </a:r>
            <a:endParaRPr b="1" lang="en-US" sz="2400" spc="-1" strike="noStrike">
              <a:solidFill>
                <a:srgbClr val="00007f"/>
              </a:solidFill>
              <a:latin typeface="Tahoma"/>
            </a:endParaRPr>
          </a:p>
        </p:txBody>
      </p:sp>
      <p:pic>
        <p:nvPicPr>
          <p:cNvPr id="442" name="" descr=""/>
          <p:cNvPicPr/>
          <p:nvPr/>
        </p:nvPicPr>
        <p:blipFill>
          <a:blip r:embed="rId1"/>
          <a:stretch/>
        </p:blipFill>
        <p:spPr>
          <a:xfrm>
            <a:off x="611280" y="1370160"/>
            <a:ext cx="7786440" cy="55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ddf1"/>
            </a:gs>
            <a:gs pos="50000">
              <a:srgbClr val="fefefe"/>
            </a:gs>
            <a:gs pos="100000">
              <a:srgbClr val="c9ddf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73915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f"/>
                </a:solidFill>
                <a:latin typeface="Tahoma"/>
                <a:ea typeface="Gulim"/>
              </a:rPr>
              <a:t>Real Clusters in NCI 60 Data?</a:t>
            </a:r>
            <a:endParaRPr b="1" lang="en-US" sz="2400" spc="-1" strike="noStrike">
              <a:solidFill>
                <a:srgbClr val="00007f"/>
              </a:solidFill>
              <a:latin typeface="Tahoma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631440" y="1479240"/>
            <a:ext cx="8094600" cy="476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443160" indent="-4431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rom Sept. 8:   Simple Visual Approach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43160" indent="-44316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andomly relabel data (Cancer Type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43160" indent="-44316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compute DWD dir’ns &amp; visu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43160" indent="-44316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et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heuristic impressio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from th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43160" indent="-44316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types appeared signif’ly differ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43160" indent="-44316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thers did no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43160" indent="-4431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eper Approach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43160" indent="-4431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mal Hypothesis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ddf1"/>
            </a:gs>
            <a:gs pos="50000">
              <a:srgbClr val="fefefe"/>
            </a:gs>
            <a:gs pos="100000">
              <a:srgbClr val="c9ddf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73915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ahoma"/>
                <a:ea typeface="Gulim"/>
              </a:rPr>
              <a:t>HDLSS</a:t>
            </a:r>
            <a:r>
              <a:rPr b="0" lang="en-US" sz="2400" spc="-1" strike="noStrike">
                <a:solidFill>
                  <a:srgbClr val="00007f"/>
                </a:solidFill>
                <a:latin typeface="Tahoma"/>
                <a:ea typeface="Gulim"/>
              </a:rPr>
              <a:t> Hypothesis Testing</a:t>
            </a:r>
            <a:endParaRPr b="1" lang="en-US" sz="2400" spc="-1" strike="noStrike">
              <a:solidFill>
                <a:srgbClr val="00007f"/>
              </a:solidFill>
              <a:latin typeface="Tahoma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631440" y="1479240"/>
            <a:ext cx="8094600" cy="476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proach:    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DiProPerm Te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Direction – Projection – Permu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dea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nd an appropriat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Directio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vect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Projec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ata into that 1-d subspa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struct a 1-d test statist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alyze significance b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Permu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ddf1"/>
            </a:gs>
            <a:gs pos="50000">
              <a:srgbClr val="fefefe"/>
            </a:gs>
            <a:gs pos="100000">
              <a:srgbClr val="c9ddf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73915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ahoma"/>
                <a:ea typeface="Gulim"/>
              </a:rPr>
              <a:t>HDLSS</a:t>
            </a:r>
            <a:r>
              <a:rPr b="0" lang="en-US" sz="2400" spc="-1" strike="noStrike">
                <a:solidFill>
                  <a:srgbClr val="00007f"/>
                </a:solidFill>
                <a:latin typeface="Tahoma"/>
                <a:ea typeface="Gulim"/>
              </a:rPr>
              <a:t> Hypothesis Testing – DiProPerm test</a:t>
            </a:r>
            <a:endParaRPr b="1" lang="en-US" sz="2400" spc="-1" strike="noStrike">
              <a:solidFill>
                <a:srgbClr val="00007f"/>
              </a:solidFill>
              <a:latin typeface="Tahoma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631440" y="1479240"/>
            <a:ext cx="8094600" cy="476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 algn="ct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DiProPerm Te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ext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2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iven 2 sub-populations,     </a:t>
            </a:r>
            <a:r>
              <a:rPr b="1" lang="en-US" sz="3200" spc="-1" strike="noStrike">
                <a:solidFill>
                  <a:srgbClr val="000000"/>
                </a:solidFill>
                <a:latin typeface="Script MT Bold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&amp;   </a:t>
            </a:r>
            <a:r>
              <a:rPr b="0" lang="en-US" sz="3200" spc="-1" strike="noStrike">
                <a:solidFill>
                  <a:srgbClr val="000000"/>
                </a:solidFill>
                <a:latin typeface="Script MT Bold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2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e they from th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same distributio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2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significantl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ifferent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 algn="ct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   </a:t>
            </a:r>
            <a:r>
              <a:rPr b="0" lang="en-US" sz="3200" spc="-1" strike="noStrike">
                <a:solidFill>
                  <a:srgbClr val="000000"/>
                </a:solidFill>
                <a:latin typeface="Script MT Bold"/>
              </a:rPr>
              <a:t>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Script MT Bold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=  </a:t>
            </a:r>
            <a:r>
              <a:rPr b="0" lang="en-US" sz="3200" spc="-1" strike="noStrike">
                <a:solidFill>
                  <a:srgbClr val="000000"/>
                </a:solidFill>
                <a:latin typeface="Script MT Bold"/>
              </a:rPr>
              <a:t>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Script MT Bold"/>
              </a:rPr>
              <a:t>Y       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s.      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   </a:t>
            </a:r>
            <a:r>
              <a:rPr b="0" lang="en-US" sz="3200" spc="-1" strike="noStrike">
                <a:solidFill>
                  <a:srgbClr val="000000"/>
                </a:solidFill>
                <a:latin typeface="Script MT Bold"/>
              </a:rPr>
              <a:t>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Script MT Bold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≠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Script MT Bold"/>
              </a:rPr>
              <a:t>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Script MT Bold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ddf1"/>
            </a:gs>
            <a:gs pos="50000">
              <a:srgbClr val="fefefe"/>
            </a:gs>
            <a:gs pos="100000">
              <a:srgbClr val="c9ddf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73915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ahoma"/>
                <a:ea typeface="Gulim"/>
              </a:rPr>
              <a:t>HDLSS</a:t>
            </a:r>
            <a:r>
              <a:rPr b="0" lang="en-US" sz="2400" spc="-1" strike="noStrike">
                <a:solidFill>
                  <a:srgbClr val="00007f"/>
                </a:solidFill>
                <a:latin typeface="Tahoma"/>
                <a:ea typeface="Gulim"/>
              </a:rPr>
              <a:t> Hypothesis Testing – DiProPerm test</a:t>
            </a:r>
            <a:endParaRPr b="1" lang="en-US" sz="2400" spc="-1" strike="noStrike">
              <a:solidFill>
                <a:srgbClr val="00007f"/>
              </a:solidFill>
              <a:latin typeface="Tahoma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631440" y="1479240"/>
            <a:ext cx="8094600" cy="476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asonabl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Directio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vector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3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an Differe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3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V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3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ximal Data Pil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3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WD (used in the following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3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 good discrimination direction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ddf1"/>
            </a:gs>
            <a:gs pos="50000">
              <a:srgbClr val="fefefe"/>
            </a:gs>
            <a:gs pos="100000">
              <a:srgbClr val="c9ddf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73915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ahoma"/>
                <a:ea typeface="Gulim"/>
              </a:rPr>
              <a:t>HDLSS</a:t>
            </a:r>
            <a:r>
              <a:rPr b="0" lang="en-US" sz="2400" spc="-1" strike="noStrike">
                <a:solidFill>
                  <a:srgbClr val="00007f"/>
                </a:solidFill>
                <a:latin typeface="Tahoma"/>
                <a:ea typeface="Gulim"/>
              </a:rPr>
              <a:t> Hypothesis Testing – DiProPerm test</a:t>
            </a:r>
            <a:endParaRPr b="1" lang="en-US" sz="2400" spc="-1" strike="noStrike">
              <a:solidFill>
                <a:srgbClr val="00007f"/>
              </a:solidFill>
              <a:latin typeface="Tahoma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631440" y="1479240"/>
            <a:ext cx="8094600" cy="476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asonabl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Projected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1-d statistic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3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wo sample t-test (used her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3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-square test for different varian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3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olmogorov - Smirno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3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 good distributional te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ddf1"/>
            </a:gs>
            <a:gs pos="50000">
              <a:srgbClr val="fefefe"/>
            </a:gs>
            <a:gs pos="100000">
              <a:srgbClr val="c9ddf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73915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ahoma"/>
                <a:ea typeface="Gulim"/>
              </a:rPr>
              <a:t>HDLSS</a:t>
            </a:r>
            <a:r>
              <a:rPr b="0" lang="en-US" sz="2400" spc="-1" strike="noStrike">
                <a:solidFill>
                  <a:srgbClr val="00007f"/>
                </a:solidFill>
                <a:latin typeface="Tahoma"/>
                <a:ea typeface="Gulim"/>
              </a:rPr>
              <a:t> Hypothesis Testing – DiProPerm test</a:t>
            </a:r>
            <a:endParaRPr b="1" lang="en-US" sz="2400" spc="-1" strike="noStrike">
              <a:solidFill>
                <a:srgbClr val="00007f"/>
              </a:solidFill>
              <a:latin typeface="Tahoma"/>
            </a:endParaRPr>
          </a:p>
        </p:txBody>
      </p:sp>
      <p:sp>
        <p:nvSpPr>
          <p:cNvPr id="454" name=""/>
          <p:cNvSpPr txBox="1"/>
          <p:nvPr/>
        </p:nvSpPr>
        <p:spPr>
          <a:xfrm>
            <a:off x="380520" y="1479240"/>
            <a:ext cx="8458200" cy="5073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DiProPerm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est Step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 original data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1093680" indent="-527760">
              <a:lnSpc>
                <a:spcPct val="9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d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Direc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vec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1093680" indent="-527760">
              <a:lnSpc>
                <a:spcPct val="9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Projec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ata, Comput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True Test Stati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 (many) random relabellings of data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1093680" indent="-527760">
              <a:lnSpc>
                <a:spcPct val="9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d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Direc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vec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1093680" indent="-527760">
              <a:lnSpc>
                <a:spcPct val="9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Projec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ata, Compute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</a:rPr>
              <a:t>Perm’d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 Test St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ar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1093680" indent="-527760">
              <a:lnSpc>
                <a:spcPct val="9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True Sta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mong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popula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f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Perm’d Stat’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1093680" indent="-527760">
              <a:lnSpc>
                <a:spcPct val="9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le gives p-valu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ddf1"/>
            </a:gs>
            <a:gs pos="50000">
              <a:srgbClr val="fefefe"/>
            </a:gs>
            <a:gs pos="100000">
              <a:srgbClr val="c9ddf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73915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ahoma"/>
                <a:ea typeface="Gulim"/>
              </a:rPr>
              <a:t>HDLSS</a:t>
            </a:r>
            <a:r>
              <a:rPr b="0" lang="en-US" sz="2400" spc="-1" strike="noStrike">
                <a:solidFill>
                  <a:srgbClr val="00007f"/>
                </a:solidFill>
                <a:latin typeface="Tahoma"/>
                <a:ea typeface="Gulim"/>
              </a:rPr>
              <a:t> Hypothesis Testing – DiProPerm test</a:t>
            </a:r>
            <a:endParaRPr b="1" lang="en-US" sz="2400" spc="-1" strike="noStrike">
              <a:solidFill>
                <a:srgbClr val="00007f"/>
              </a:solidFill>
              <a:latin typeface="Tahoma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380520" y="1479240"/>
            <a:ext cx="8458200" cy="5073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591120" indent="-59112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mark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91120" indent="-59112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enerally can’t use standard null dist’ns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91120" indent="-59112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.g. Students t-table, for t-statist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91120" indent="-59112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caus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Directio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Projectio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giv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nonstandard cont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91120" indent="-59112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.e. violate traditional assump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91120" indent="-59112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.g. DWD finds separating dire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91120" indent="-59112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iving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completely invalid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e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91120" indent="-59112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s motivate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Permutatio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pproa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ddf1"/>
            </a:gs>
            <a:gs pos="50000">
              <a:srgbClr val="fefefe"/>
            </a:gs>
            <a:gs pos="100000">
              <a:srgbClr val="c9ddf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73915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f"/>
                </a:solidFill>
                <a:latin typeface="Tahoma"/>
                <a:ea typeface="Gulim"/>
              </a:rPr>
              <a:t>Improved Statistical Power  -  NCI 60 Melanoma </a:t>
            </a:r>
            <a:endParaRPr b="1" lang="en-US" sz="2400" spc="-1" strike="noStrike">
              <a:solidFill>
                <a:srgbClr val="00007f"/>
              </a:solidFill>
              <a:latin typeface="Tahoma"/>
            </a:endParaRPr>
          </a:p>
        </p:txBody>
      </p: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611280" y="1370160"/>
            <a:ext cx="7786440" cy="55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ddf1"/>
            </a:gs>
            <a:gs pos="50000">
              <a:srgbClr val="fefefe"/>
            </a:gs>
            <a:gs pos="100000">
              <a:srgbClr val="c9ddf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73915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f"/>
                </a:solidFill>
                <a:latin typeface="Tahoma"/>
                <a:ea typeface="Gulim"/>
              </a:rPr>
              <a:t>Improved Statistical Power  -  NCI 60 Leukemia </a:t>
            </a:r>
            <a:endParaRPr b="1" lang="en-US" sz="2400" spc="-1" strike="noStrike">
              <a:solidFill>
                <a:srgbClr val="00007f"/>
              </a:solidFill>
              <a:latin typeface="Tahoma"/>
            </a:endParaRPr>
          </a:p>
        </p:txBody>
      </p:sp>
      <p:pic>
        <p:nvPicPr>
          <p:cNvPr id="460" name="" descr=""/>
          <p:cNvPicPr/>
          <p:nvPr/>
        </p:nvPicPr>
        <p:blipFill>
          <a:blip r:embed="rId1"/>
          <a:stretch/>
        </p:blipFill>
        <p:spPr>
          <a:xfrm>
            <a:off x="611280" y="1370160"/>
            <a:ext cx="7786440" cy="55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78"/>
            </a:gs>
            <a:gs pos="50000">
              <a:srgbClr val="ffffff"/>
            </a:gs>
            <a:gs pos="100000">
              <a:srgbClr val="ffff78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istance Weighted Discrim’n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5228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3009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31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302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01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301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 rot="5400000">
            <a:off x="1514520" y="488520"/>
            <a:ext cx="5657760" cy="685800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6553080" y="990720"/>
            <a:ext cx="18288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aximal Data Pil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019920" y="1143000"/>
            <a:ext cx="609480" cy="1522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ddf1"/>
            </a:gs>
            <a:gs pos="50000">
              <a:srgbClr val="fefefe"/>
            </a:gs>
            <a:gs pos="100000">
              <a:srgbClr val="c9ddf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73915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f"/>
                </a:solidFill>
                <a:latin typeface="Tahoma"/>
                <a:ea typeface="Gulim"/>
              </a:rPr>
              <a:t>Improved Statistical Power  -  NCI 60 NSCLC</a:t>
            </a:r>
            <a:endParaRPr b="1" lang="en-US" sz="2400" spc="-1" strike="noStrike">
              <a:solidFill>
                <a:srgbClr val="00007f"/>
              </a:solidFill>
              <a:latin typeface="Tahoma"/>
            </a:endParaRPr>
          </a:p>
        </p:txBody>
      </p:sp>
      <p:pic>
        <p:nvPicPr>
          <p:cNvPr id="462" name="" descr=""/>
          <p:cNvPicPr/>
          <p:nvPr/>
        </p:nvPicPr>
        <p:blipFill>
          <a:blip r:embed="rId1"/>
          <a:stretch/>
        </p:blipFill>
        <p:spPr>
          <a:xfrm>
            <a:off x="611280" y="1370160"/>
            <a:ext cx="7786440" cy="55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ddf1"/>
            </a:gs>
            <a:gs pos="50000">
              <a:srgbClr val="fefefe"/>
            </a:gs>
            <a:gs pos="100000">
              <a:srgbClr val="c9ddf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73915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f"/>
                </a:solidFill>
                <a:latin typeface="Tahoma"/>
                <a:ea typeface="Gulim"/>
              </a:rPr>
              <a:t>Improved Statistical Power  -  NCI 60 Renal</a:t>
            </a:r>
            <a:endParaRPr b="1" lang="en-US" sz="2400" spc="-1" strike="noStrike">
              <a:solidFill>
                <a:srgbClr val="00007f"/>
              </a:solidFill>
              <a:latin typeface="Tahoma"/>
            </a:endParaRPr>
          </a:p>
        </p:txBody>
      </p:sp>
      <p:pic>
        <p:nvPicPr>
          <p:cNvPr id="464" name="" descr=""/>
          <p:cNvPicPr/>
          <p:nvPr/>
        </p:nvPicPr>
        <p:blipFill>
          <a:blip r:embed="rId1"/>
          <a:stretch/>
        </p:blipFill>
        <p:spPr>
          <a:xfrm>
            <a:off x="611280" y="1370160"/>
            <a:ext cx="7786440" cy="55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ddf1"/>
            </a:gs>
            <a:gs pos="50000">
              <a:srgbClr val="fefefe"/>
            </a:gs>
            <a:gs pos="100000">
              <a:srgbClr val="c9ddf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73915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f"/>
                </a:solidFill>
                <a:latin typeface="Tahoma"/>
                <a:ea typeface="Gulim"/>
              </a:rPr>
              <a:t>Improved Statistical Power  -  NCI 60 CNS</a:t>
            </a:r>
            <a:endParaRPr b="1" lang="en-US" sz="2400" spc="-1" strike="noStrike">
              <a:solidFill>
                <a:srgbClr val="00007f"/>
              </a:solidFill>
              <a:latin typeface="Tahoma"/>
            </a:endParaRPr>
          </a:p>
        </p:txBody>
      </p:sp>
      <p:pic>
        <p:nvPicPr>
          <p:cNvPr id="466" name="" descr=""/>
          <p:cNvPicPr/>
          <p:nvPr/>
        </p:nvPicPr>
        <p:blipFill>
          <a:blip r:embed="rId1"/>
          <a:stretch/>
        </p:blipFill>
        <p:spPr>
          <a:xfrm>
            <a:off x="611280" y="1370160"/>
            <a:ext cx="7786440" cy="55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ddf1"/>
            </a:gs>
            <a:gs pos="50000">
              <a:srgbClr val="fefefe"/>
            </a:gs>
            <a:gs pos="100000">
              <a:srgbClr val="c9ddf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73915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f"/>
                </a:solidFill>
                <a:latin typeface="Tahoma"/>
                <a:ea typeface="Gulim"/>
              </a:rPr>
              <a:t>Improved Statistical Power  -  NCI 60 Ovarian</a:t>
            </a:r>
            <a:endParaRPr b="1" lang="en-US" sz="2400" spc="-1" strike="noStrike">
              <a:solidFill>
                <a:srgbClr val="00007f"/>
              </a:solidFill>
              <a:latin typeface="Tahoma"/>
            </a:endParaRPr>
          </a:p>
        </p:txBody>
      </p:sp>
      <p:pic>
        <p:nvPicPr>
          <p:cNvPr id="468" name="" descr=""/>
          <p:cNvPicPr/>
          <p:nvPr/>
        </p:nvPicPr>
        <p:blipFill>
          <a:blip r:embed="rId1"/>
          <a:stretch/>
        </p:blipFill>
        <p:spPr>
          <a:xfrm>
            <a:off x="611280" y="1370160"/>
            <a:ext cx="7786440" cy="55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ddf1"/>
            </a:gs>
            <a:gs pos="50000">
              <a:srgbClr val="fefefe"/>
            </a:gs>
            <a:gs pos="100000">
              <a:srgbClr val="c9ddf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73915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f"/>
                </a:solidFill>
                <a:latin typeface="Tahoma"/>
                <a:ea typeface="Gulim"/>
              </a:rPr>
              <a:t>Improved Statistical Power  -  NCI 60 Colon</a:t>
            </a:r>
            <a:endParaRPr b="1" lang="en-US" sz="2400" spc="-1" strike="noStrike">
              <a:solidFill>
                <a:srgbClr val="00007f"/>
              </a:solidFill>
              <a:latin typeface="Tahoma"/>
            </a:endParaRPr>
          </a:p>
        </p:txBody>
      </p:sp>
      <p:pic>
        <p:nvPicPr>
          <p:cNvPr id="470" name="" descr=""/>
          <p:cNvPicPr/>
          <p:nvPr/>
        </p:nvPicPr>
        <p:blipFill>
          <a:blip r:embed="rId1"/>
          <a:stretch/>
        </p:blipFill>
        <p:spPr>
          <a:xfrm>
            <a:off x="611280" y="1370160"/>
            <a:ext cx="7786440" cy="55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ddf1"/>
            </a:gs>
            <a:gs pos="50000">
              <a:srgbClr val="fefefe"/>
            </a:gs>
            <a:gs pos="100000">
              <a:srgbClr val="c9ddf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73915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f"/>
                </a:solidFill>
                <a:latin typeface="Tahoma"/>
                <a:ea typeface="Gulim"/>
              </a:rPr>
              <a:t>Improved Statistical Power  -  NCI 60 Breast</a:t>
            </a:r>
            <a:endParaRPr b="1" lang="en-US" sz="2400" spc="-1" strike="noStrike">
              <a:solidFill>
                <a:srgbClr val="00007f"/>
              </a:solidFill>
              <a:latin typeface="Tahoma"/>
            </a:endParaRPr>
          </a:p>
        </p:txBody>
      </p:sp>
      <p:pic>
        <p:nvPicPr>
          <p:cNvPr id="472" name="" descr=""/>
          <p:cNvPicPr/>
          <p:nvPr/>
        </p:nvPicPr>
        <p:blipFill>
          <a:blip r:embed="rId1"/>
          <a:stretch/>
        </p:blipFill>
        <p:spPr>
          <a:xfrm>
            <a:off x="611280" y="1370160"/>
            <a:ext cx="7786440" cy="55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ddf1"/>
            </a:gs>
            <a:gs pos="50000">
              <a:srgbClr val="fefefe"/>
            </a:gs>
            <a:gs pos="100000">
              <a:srgbClr val="c9ddf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73915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f"/>
                </a:solidFill>
                <a:latin typeface="Tahoma"/>
                <a:ea typeface="Gulim"/>
              </a:rPr>
              <a:t>Improved Statistical Power  -  Summary</a:t>
            </a:r>
            <a:endParaRPr b="1" lang="en-US" sz="2400" spc="-1" strike="noStrike">
              <a:solidFill>
                <a:srgbClr val="00007f"/>
              </a:solidFill>
              <a:latin typeface="Tahoma"/>
            </a:endParaRPr>
          </a:p>
        </p:txBody>
      </p:sp>
      <p:graphicFrame>
        <p:nvGraphicFramePr>
          <p:cNvPr id="474" name=""/>
          <p:cNvGraphicFramePr/>
          <p:nvPr/>
        </p:nvGraphicFramePr>
        <p:xfrm>
          <a:off x="631800" y="1479600"/>
          <a:ext cx="7910640" cy="5364000"/>
        </p:xfrm>
        <a:graphic>
          <a:graphicData uri="http://schemas.openxmlformats.org/drawingml/2006/table">
            <a:tbl>
              <a:tblPr/>
              <a:tblGrid>
                <a:gridCol w="1806480"/>
                <a:gridCol w="1219320"/>
                <a:gridCol w="958680"/>
                <a:gridCol w="1098720"/>
                <a:gridCol w="1339920"/>
                <a:gridCol w="1487520"/>
              </a:tblGrid>
              <a:tr h="945720"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yp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ff00"/>
                          </a:solidFill>
                          <a:latin typeface="Tahoma"/>
                        </a:rPr>
                        <a:t>cDNA -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ff"/>
                          </a:solidFill>
                          <a:latin typeface="Tahoma"/>
                        </a:rPr>
                        <a:t>Affy -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Comb -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ff"/>
                          </a:solidFill>
                          <a:latin typeface="Tahoma"/>
                        </a:rPr>
                        <a:t>Affy-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Comb-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945720"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elanom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ff00"/>
                          </a:solidFill>
                          <a:latin typeface="Tahoma"/>
                        </a:rPr>
                        <a:t>36.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ff"/>
                          </a:solidFill>
                          <a:latin typeface="Tahoma"/>
                        </a:rPr>
                        <a:t>39.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ff0000"/>
                          </a:solidFill>
                          <a:uFillTx/>
                          <a:latin typeface="Tahoma"/>
                        </a:rPr>
                        <a:t>51.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ff"/>
                          </a:solidFill>
                          <a:latin typeface="Tahoma"/>
                        </a:rPr>
                        <a:t>e-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0000"/>
                          </a:solidFill>
                          <a:uFillTx/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945720"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eukemi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ff00"/>
                          </a:solidFill>
                          <a:latin typeface="Tahoma"/>
                        </a:rPr>
                        <a:t>18.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ff"/>
                          </a:solidFill>
                          <a:latin typeface="Tahoma"/>
                        </a:rPr>
                        <a:t>23.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ff0000"/>
                          </a:solidFill>
                          <a:uFillTx/>
                          <a:latin typeface="Tahoma"/>
                        </a:rPr>
                        <a:t>27.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ff"/>
                          </a:solidFill>
                          <a:latin typeface="Tahoma"/>
                        </a:rPr>
                        <a:t>0.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0000"/>
                          </a:solidFill>
                          <a:uFillTx/>
                          <a:latin typeface="Tahoma"/>
                        </a:rPr>
                        <a:t>0.0000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SCL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ff00"/>
                          </a:solidFill>
                          <a:latin typeface="Tahoma"/>
                        </a:rPr>
                        <a:t>17.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ff00ff"/>
                          </a:solidFill>
                          <a:uFillTx/>
                          <a:latin typeface="Tahoma"/>
                        </a:rPr>
                        <a:t>25.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23.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ff"/>
                          </a:solidFill>
                          <a:latin typeface="Tahoma"/>
                        </a:rPr>
                        <a:t>0.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0000"/>
                          </a:solidFill>
                          <a:uFillTx/>
                          <a:latin typeface="Tahoma"/>
                        </a:rPr>
                        <a:t>0.0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na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ff00"/>
                          </a:solidFill>
                          <a:latin typeface="Tahoma"/>
                        </a:rPr>
                        <a:t>15.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ff"/>
                          </a:solidFill>
                          <a:latin typeface="Tahoma"/>
                        </a:rPr>
                        <a:t>20.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ff0000"/>
                          </a:solidFill>
                          <a:uFillTx/>
                          <a:latin typeface="Tahoma"/>
                        </a:rPr>
                        <a:t>22.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ff"/>
                          </a:solidFill>
                          <a:latin typeface="Tahoma"/>
                        </a:rPr>
                        <a:t>0.5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0000"/>
                          </a:solidFill>
                          <a:uFillTx/>
                          <a:latin typeface="Tahoma"/>
                        </a:rPr>
                        <a:t>0.0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N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ff00"/>
                          </a:solidFill>
                          <a:latin typeface="Tahoma"/>
                        </a:rPr>
                        <a:t>13.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ff"/>
                          </a:solidFill>
                          <a:latin typeface="Tahoma"/>
                        </a:rPr>
                        <a:t>18.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18.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ff"/>
                          </a:solidFill>
                          <a:latin typeface="Tahoma"/>
                        </a:rPr>
                        <a:t>0.6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0000"/>
                          </a:solidFill>
                          <a:uFillTx/>
                          <a:latin typeface="Tahoma"/>
                        </a:rPr>
                        <a:t>0.2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varia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ff00"/>
                          </a:solidFill>
                          <a:latin typeface="Tahoma"/>
                        </a:rPr>
                        <a:t>11.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ff00ff"/>
                          </a:solidFill>
                          <a:uFillTx/>
                          <a:latin typeface="Tahoma"/>
                        </a:rPr>
                        <a:t>20.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17.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00ff"/>
                          </a:solidFill>
                          <a:uFillTx/>
                          <a:latin typeface="Tahoma"/>
                        </a:rPr>
                        <a:t>0.2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0.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l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ff00"/>
                          </a:solidFill>
                          <a:latin typeface="Tahoma"/>
                        </a:rPr>
                        <a:t>10.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ff00ff"/>
                          </a:solidFill>
                          <a:uFillTx/>
                          <a:latin typeface="Tahoma"/>
                        </a:rPr>
                        <a:t>17.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16.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ff"/>
                          </a:solidFill>
                          <a:latin typeface="Tahoma"/>
                        </a:rPr>
                        <a:t>0.7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0000"/>
                          </a:solidFill>
                          <a:uFillTx/>
                          <a:latin typeface="Tahoma"/>
                        </a:rPr>
                        <a:t>0.5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reas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ff00"/>
                          </a:solidFill>
                          <a:latin typeface="Tahoma"/>
                        </a:rPr>
                        <a:t>13.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ff"/>
                          </a:solidFill>
                          <a:latin typeface="Tahoma"/>
                        </a:rPr>
                        <a:t>19.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19.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ff"/>
                          </a:solidFill>
                          <a:latin typeface="Tahoma"/>
                        </a:rPr>
                        <a:t>0.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0000"/>
                          </a:solidFill>
                          <a:uFillTx/>
                          <a:latin typeface="Tahoma"/>
                        </a:rPr>
                        <a:t>0.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ddf1"/>
            </a:gs>
            <a:gs pos="50000">
              <a:srgbClr val="fefefe"/>
            </a:gs>
            <a:gs pos="100000">
              <a:srgbClr val="c9ddf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73915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ahoma"/>
                <a:ea typeface="Gulim"/>
              </a:rPr>
              <a:t>HDLSS</a:t>
            </a:r>
            <a:r>
              <a:rPr b="0" lang="en-US" sz="2400" spc="-1" strike="noStrike">
                <a:solidFill>
                  <a:srgbClr val="00007f"/>
                </a:solidFill>
                <a:latin typeface="Tahoma"/>
                <a:ea typeface="Gulim"/>
              </a:rPr>
              <a:t> Hypothesis Testing – DiProPerm test</a:t>
            </a:r>
            <a:endParaRPr b="1" lang="en-US" sz="2400" spc="-1" strike="noStrike">
              <a:solidFill>
                <a:srgbClr val="00007f"/>
              </a:solidFill>
              <a:latin typeface="Tahoma"/>
            </a:endParaRPr>
          </a:p>
        </p:txBody>
      </p:sp>
      <p:sp>
        <p:nvSpPr>
          <p:cNvPr id="476" name=""/>
          <p:cNvSpPr txBox="1"/>
          <p:nvPr/>
        </p:nvSpPr>
        <p:spPr>
          <a:xfrm>
            <a:off x="631440" y="1479240"/>
            <a:ext cx="8094600" cy="476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443160" indent="-44316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ny Open Questions on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DiProPerm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est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43160" indent="-443160">
              <a:lnSpc>
                <a:spcPct val="13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ich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Directio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is “Best”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43160" indent="-443160">
              <a:lnSpc>
                <a:spcPct val="13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ich 1-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Projected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est statistic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43160" indent="-443160">
              <a:lnSpc>
                <a:spcPct val="13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Permutatio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vs. altern’es (bootstrap?)??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43160" indent="-443160">
              <a:lnSpc>
                <a:spcPct val="13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do these interact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43160" indent="-443160">
              <a:lnSpc>
                <a:spcPct val="13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are asymptotic propertie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ff"/>
            </a:gs>
            <a:gs pos="100000">
              <a:srgbClr val="00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</a:rPr>
              <a:t>Independent Component Analysi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dea:  Find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ir’ns that maximize indepen’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otivating Context:  Signal Process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lind Source Separ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eferenc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ardoso (1989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ardoso &amp; Souloumiac (1993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ee (1998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Hyvärinen and Oja (1999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Hyvärinen, Karhunen and Oja (2001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ff"/>
            </a:gs>
            <a:gs pos="100000">
              <a:srgbClr val="00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</a:rPr>
              <a:t>Independent Component Analysi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CA, motivating exampl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cktail party proble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Hear several simultaneous convers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ould like to “separate them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odel for “conversations”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ime seri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nd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0" y="324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2" name=""/>
              <p:cNvSpPr txBox="1"/>
              <p:nvPr/>
            </p:nvSpPr>
            <p:spPr>
              <a:xfrm>
                <a:off x="3124080" y="5410080"/>
                <a:ext cx="685800" cy="45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83" name=""/>
          <p:cNvSpPr/>
          <p:nvPr/>
        </p:nvSpPr>
        <p:spPr>
          <a:xfrm>
            <a:off x="0" y="324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4" name=""/>
              <p:cNvSpPr txBox="1"/>
              <p:nvPr/>
            </p:nvSpPr>
            <p:spPr>
              <a:xfrm>
                <a:off x="5105520" y="5334120"/>
                <a:ext cx="774720" cy="48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e6eff"/>
            </a:gs>
            <a:gs pos="50000">
              <a:srgbClr val="ffffff"/>
            </a:gs>
            <a:gs pos="100000">
              <a:srgbClr val="6e6e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Arial Unicode MS"/>
                <a:ea typeface="Arial Unicode MS"/>
              </a:rPr>
              <a:t>HDLSS</a:t>
            </a: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Discrim’n Simula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5684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ain idea: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mparison of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VM  (Support Vector Machin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WD  (Distance Weighted Discrimination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D (Mean Difference, a.k.a. Centroid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inear versions,  across dimens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ff"/>
            </a:gs>
            <a:gs pos="100000">
              <a:srgbClr val="00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</a:rPr>
              <a:t>Independent Component Analysi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cktail Party Proble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0" y="324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0" y="324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89" name="" descr=""/>
          <p:cNvPicPr/>
          <p:nvPr/>
        </p:nvPicPr>
        <p:blipFill>
          <a:blip r:embed="rId1"/>
          <a:stretch/>
        </p:blipFill>
        <p:spPr>
          <a:xfrm>
            <a:off x="914400" y="1447920"/>
            <a:ext cx="7238880" cy="51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ff"/>
            </a:gs>
            <a:gs pos="100000">
              <a:srgbClr val="00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</a:rPr>
              <a:t>Independent Component Analysi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CA, motivating exampl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cktail party proble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hat the ears hear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ar 1:   Mixed version of signal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ar 2:  A second mixtur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0" y="324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0" y="324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0" y="324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5" name=""/>
              <p:cNvSpPr txBox="1"/>
              <p:nvPr/>
            </p:nvSpPr>
            <p:spPr>
              <a:xfrm>
                <a:off x="3048120" y="3962520"/>
                <a:ext cx="396216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96" name=""/>
          <p:cNvSpPr/>
          <p:nvPr/>
        </p:nvSpPr>
        <p:spPr>
          <a:xfrm>
            <a:off x="0" y="324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7" name=""/>
              <p:cNvSpPr txBox="1"/>
              <p:nvPr/>
            </p:nvSpPr>
            <p:spPr>
              <a:xfrm>
                <a:off x="3048120" y="5657760"/>
                <a:ext cx="4038480" cy="49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sub>
                    </m:sSub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sub>
                    </m:sSub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ff"/>
            </a:gs>
            <a:gs pos="100000">
              <a:srgbClr val="00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</a:rPr>
              <a:t>Independent Component Analysi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hat the ears hear:   Mixed vers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0" y="324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0" y="324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2" name="" descr=""/>
          <p:cNvPicPr/>
          <p:nvPr/>
        </p:nvPicPr>
        <p:blipFill>
          <a:blip r:embed="rId1"/>
          <a:stretch/>
        </p:blipFill>
        <p:spPr>
          <a:xfrm>
            <a:off x="914400" y="1447920"/>
            <a:ext cx="7238880" cy="51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ff"/>
            </a:gs>
            <a:gs pos="100000">
              <a:srgbClr val="00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</a:rPr>
              <a:t>Independent Component Analysi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380880" y="76212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oal: Recover “signal”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rom “data”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or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known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“mixture matrix”                 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here            ,  for all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oal is to find “separating weights”,      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o that             , for all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roblem:              would be fine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ut        is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known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0" y="324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0" y="324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0" y="324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0" y="324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0" y="299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0" name=""/>
              <p:cNvSpPr txBox="1"/>
              <p:nvPr/>
            </p:nvSpPr>
            <p:spPr>
              <a:xfrm>
                <a:off x="4876920" y="758880"/>
                <a:ext cx="1676160" cy="87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s</m:t>
                        </m:r>
                      </m:e>
                    </m:acc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s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(</m:t>
                              </m:r>
                              <m:r>
                                <m:t xml:space="preserve">t</m:t>
                              </m:r>
                              <m:r>
                                <m:t xml:space="preserve">)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s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(</m:t>
                              </m:r>
                              <m:r>
                                <m:t xml:space="preserve">t</m:t>
                              </m:r>
                              <m:r>
                                <m:t xml:space="preserve">)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11" name=""/>
          <p:cNvSpPr/>
          <p:nvPr/>
        </p:nvSpPr>
        <p:spPr>
          <a:xfrm>
            <a:off x="0" y="299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2" name=""/>
              <p:cNvSpPr txBox="1"/>
              <p:nvPr/>
            </p:nvSpPr>
            <p:spPr>
              <a:xfrm>
                <a:off x="3048120" y="1523880"/>
                <a:ext cx="1698480" cy="86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(</m:t>
                              </m:r>
                              <m:r>
                                <m:t xml:space="preserve">t</m:t>
                              </m:r>
                              <m:r>
                                <m:t xml:space="preserve">)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(</m:t>
                              </m:r>
                              <m:r>
                                <m:t xml:space="preserve">t</m:t>
                              </m:r>
                              <m:r>
                                <m:t xml:space="preserve">)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13" name=""/>
          <p:cNvSpPr/>
          <p:nvPr/>
        </p:nvSpPr>
        <p:spPr>
          <a:xfrm>
            <a:off x="0" y="299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4" name=""/>
              <p:cNvSpPr txBox="1"/>
              <p:nvPr/>
            </p:nvSpPr>
            <p:spPr>
              <a:xfrm>
                <a:off x="5867280" y="2198520"/>
                <a:ext cx="2057400" cy="94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15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6" name=""/>
              <p:cNvSpPr txBox="1"/>
              <p:nvPr/>
            </p:nvSpPr>
            <p:spPr>
              <a:xfrm>
                <a:off x="2133720" y="3048120"/>
                <a:ext cx="1371600" cy="57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r>
                      <m:t xml:space="preserve">A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s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517" name=""/>
          <p:cNvSpPr/>
          <p:nvPr/>
        </p:nvSpPr>
        <p:spPr>
          <a:xfrm>
            <a:off x="0" y="330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8" name=""/>
              <p:cNvSpPr txBox="1"/>
              <p:nvPr/>
            </p:nvSpPr>
            <p:spPr>
              <a:xfrm>
                <a:off x="5029200" y="3200400"/>
                <a:ext cx="210960" cy="39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19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0" name=""/>
              <p:cNvSpPr txBox="1"/>
              <p:nvPr/>
            </p:nvSpPr>
            <p:spPr>
              <a:xfrm>
                <a:off x="7162920" y="3809880"/>
                <a:ext cx="53316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1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2" name=""/>
              <p:cNvSpPr txBox="1"/>
              <p:nvPr/>
            </p:nvSpPr>
            <p:spPr>
              <a:xfrm>
                <a:off x="2286000" y="4572000"/>
                <a:ext cx="1447920" cy="56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s</m:t>
                        </m:r>
                      </m:e>
                    </m:acc>
                    <m:r>
                      <m:t xml:space="preserve">=</m:t>
                    </m:r>
                    <m:r>
                      <m:t xml:space="preserve">W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523" name=""/>
          <p:cNvSpPr/>
          <p:nvPr/>
        </p:nvSpPr>
        <p:spPr>
          <a:xfrm>
            <a:off x="0" y="330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4" name=""/>
              <p:cNvSpPr txBox="1"/>
              <p:nvPr/>
            </p:nvSpPr>
            <p:spPr>
              <a:xfrm>
                <a:off x="5486400" y="4648320"/>
                <a:ext cx="210960" cy="39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5" name="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6" name=""/>
              <p:cNvSpPr txBox="1"/>
              <p:nvPr/>
            </p:nvSpPr>
            <p:spPr>
              <a:xfrm>
                <a:off x="2362320" y="5281560"/>
                <a:ext cx="1371600" cy="4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527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8" name=""/>
              <p:cNvSpPr txBox="1"/>
              <p:nvPr/>
            </p:nvSpPr>
            <p:spPr>
              <a:xfrm>
                <a:off x="1752480" y="6095880"/>
                <a:ext cx="384120" cy="41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ff"/>
            </a:gs>
            <a:gs pos="100000">
              <a:srgbClr val="00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</a:rPr>
              <a:t>Independent Component Analysi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olution 1:   PC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0" y="324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0" y="324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33" name="" descr=""/>
          <p:cNvPicPr/>
          <p:nvPr/>
        </p:nvPicPr>
        <p:blipFill>
          <a:blip r:embed="rId1"/>
          <a:stretch/>
        </p:blipFill>
        <p:spPr>
          <a:xfrm>
            <a:off x="914400" y="1447920"/>
            <a:ext cx="7238880" cy="51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ff"/>
            </a:gs>
            <a:gs pos="100000">
              <a:srgbClr val="00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</a:rPr>
              <a:t>Independent Component Analysi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olution 2:   IC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0" y="324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0" y="324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38" name="" descr=""/>
          <p:cNvPicPr/>
          <p:nvPr/>
        </p:nvPicPr>
        <p:blipFill>
          <a:blip r:embed="rId1"/>
          <a:stretch/>
        </p:blipFill>
        <p:spPr>
          <a:xfrm>
            <a:off x="914400" y="1447920"/>
            <a:ext cx="7238880" cy="51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ff"/>
            </a:gs>
            <a:gs pos="100000">
              <a:srgbClr val="00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</a:rPr>
              <a:t>Independent Component Analysi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olutions” for Cocktail Party exampl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pproach 1:   PCA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on “population of 2-d vectors”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irections of Greatest Variability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do not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solve this proble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pproach 2:   ICA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will describe method later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ndependent Component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direction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do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solve the proble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modulo “sign changes” and “identification”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0" y="324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0" y="324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0" y="324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0" y="324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ff"/>
            </a:gs>
            <a:gs pos="100000">
              <a:srgbClr val="00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</a:rPr>
              <a:t>Independent Component Analysi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elation to FDA:  recall “data matrix”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ignal Processing:  focus on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rows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           (     time series, for               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unctional Data Analysis:  focus on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columns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(    data vector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ote:  same 2 different viewpoints as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ual problems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n PCA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0" y="324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0" y="324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0" y="324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0" y="324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0" y="277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2" name=""/>
              <p:cNvSpPr txBox="1"/>
              <p:nvPr/>
            </p:nvSpPr>
            <p:spPr>
              <a:xfrm>
                <a:off x="2514600" y="1676520"/>
                <a:ext cx="47782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</m:acc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n</m:t>
                                      </m:r>
                                    </m:sub>
                                  </m:sSub>
                                </m:e>
                              </m:acc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/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r>
                                <m:t xml:space="preserve">⋮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d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/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dn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53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4" name=""/>
              <p:cNvSpPr txBox="1"/>
              <p:nvPr/>
            </p:nvSpPr>
            <p:spPr>
              <a:xfrm>
                <a:off x="990720" y="3657600"/>
                <a:ext cx="352440" cy="43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55" name="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6" name=""/>
              <p:cNvSpPr txBox="1"/>
              <p:nvPr/>
            </p:nvSpPr>
            <p:spPr>
              <a:xfrm>
                <a:off x="4572000" y="3657600"/>
                <a:ext cx="160020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57" name="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8" name=""/>
              <p:cNvSpPr txBox="1"/>
              <p:nvPr/>
            </p:nvSpPr>
            <p:spPr>
              <a:xfrm>
                <a:off x="990720" y="4876920"/>
                <a:ext cx="33012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ff"/>
            </a:gs>
            <a:gs pos="100000">
              <a:srgbClr val="00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</a:rPr>
              <a:t>Independent Component Analysi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DA Style Scatterplot View  -  Signa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61" name="" descr=""/>
          <p:cNvPicPr/>
          <p:nvPr/>
        </p:nvPicPr>
        <p:blipFill>
          <a:blip r:embed="rId1"/>
          <a:srcRect l="13382" t="0" r="8921" b="6315"/>
          <a:stretch/>
        </p:blipFill>
        <p:spPr>
          <a:xfrm>
            <a:off x="228600" y="1828800"/>
            <a:ext cx="4419720" cy="4191120"/>
          </a:xfrm>
          <a:prstGeom prst="rect">
            <a:avLst/>
          </a:prstGeom>
          <a:ln w="0">
            <a:noFill/>
          </a:ln>
        </p:spPr>
      </p:pic>
      <p:sp>
        <p:nvSpPr>
          <p:cNvPr id="562" name=""/>
          <p:cNvSpPr/>
          <p:nvPr/>
        </p:nvSpPr>
        <p:spPr>
          <a:xfrm>
            <a:off x="0" y="324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0" y="324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0" y="324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0" y="324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66" name="" descr=""/>
          <p:cNvPicPr/>
          <p:nvPr/>
        </p:nvPicPr>
        <p:blipFill>
          <a:blip r:embed="rId2"/>
          <a:srcRect l="13382" t="18946" r="7137" b="25261"/>
          <a:stretch/>
        </p:blipFill>
        <p:spPr>
          <a:xfrm>
            <a:off x="4876920" y="3124080"/>
            <a:ext cx="4114800" cy="2286000"/>
          </a:xfrm>
          <a:prstGeom prst="rect">
            <a:avLst/>
          </a:prstGeom>
          <a:ln w="0">
            <a:noFill/>
          </a:ln>
        </p:spPr>
      </p:pic>
      <p:sp>
        <p:nvSpPr>
          <p:cNvPr id="567" name=""/>
          <p:cNvSpPr/>
          <p:nvPr/>
        </p:nvSpPr>
        <p:spPr>
          <a:xfrm>
            <a:off x="0" y="324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8" name=""/>
              <p:cNvSpPr txBox="1"/>
              <p:nvPr/>
            </p:nvSpPr>
            <p:spPr>
              <a:xfrm>
                <a:off x="5105520" y="1890720"/>
                <a:ext cx="358128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:</m:t>
                        </m:r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ff"/>
            </a:gs>
            <a:gs pos="100000">
              <a:srgbClr val="00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</a:rPr>
              <a:t>Independent Component Analysi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DA Style Scatterplot View  - 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71" name="" descr=""/>
          <p:cNvPicPr/>
          <p:nvPr/>
        </p:nvPicPr>
        <p:blipFill>
          <a:blip r:embed="rId1"/>
          <a:srcRect l="13382" t="0" r="8921" b="6315"/>
          <a:stretch/>
        </p:blipFill>
        <p:spPr>
          <a:xfrm>
            <a:off x="228600" y="1828800"/>
            <a:ext cx="4419720" cy="4191120"/>
          </a:xfrm>
          <a:prstGeom prst="rect">
            <a:avLst/>
          </a:prstGeom>
          <a:ln w="0">
            <a:noFill/>
          </a:ln>
        </p:spPr>
      </p:pic>
      <p:sp>
        <p:nvSpPr>
          <p:cNvPr id="572" name=""/>
          <p:cNvSpPr/>
          <p:nvPr/>
        </p:nvSpPr>
        <p:spPr>
          <a:xfrm>
            <a:off x="0" y="324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0" y="324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0" y="324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0" y="324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76" name="" descr=""/>
          <p:cNvPicPr/>
          <p:nvPr/>
        </p:nvPicPr>
        <p:blipFill>
          <a:blip r:embed="rId2"/>
          <a:srcRect l="13382" t="18946" r="7137" b="25261"/>
          <a:stretch/>
        </p:blipFill>
        <p:spPr>
          <a:xfrm>
            <a:off x="4876920" y="3200400"/>
            <a:ext cx="4114800" cy="2286000"/>
          </a:xfrm>
          <a:prstGeom prst="rect">
            <a:avLst/>
          </a:prstGeom>
          <a:ln w="0">
            <a:noFill/>
          </a:ln>
        </p:spPr>
      </p:pic>
      <p:sp>
        <p:nvSpPr>
          <p:cNvPr id="577" name=""/>
          <p:cNvSpPr/>
          <p:nvPr/>
        </p:nvSpPr>
        <p:spPr>
          <a:xfrm>
            <a:off x="0" y="324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8" name=""/>
              <p:cNvSpPr txBox="1"/>
              <p:nvPr/>
            </p:nvSpPr>
            <p:spPr>
              <a:xfrm>
                <a:off x="5105520" y="1752480"/>
                <a:ext cx="36576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:</m:t>
                        </m:r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e6eff"/>
            </a:gs>
            <a:gs pos="50000">
              <a:srgbClr val="ffffff"/>
            </a:gs>
            <a:gs pos="100000">
              <a:srgbClr val="6e6e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Arial Unicode MS"/>
                <a:ea typeface="Arial Unicode MS"/>
              </a:rPr>
              <a:t>HDLSS</a:t>
            </a: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Discrim’n Simula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684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verall Approach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tudy different known phenomen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104840" indent="-53316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pherical Gaussia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04840" indent="-53316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li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04840" indent="-53316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olynomial Embed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mmon Sample Siz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ut wide range of dimens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324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3505320" y="4495680"/>
                <a:ext cx="243180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+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−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6" name=""/>
          <p:cNvSpPr/>
          <p:nvPr/>
        </p:nvSpPr>
        <p:spPr>
          <a:xfrm>
            <a:off x="0" y="324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2428920" y="5867280"/>
                <a:ext cx="474804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400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160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ff"/>
            </a:gs>
            <a:gs pos="100000">
              <a:srgbClr val="00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</a:rPr>
              <a:t>Independent Component Analysi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DA Style Scatterplot View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catterplots give hint how blind recovery is possib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ffine Transform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tretches indep’t signals into depend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nversion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s key to ICA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even when       is unknown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0" y="324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0" y="324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0" y="324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0" y="324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6" name=""/>
              <p:cNvSpPr txBox="1"/>
              <p:nvPr/>
            </p:nvSpPr>
            <p:spPr>
              <a:xfrm>
                <a:off x="5105520" y="3124080"/>
                <a:ext cx="1218960" cy="51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r>
                      <m:t xml:space="preserve">A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s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587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8" name=""/>
              <p:cNvSpPr txBox="1"/>
              <p:nvPr/>
            </p:nvSpPr>
            <p:spPr>
              <a:xfrm>
                <a:off x="4267080" y="5181480"/>
                <a:ext cx="384120" cy="41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ff"/>
            </a:gs>
            <a:gs pos="100000">
              <a:srgbClr val="00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</a:rPr>
              <a:t>Independent Component Analysi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hy not PCA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inds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irection of greatest variabil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Wrong direction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for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ignal separ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91" name="" descr=""/>
          <p:cNvPicPr/>
          <p:nvPr/>
        </p:nvPicPr>
        <p:blipFill>
          <a:blip r:embed="rId1"/>
          <a:srcRect l="13382" t="0" r="8921" b="6315"/>
          <a:stretch/>
        </p:blipFill>
        <p:spPr>
          <a:xfrm>
            <a:off x="228600" y="2743200"/>
            <a:ext cx="4132440" cy="3917880"/>
          </a:xfrm>
          <a:prstGeom prst="rect">
            <a:avLst/>
          </a:prstGeom>
          <a:ln w="0">
            <a:noFill/>
          </a:ln>
        </p:spPr>
      </p:pic>
      <p:sp>
        <p:nvSpPr>
          <p:cNvPr id="592" name=""/>
          <p:cNvSpPr/>
          <p:nvPr/>
        </p:nvSpPr>
        <p:spPr>
          <a:xfrm>
            <a:off x="0" y="324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0" y="324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0" y="324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0" y="324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96" name="" descr=""/>
          <p:cNvPicPr/>
          <p:nvPr/>
        </p:nvPicPr>
        <p:blipFill>
          <a:blip r:embed="rId2"/>
          <a:srcRect l="13382" t="18946" r="7137" b="25261"/>
          <a:stretch/>
        </p:blipFill>
        <p:spPr>
          <a:xfrm>
            <a:off x="4876920" y="3581280"/>
            <a:ext cx="4114800" cy="2286000"/>
          </a:xfrm>
          <a:prstGeom prst="rect">
            <a:avLst/>
          </a:prstGeom>
          <a:ln w="0">
            <a:noFill/>
          </a:ln>
        </p:spPr>
      </p:pic>
      <p:sp>
        <p:nvSpPr>
          <p:cNvPr id="597" name=""/>
          <p:cNvSpPr/>
          <p:nvPr/>
        </p:nvSpPr>
        <p:spPr>
          <a:xfrm>
            <a:off x="0" y="324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ff"/>
            </a:gs>
            <a:gs pos="100000">
              <a:srgbClr val="00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</a:rPr>
              <a:t>Independent Component Analysi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CA Step 1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phere the data”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i.e. find linear transfo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o make  mean =    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v =    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.e. work with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equires       of full rank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at least          ,  i.e. no </a:t>
            </a:r>
            <a:r>
              <a:rPr b="0" lang="en-US" sz="3200" spc="-1" strike="noStrike">
                <a:solidFill>
                  <a:srgbClr val="00ff00"/>
                </a:solidFill>
                <a:latin typeface="Arial Unicode MS"/>
                <a:ea typeface="Arial Unicode MS"/>
              </a:rPr>
              <a:t>HDLSS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earch for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ndependence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beyond 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inear and quadratic structur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0" y="324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0" y="324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0" y="324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0" y="324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04" name="" descr=""/>
          <p:cNvPicPr/>
          <p:nvPr/>
        </p:nvPicPr>
        <p:blipFill>
          <a:blip r:embed="rId1"/>
          <a:srcRect l="13382" t="18946" r="7137" b="25261"/>
          <a:stretch/>
        </p:blipFill>
        <p:spPr>
          <a:xfrm>
            <a:off x="4800600" y="990720"/>
            <a:ext cx="4114800" cy="2286000"/>
          </a:xfrm>
          <a:prstGeom prst="rect">
            <a:avLst/>
          </a:prstGeom>
          <a:ln w="0">
            <a:noFill/>
          </a:ln>
        </p:spPr>
      </p:pic>
      <p:sp>
        <p:nvSpPr>
          <p:cNvPr id="605" name=""/>
          <p:cNvSpPr/>
          <p:nvPr/>
        </p:nvSpPr>
        <p:spPr>
          <a:xfrm>
            <a:off x="0" y="324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7" name=""/>
              <p:cNvSpPr txBox="1"/>
              <p:nvPr/>
            </p:nvSpPr>
            <p:spPr>
              <a:xfrm>
                <a:off x="4114800" y="2666880"/>
                <a:ext cx="271440" cy="51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0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608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9" name=""/>
              <p:cNvSpPr txBox="1"/>
              <p:nvPr/>
            </p:nvSpPr>
            <p:spPr>
              <a:xfrm>
                <a:off x="1981080" y="3276720"/>
                <a:ext cx="30024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10" name=""/>
          <p:cNvSpPr/>
          <p:nvPr/>
        </p:nvSpPr>
        <p:spPr>
          <a:xfrm>
            <a:off x="0" y="322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1" name=""/>
              <p:cNvSpPr txBox="1"/>
              <p:nvPr/>
            </p:nvSpPr>
            <p:spPr>
              <a:xfrm>
                <a:off x="3505320" y="3733920"/>
                <a:ext cx="2743200" cy="53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sSup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μ</m:t>
                            </m:r>
                          </m:e>
                        </m:acc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612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3" name=""/>
              <p:cNvSpPr txBox="1"/>
              <p:nvPr/>
            </p:nvSpPr>
            <p:spPr>
              <a:xfrm>
                <a:off x="2514600" y="4343400"/>
                <a:ext cx="45720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14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5" name=""/>
              <p:cNvSpPr txBox="1"/>
              <p:nvPr/>
            </p:nvSpPr>
            <p:spPr>
              <a:xfrm>
                <a:off x="3429000" y="4876920"/>
                <a:ext cx="914400" cy="37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≥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16" name=""/>
          <p:cNvSpPr/>
          <p:nvPr/>
        </p:nvSpPr>
        <p:spPr>
          <a:xfrm>
            <a:off x="4038480" y="1828800"/>
            <a:ext cx="33530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ff"/>
            </a:gs>
            <a:gs pos="100000">
              <a:srgbClr val="00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</a:rPr>
              <a:t>Independent Component Analysi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CA Step 2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ind directions that make (sphered) data as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ndependent as possib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orst case:  Gaussi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phered data are independ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nteresting “converse application” of C.L.T.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or      and       independent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&amp; non-Gaussian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 “more Gaussian” for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o maximal independence comes from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east Gaussian directions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0" y="324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0" y="324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0" y="324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0" y="324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0" y="324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6" name=""/>
              <p:cNvSpPr txBox="1"/>
              <p:nvPr/>
            </p:nvSpPr>
            <p:spPr>
              <a:xfrm>
                <a:off x="1600200" y="3886200"/>
                <a:ext cx="399960" cy="5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27" name=""/>
          <p:cNvSpPr/>
          <p:nvPr/>
        </p:nvSpPr>
        <p:spPr>
          <a:xfrm>
            <a:off x="0" y="324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8" name=""/>
              <p:cNvSpPr txBox="1"/>
              <p:nvPr/>
            </p:nvSpPr>
            <p:spPr>
              <a:xfrm>
                <a:off x="3124080" y="3886200"/>
                <a:ext cx="432000" cy="5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29" name=""/>
          <p:cNvSpPr/>
          <p:nvPr/>
        </p:nvSpPr>
        <p:spPr>
          <a:xfrm>
            <a:off x="0" y="324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0" name=""/>
              <p:cNvSpPr txBox="1"/>
              <p:nvPr/>
            </p:nvSpPr>
            <p:spPr>
              <a:xfrm>
                <a:off x="762120" y="4876920"/>
                <a:ext cx="2743200" cy="42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u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u</m:t>
                        </m:r>
                      </m:e>
                    </m:d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31" name="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2" name=""/>
              <p:cNvSpPr txBox="1"/>
              <p:nvPr/>
            </p:nvSpPr>
            <p:spPr>
              <a:xfrm>
                <a:off x="7772400" y="4648320"/>
                <a:ext cx="90324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≈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ff"/>
            </a:gs>
            <a:gs pos="100000">
              <a:srgbClr val="00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</a:rPr>
              <a:t>Independent Component Analysi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CA Step 2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ind dir’ns that make (sphered) data as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ndependent as possib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ecall “independence” means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Joint distribution is product of Margina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n cocktail party exampl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Happens only when rotated so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upport parallel to ax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therwise have blank areas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hile marginals are non-zero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0" y="324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0" y="324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0" y="324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0" y="324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43" name="" descr=""/>
          <p:cNvPicPr/>
          <p:nvPr/>
        </p:nvPicPr>
        <p:blipFill>
          <a:blip r:embed="rId1"/>
          <a:srcRect l="55312" t="18946" r="8921" b="25261"/>
          <a:stretch/>
        </p:blipFill>
        <p:spPr>
          <a:xfrm>
            <a:off x="6477120" y="3733920"/>
            <a:ext cx="2514600" cy="2773080"/>
          </a:xfrm>
          <a:prstGeom prst="rect">
            <a:avLst/>
          </a:prstGeom>
          <a:ln w="0">
            <a:noFill/>
          </a:ln>
        </p:spPr>
      </p:pic>
      <p:sp>
        <p:nvSpPr>
          <p:cNvPr id="644" name=""/>
          <p:cNvSpPr/>
          <p:nvPr/>
        </p:nvSpPr>
        <p:spPr>
          <a:xfrm>
            <a:off x="5867280" y="4572000"/>
            <a:ext cx="19814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ff"/>
            </a:gs>
            <a:gs pos="100000">
              <a:srgbClr val="00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</a:rPr>
              <a:t>Independent Component Analysi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arallel Idea (and key to algorithm):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ind directions that max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on-Gaussian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eason: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tarting from independent coordina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ost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projections are Gaussi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since projection is “linear combo”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athematics behind this: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iaconis and Freedman (198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0" y="324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0" y="324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0" y="324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0" y="324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ff"/>
            </a:gs>
            <a:gs pos="100000">
              <a:srgbClr val="00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</a:rPr>
              <a:t>Independent Component Analysi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orst case for ICA: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aussian margina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hen sphered data are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ndepend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o have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ndependence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n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all direc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hus can’t find useful direc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aussian distribution is characterized by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ndependent   &amp;  spherically symmetri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0" y="324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0" y="324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0" y="324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0" y="324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ff"/>
            </a:gs>
            <a:gs pos="100000">
              <a:srgbClr val="00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</a:rPr>
              <a:t>Independent Component Analysi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riteria for non-Gaussianity / independenc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kurtosis  (                 , 4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 Unicode MS"/>
                <a:ea typeface="Arial Unicode MS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order cumulant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egative entrop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ual inform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onparametric maximum likelihoo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nfomax” in neural network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nteresting connections between thes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0" y="324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0" y="324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0" y="324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0" y="324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4" name=""/>
              <p:cNvSpPr txBox="1"/>
              <p:nvPr/>
            </p:nvSpPr>
            <p:spPr>
              <a:xfrm>
                <a:off x="914400" y="5334120"/>
                <a:ext cx="304920" cy="4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∃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75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6" name=""/>
              <p:cNvSpPr txBox="1"/>
              <p:nvPr/>
            </p:nvSpPr>
            <p:spPr>
              <a:xfrm>
                <a:off x="2590920" y="1828800"/>
                <a:ext cx="2133360" cy="5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EX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3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E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ff"/>
            </a:gs>
            <a:gs pos="100000">
              <a:srgbClr val="00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</a:rPr>
              <a:t>Independent Component Analysi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atlab Algorithm (optimizing any of above)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astIC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Arial Unicode MS"/>
                <a:ea typeface="Arial Unicode MS"/>
                <a:hlinkClick r:id="rId1"/>
              </a:rPr>
              <a:t>http://www.cis.hut.fi/projects/ica/fastica/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umerical gradient search metho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an find directions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terative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 by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imultaneous optimiz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ppears fast, with good defaul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hould we worry about local optima???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0" y="324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0" y="324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0" y="324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0" y="324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ff"/>
            </a:gs>
            <a:gs pos="100000">
              <a:srgbClr val="00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</a:rPr>
              <a:t>Independent Component Analysi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otational summary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irst sphere data: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pply ICA:      find rotation         to make rows of                 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ndepend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an transform back to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iginal data scale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0" y="324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0" y="324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0" y="324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0" y="324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0" y="322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8" name=""/>
              <p:cNvSpPr txBox="1"/>
              <p:nvPr/>
            </p:nvSpPr>
            <p:spPr>
              <a:xfrm>
                <a:off x="4724280" y="2133720"/>
                <a:ext cx="2971800" cy="57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sSup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μ</m:t>
                            </m:r>
                          </m:e>
                        </m:acc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699" name=""/>
          <p:cNvSpPr/>
          <p:nvPr/>
        </p:nvSpPr>
        <p:spPr>
          <a:xfrm>
            <a:off x="0" y="322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1" name=""/>
              <p:cNvSpPr txBox="1"/>
              <p:nvPr/>
            </p:nvSpPr>
            <p:spPr>
              <a:xfrm>
                <a:off x="6248520" y="2971800"/>
                <a:ext cx="5331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02" name="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3" name=""/>
              <p:cNvSpPr txBox="1"/>
              <p:nvPr/>
            </p:nvSpPr>
            <p:spPr>
              <a:xfrm>
                <a:off x="3886200" y="3733920"/>
                <a:ext cx="164160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Z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04" name=""/>
          <p:cNvSpPr/>
          <p:nvPr/>
        </p:nvSpPr>
        <p:spPr>
          <a:xfrm>
            <a:off x="-7632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5" name=""/>
              <p:cNvSpPr txBox="1"/>
              <p:nvPr/>
            </p:nvSpPr>
            <p:spPr>
              <a:xfrm>
                <a:off x="2514600" y="5286240"/>
                <a:ext cx="1676520" cy="54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sSup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e6eff"/>
            </a:gs>
            <a:gs pos="50000">
              <a:srgbClr val="ffffff"/>
            </a:gs>
            <a:gs pos="100000">
              <a:srgbClr val="6e6e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Arial Unicode MS"/>
                <a:ea typeface="Arial Unicode MS"/>
              </a:rPr>
              <a:t>HDLSS</a:t>
            </a: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Discrim’n Simula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684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pherical Gaussian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1066680" y="1600200"/>
            <a:ext cx="7162920" cy="50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ff"/>
            </a:gs>
            <a:gs pos="100000">
              <a:srgbClr val="00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</a:rPr>
              <a:t>Independent Component Analysi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76312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dentifiability problem 1: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enerally can’t order rows of      (&amp;    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ince for a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ermutation matrix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pre-multiplication by     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waps rows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post-multiplication by     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waps columns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or each col’n,                            i.e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o      and       are also solutions (i.e.             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0" y="324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0" y="324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0" y="324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0" y="324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7" name=""/>
              <p:cNvSpPr txBox="1"/>
              <p:nvPr/>
            </p:nvSpPr>
            <p:spPr>
              <a:xfrm>
                <a:off x="6629400" y="1600200"/>
                <a:ext cx="45720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18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9" name=""/>
              <p:cNvSpPr txBox="1"/>
              <p:nvPr/>
            </p:nvSpPr>
            <p:spPr>
              <a:xfrm>
                <a:off x="7848720" y="1676520"/>
                <a:ext cx="29052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20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1" name=""/>
              <p:cNvSpPr txBox="1"/>
              <p:nvPr/>
            </p:nvSpPr>
            <p:spPr>
              <a:xfrm>
                <a:off x="6400800" y="2743200"/>
                <a:ext cx="3841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22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3" name=""/>
              <p:cNvSpPr txBox="1"/>
              <p:nvPr/>
            </p:nvSpPr>
            <p:spPr>
              <a:xfrm>
                <a:off x="5410080" y="3276720"/>
                <a:ext cx="3841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24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5" name=""/>
              <p:cNvSpPr txBox="1"/>
              <p:nvPr/>
            </p:nvSpPr>
            <p:spPr>
              <a:xfrm>
                <a:off x="5181480" y="3809880"/>
                <a:ext cx="384120" cy="3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26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7" name=""/>
              <p:cNvSpPr txBox="1"/>
              <p:nvPr/>
            </p:nvSpPr>
            <p:spPr>
              <a:xfrm>
                <a:off x="3200400" y="4343400"/>
                <a:ext cx="3124080" cy="48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z</m:t>
                        </m:r>
                      </m:e>
                    </m:acc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e>
                    </m:acc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P</m:t>
                    </m:r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728" name="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9" name=""/>
              <p:cNvSpPr txBox="1"/>
              <p:nvPr/>
            </p:nvSpPr>
            <p:spPr>
              <a:xfrm>
                <a:off x="7162920" y="4343400"/>
                <a:ext cx="1981080" cy="4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e>
                    </m:acc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PW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acc>
                      <m:accPr>
                        <m:chr m:val="⃗"/>
                      </m:accPr>
                      <m:e>
                        <m:r>
                          <m:t xml:space="preserve">z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730" name="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1" name=""/>
              <p:cNvSpPr txBox="1"/>
              <p:nvPr/>
            </p:nvSpPr>
            <p:spPr>
              <a:xfrm>
                <a:off x="990720" y="5410080"/>
                <a:ext cx="60948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PS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32" name="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3" name=""/>
              <p:cNvSpPr txBox="1"/>
              <p:nvPr/>
            </p:nvSpPr>
            <p:spPr>
              <a:xfrm>
                <a:off x="2438280" y="5410080"/>
                <a:ext cx="76212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PW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34" name="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5" name=""/>
              <p:cNvSpPr txBox="1"/>
              <p:nvPr/>
            </p:nvSpPr>
            <p:spPr>
              <a:xfrm>
                <a:off x="7315200" y="5486400"/>
                <a:ext cx="1600200" cy="3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PS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PW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Z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ff"/>
            </a:gs>
            <a:gs pos="100000">
              <a:srgbClr val="00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</a:rPr>
              <a:t>Independent Component Analysi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380880" y="761760"/>
            <a:ext cx="83059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dentifiability problem 1:  Row Order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 algn="ctr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aw this in Cocktail Party Examp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 algn="ctr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 algn="ctr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 algn="ctr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 algn="ctr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 algn="ctr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 algn="ctr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 algn="ctr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astICA:  orders by non-Gaussian-nes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38" name="" descr=""/>
          <p:cNvPicPr/>
          <p:nvPr/>
        </p:nvPicPr>
        <p:blipFill>
          <a:blip r:embed="rId1"/>
          <a:srcRect l="13382" t="0" r="7137" b="6315"/>
          <a:stretch/>
        </p:blipFill>
        <p:spPr>
          <a:xfrm>
            <a:off x="228600" y="1981080"/>
            <a:ext cx="4421160" cy="3681360"/>
          </a:xfrm>
          <a:prstGeom prst="rect">
            <a:avLst/>
          </a:prstGeom>
          <a:ln w="0">
            <a:noFill/>
          </a:ln>
        </p:spPr>
      </p:pic>
      <p:sp>
        <p:nvSpPr>
          <p:cNvPr id="739" name=""/>
          <p:cNvSpPr/>
          <p:nvPr/>
        </p:nvSpPr>
        <p:spPr>
          <a:xfrm>
            <a:off x="0" y="324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0" y="324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0" y="324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0" y="324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57" name="" descr=""/>
          <p:cNvPicPr/>
          <p:nvPr/>
        </p:nvPicPr>
        <p:blipFill>
          <a:blip r:embed="rId2"/>
          <a:srcRect l="13382" t="0" r="7137" b="6315"/>
          <a:stretch/>
        </p:blipFill>
        <p:spPr>
          <a:xfrm>
            <a:off x="4572000" y="1981080"/>
            <a:ext cx="4440240" cy="369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ff"/>
            </a:gs>
            <a:gs pos="100000">
              <a:srgbClr val="00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</a:rPr>
              <a:t>Independent Component Analysi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dentifiability problem 2: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an’t find scale of elements of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ince for a (full rank) diagonal matrix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pre-mult’n by     is scalar mult’n of row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post-mult’n by     is scalar mult’n of col’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or each col’n,                         i.e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o          and           are also solu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0" y="324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0" y="324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0" y="324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0" y="324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9" name=""/>
              <p:cNvSpPr txBox="1"/>
              <p:nvPr/>
            </p:nvSpPr>
            <p:spPr>
              <a:xfrm>
                <a:off x="7467480" y="1600200"/>
                <a:ext cx="276480" cy="58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s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770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1" name=""/>
              <p:cNvSpPr txBox="1"/>
              <p:nvPr/>
            </p:nvSpPr>
            <p:spPr>
              <a:xfrm>
                <a:off x="7391520" y="2882880"/>
                <a:ext cx="457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72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3" name=""/>
              <p:cNvSpPr txBox="1"/>
              <p:nvPr/>
            </p:nvSpPr>
            <p:spPr>
              <a:xfrm>
                <a:off x="3429000" y="3429000"/>
                <a:ext cx="4572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74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5" name=""/>
              <p:cNvSpPr txBox="1"/>
              <p:nvPr/>
            </p:nvSpPr>
            <p:spPr>
              <a:xfrm>
                <a:off x="3581280" y="4038480"/>
                <a:ext cx="457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76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7" name=""/>
              <p:cNvSpPr txBox="1"/>
              <p:nvPr/>
            </p:nvSpPr>
            <p:spPr>
              <a:xfrm>
                <a:off x="3124080" y="4692600"/>
                <a:ext cx="2895840" cy="45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z</m:t>
                        </m:r>
                      </m:e>
                    </m:acc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e>
                    </m:acc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sSup>
                      <m:e>
                        <m:r>
                          <m:t xml:space="preserve">D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D</m:t>
                    </m:r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778" name="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9" name=""/>
              <p:cNvSpPr txBox="1"/>
              <p:nvPr/>
            </p:nvSpPr>
            <p:spPr>
              <a:xfrm>
                <a:off x="6934320" y="4724280"/>
                <a:ext cx="198108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e>
                    </m:acc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W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acc>
                      <m:accPr>
                        <m:chr m:val="⃗"/>
                      </m:accPr>
                      <m:e>
                        <m:r>
                          <m:t xml:space="preserve">z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780" name="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1" name=""/>
              <p:cNvSpPr txBox="1"/>
              <p:nvPr/>
            </p:nvSpPr>
            <p:spPr>
              <a:xfrm>
                <a:off x="1219320" y="5742000"/>
                <a:ext cx="838080" cy="58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82" name="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3" name=""/>
              <p:cNvSpPr txBox="1"/>
              <p:nvPr/>
            </p:nvSpPr>
            <p:spPr>
              <a:xfrm>
                <a:off x="3048120" y="5715000"/>
                <a:ext cx="9903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W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ff"/>
            </a:gs>
            <a:gs pos="100000">
              <a:srgbClr val="00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</a:rPr>
              <a:t>Independent Component Analysi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380880" y="761760"/>
            <a:ext cx="83059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dentifiability problem 2:  Signal Scal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ot so clear in Cocktail Party Examp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86" name="" descr=""/>
          <p:cNvPicPr/>
          <p:nvPr/>
        </p:nvPicPr>
        <p:blipFill>
          <a:blip r:embed="rId1"/>
          <a:srcRect l="13382" t="0" r="7137" b="6315"/>
          <a:stretch/>
        </p:blipFill>
        <p:spPr>
          <a:xfrm>
            <a:off x="228600" y="1981080"/>
            <a:ext cx="4421160" cy="3681360"/>
          </a:xfrm>
          <a:prstGeom prst="rect">
            <a:avLst/>
          </a:prstGeom>
          <a:ln w="0">
            <a:noFill/>
          </a:ln>
        </p:spPr>
      </p:pic>
      <p:sp>
        <p:nvSpPr>
          <p:cNvPr id="787" name=""/>
          <p:cNvSpPr/>
          <p:nvPr/>
        </p:nvSpPr>
        <p:spPr>
          <a:xfrm>
            <a:off x="0" y="324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0" y="324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0" y="324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0" y="324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05" name="" descr=""/>
          <p:cNvPicPr/>
          <p:nvPr/>
        </p:nvPicPr>
        <p:blipFill>
          <a:blip r:embed="rId2"/>
          <a:srcRect l="13382" t="0" r="7137" b="6315"/>
          <a:stretch/>
        </p:blipFill>
        <p:spPr>
          <a:xfrm>
            <a:off x="4572000" y="1981080"/>
            <a:ext cx="4440240" cy="369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ff"/>
            </a:gs>
            <a:gs pos="100000">
              <a:srgbClr val="00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</a:rPr>
              <a:t>Independent Component Analysi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ignal Processing Scale identification:  (Hyvärinen and Oja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hoose scale so each signal           has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it average energy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reserves energy along rows of data matri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xplains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ame scales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n Cocktail Party Examp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0" y="324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0" y="324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0" y="324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0" y="324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7" name=""/>
              <p:cNvSpPr txBox="1"/>
              <p:nvPr/>
            </p:nvSpPr>
            <p:spPr>
              <a:xfrm>
                <a:off x="5791320" y="2057400"/>
                <a:ext cx="76176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18" name=""/>
          <p:cNvSpPr/>
          <p:nvPr/>
        </p:nvSpPr>
        <p:spPr>
          <a:xfrm>
            <a:off x="0" y="3112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9" name=""/>
              <p:cNvSpPr txBox="1"/>
              <p:nvPr/>
            </p:nvSpPr>
            <p:spPr>
              <a:xfrm>
                <a:off x="3962520" y="2638440"/>
                <a:ext cx="1371600" cy="81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t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ff"/>
            </a:gs>
            <a:gs pos="100000">
              <a:srgbClr val="00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</a:rPr>
              <a:t>Independent Component Analysi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ould like to do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ore toy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llustrating how non-Gaussianity work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ike to see som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heck out old course not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 Unicode MS"/>
                <a:ea typeface="Arial Unicode MS"/>
                <a:hlinkClick r:id="rId1"/>
              </a:rPr>
              <a:t>http://www.stat.unc.edu/postscript/papers/marron/Teaching/CornellFDA/Lecture03-11-02/FDA03-11-02.pdf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 Unicode MS"/>
                <a:ea typeface="Arial Unicode MS"/>
                <a:hlinkClick r:id="rId2"/>
              </a:rPr>
              <a:t>http://www.stat.unc.edu/postscript/papers/marron/Teaching/CornellFDA/Lecture03-25-02/FDA03-25-02.pdf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0" y="324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0" y="324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0" y="324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0" y="324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0" y="3112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ff"/>
            </a:gs>
            <a:gs pos="100000">
              <a:srgbClr val="00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</a:rPr>
              <a:t>Independent Component Analysi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ne more “Would like to do”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CA testing of multivariate Gaussian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sual approaches:   1-d tests on margina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ew Idea:   use ICA to find “least Gaussi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irections”, and base test on thos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Koch, Marron and Chen (200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0" y="324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0" y="324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0" y="324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0" y="324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0" y="3112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f5ff"/>
            </a:gs>
            <a:gs pos="50000">
              <a:srgbClr val="ffffff"/>
            </a:gs>
            <a:gs pos="100000">
              <a:srgbClr val="dcf5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fortunately Not Covere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WD &amp; Micro-array Outcomes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indup from FDA04-22-02.do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eneral Conclus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Valid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e6eff"/>
            </a:gs>
            <a:gs pos="50000">
              <a:srgbClr val="ffffff"/>
            </a:gs>
            <a:gs pos="100000">
              <a:srgbClr val="6e6e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Arial Unicode MS"/>
                <a:ea typeface="Arial Unicode MS"/>
              </a:rPr>
              <a:t>HDLSS</a:t>
            </a: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Discrim’n Simula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684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-578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pherical Gaussian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8880" indent="-578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ame setup as befo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8880" indent="-578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ans shifted in dim 1 only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8880" indent="-578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ll methods pretty goo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8880" indent="-578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Harder problem for higher dimen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8880" indent="-578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VM noticeably wor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8880" indent="-578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D best (Likelihood method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8880" indent="-578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WD very close to M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8880" indent="-578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thods converge for higher dimension?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0" y="324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553080" y="2133720"/>
                <a:ext cx="175284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±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e6eff"/>
            </a:gs>
            <a:gs pos="50000">
              <a:srgbClr val="ffffff"/>
            </a:gs>
            <a:gs pos="100000">
              <a:srgbClr val="6e6e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Arial Unicode MS"/>
                <a:ea typeface="Arial Unicode MS"/>
              </a:rPr>
              <a:t>HDLSS</a:t>
            </a: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Discrim’n Simula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684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lier Mixtur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1066680" y="1600200"/>
            <a:ext cx="7162920" cy="50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08T01:38:43Z</dcterms:created>
  <dc:creator>Preferred Customer</dc:creator>
  <dc:description/>
  <dc:language>en-US</dc:language>
  <cp:lastModifiedBy> </cp:lastModifiedBy>
  <dcterms:modified xsi:type="dcterms:W3CDTF">2005-12-08T14:16:37Z</dcterms:modified>
  <cp:revision>1192</cp:revision>
  <dc:subject/>
  <dc:title>Title</dc:title>
</cp:coreProperties>
</file>