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2E5-B522-47CA-BAA6-8F3CDD2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551-E26A-4EA1-934E-00B2F098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00A-F017-4E69-B250-CDE723D8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268-D4C9-4727-9C43-82A61C6C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74C-419F-423F-B119-9CC5622A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984-3D14-4652-B011-6C25B99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DEB-9F56-40E6-BC64-3CB078A7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02D-DA26-4FF8-A888-055AA88D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847-0837-4B08-8A78-F1435A3B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7B9-B5BE-4F32-AEAE-5D5DD31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DEC-45E5-4409-A4B9-F2B1E1A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834-E22B-44AF-9F1E-3FCFA79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48C-65F7-43E3-BECA-6ADF25FD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go.psych.mcgill.ca/misc/fda/&#160;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ych.mcgill.ca/faculty/ramsay/ramsay.html" TargetMode="Externa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3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S. Mar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. of Statistics and Operation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time:  list major statistical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populatio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(i. e. Discrimin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 of Dat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k a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in Euclidean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ater study other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590920" y="2955960"/>
                <a:ext cx="5790960" cy="23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many statisticians prefer “p”, not “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haps for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“predicto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use “d” for “dimen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idea that it i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ly understand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look at Euclidean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d:  histogram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:  scatter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:  spinning point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0384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k at Euclidean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horse Idea:   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“directions of interest” on which projection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set of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Ra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1368360"/>
            <a:ext cx="7772400" cy="54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Highligh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Gene 1 Express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Gene 2 Express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iv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on Course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nc.edu/~marro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stat322-2005/HomePag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Gene 3 Express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1-d Projection,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X-Projection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1-d Projection,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Y-Projection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1-d Projection, Z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Z-Projection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2-d Proj’n, XY-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XY-Proj’n, 2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2-d Proj’n, XZ-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Levels of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Graduat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Prof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– Im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XZ-Proj’n, 2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2-d Proj’n, YZ-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YZ-Proj’n, 2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all 3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Diagonal 1-d proj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Add off-diag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Multivar. View: Typic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“directions of interest” on which projection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set of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Direc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al (projected)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Sequent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orthogonal sub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ake careful look at mathematic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Recall Raw Dat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vie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atom of the statistical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rse:   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variate Analysis Course :   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:   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generally: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at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Recall Gene by Gene View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1 Projec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1 Projections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2 Projec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2 Projections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3 Projec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3 Projections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rojections on PC1,2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1 &amp; 2 Proj’n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rojections on PC1,3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new field in statistics,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say, J. O. &amp; Silverman, B. W. (2005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, Springer, N.Y. ISBN 0-387-40080-X (cited 8/30/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say, J. O. &amp; Silverman, B. W. (2002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ied Functional Data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ringer, N.Y. ISBN 0-387-95414-7 (cited 8/30/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say, J. O. (2005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 Data Analysis Web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go.psych.mcgill.ca/misc/fda/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cited 8/30/0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1 &amp; 3 Proj’n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rojections on PC2,3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PC2 &amp; 3 Proj’n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   All 3 PC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Matrix with 1-d proj’ns on di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: Add off-diagonals to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Typic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omparison of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Highlight 3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ene by G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usters appear in all 3 scatter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ut never very sepa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CA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shows three distinct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etter separated than in g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ustering concentrated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scatter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ffect is small, since only 3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Gene by Ge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’n of PCA View: PCA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nclature Cla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cience View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Oriented Programm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hat supports encapsulation, inheritance, and polymorph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om Google: define object oriented programm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vorite:  www.innovatia.com/software/papers/com.ht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Another Comparison of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uch higher dimension,  # genes = 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ene by G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usters very near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Very slight difference in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CA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Gulim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difference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PC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agnification of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Lesson:  Alternate views can sh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Gulim"/>
              </a:rPr>
              <a:t>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(especially in high dimensions, i.e. for many g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hows PC view is very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other Comparison: Gene by Ge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Another Comparison: PCA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Object Concept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371600"/>
            <a:ext cx="8305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                                  Manif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                                T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010280" y="2133720"/>
                <a:ext cx="594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Object Concept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371600"/>
            <a:ext cx="83055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ti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ology:  “feature vector” from field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Pattern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reference (there are man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jver, P. A. and Kittler, J. (1982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tern Recognition: A Statistical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Lond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tion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” in that field are entries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e, “features” are “aspects of population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182600"/>
            <a:ext cx="784836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  Set of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digitized to vectors (look a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Represen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(sin &amp; 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sp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182600"/>
            <a:ext cx="815328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ple example     (Travis Gay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mensional” family of (digitized)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piece-wise linear f’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 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11640" y="3352680"/>
                <a:ext cx="6253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View:   J. O. Ram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sych.mcgill.ca/faculty/ramsay/ramsa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Obje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oser to C. S. mea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Obj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” in mathematic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that operates on func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82600"/>
            <a:ext cx="815328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ple example     (Travis Gay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mensional” family of (digitized)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piece-wise linear f’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 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s of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11640" y="3352680"/>
                <a:ext cx="6253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182600"/>
            <a:ext cx="81532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example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d family of (digitized)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bundles of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 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er to visualize as point clou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keep point cloud in m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267080" y="3200400"/>
                <a:ext cx="668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12936" r="0" b="0"/>
          <a:stretch/>
        </p:blipFill>
        <p:spPr>
          <a:xfrm>
            <a:off x="304920" y="1460520"/>
            <a:ext cx="8675640" cy="1069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ogies for these cross – cultural dist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“OODA” has a nic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ill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til somebody suggests a better nam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43715" r="0" b="0"/>
          <a:stretch/>
        </p:blipFill>
        <p:spPr>
          <a:xfrm>
            <a:off x="304920" y="1295280"/>
            <a:ext cx="867564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1826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Parabol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2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T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C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Gaussian (spheri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s of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82600"/>
            <a:ext cx="83055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uster Example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d curve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ig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by 1-d projection plot (right s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uster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orth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2993" r="0" b="0"/>
          <a:stretch/>
        </p:blipFill>
        <p:spPr>
          <a:xfrm>
            <a:off x="838080" y="762120"/>
            <a:ext cx="7337520" cy="90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18260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icated Example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d curve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’n structure hard to see in 1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 projections make structu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12936" r="0" b="0"/>
          <a:stretch/>
        </p:blipFill>
        <p:spPr>
          <a:xfrm>
            <a:off x="228600" y="1371600"/>
            <a:ext cx="8675640" cy="1069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9813" t="6315" r="0" b="0"/>
          <a:stretch/>
        </p:blipFill>
        <p:spPr>
          <a:xfrm>
            <a:off x="304920" y="1447920"/>
            <a:ext cx="11080800" cy="81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time:  comment from Randy Euba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"Object Oriented data Analysis"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ppeared in Florida FDA Mee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ufl.edu/symposium/2003/funda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0-08T12:09:52Z</dcterms:modified>
  <cp:revision>44</cp:revision>
  <dc:subject/>
  <dc:title>Title</dc:title>
</cp:coreProperties>
</file>