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3004-F761-490E-AB3B-35E2296F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A60D-70A7-408A-A720-EFA7B31D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9A49-95CF-447A-9019-01180E38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F228-EF6B-41BB-A05F-7A7D4F23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38D-6881-4B69-B31E-915E0388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58F6-B31F-4C4C-BDA3-D6DFA1B5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811A-B438-44ED-AD84-D3045A93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5EC-D397-4622-9F9D-692327FF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AC8C-AAC2-4F6B-9374-B83116E1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5234-C113-4E6F-BFC7-8C556A27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9442-9AA9-4D78-B23D-6B9DC206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D467-FF18-4CF5-8EB1-13A21901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47E8-0C3A-4C12-90B7-547BD761F9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t.unc.edu/postscript/papers/marron/Matlab7Software/" TargetMode="Externa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PDFs/mspainagecurve-all.pdf" TargetMode="Externa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PDFs/mspainagecurve-all.pdf" TargetMode="External"/><Relationship Id="rId2" Type="http://schemas.openxmlformats.org/officeDocument/2006/relationships/hyperlink" Target="file:///PDFs/spainyearcolorindexes.pdf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PDFs/fspainagecurve-all.pdf" TargetMode="External"/><Relationship Id="rId2" Type="http://schemas.openxmlformats.org/officeDocument/2006/relationships/hyperlink" Target="file:///PDFs/spainyearcolorindexes.pdf" TargetMode="Externa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PDFs/mswitzerlandagecurve-all.pdf" TargetMode="External"/><Relationship Id="rId2" Type="http://schemas.openxmlformats.org/officeDocument/2006/relationships/hyperlink" Target="file:///PDFs/switzerlanyearcolorindexes.pdf" TargetMode="Externa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PDFs/mspainyearcurve-all.pd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PDFs/mspainyearcurve-all.pdf" TargetMode="External"/><Relationship Id="rId2" Type="http://schemas.openxmlformats.org/officeDocument/2006/relationships/hyperlink" Target="file:///PDFs/spainagecolorindexes.pdf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rganizational Mat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ttp://www.unc.edu/~marron/UNCstat322-2005/HomePage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hat is OOD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Visualization by Pro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bject Space &amp; Feature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urves a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Data Representation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PCA visualiz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. S. Toy E.g., PCA Scatterplo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990720"/>
            <a:ext cx="800100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e Point Clou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s along a 1-d curve 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actually ha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-d mode of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n-lin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e of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ly captured by PCA (linear metho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study more l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867280" y="1981080"/>
                <a:ext cx="6098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990720"/>
            <a:ext cx="800100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Spectrometry Measu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n Aging Substance, called “Estan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over Logarithmic Time Grid, n = 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s a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Time Evolu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 PCA &amp; Time Colo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990720"/>
            <a:ext cx="800100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Work w/ E. Kober &amp; J. Wendelber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Alamos National La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Experimental Condi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d 59 days in Dry 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d 27 days in Humid 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d 59 days in Humid 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HA 27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885960"/>
            <a:ext cx="8458200" cy="59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HA 27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3640" y="903240"/>
            <a:ext cx="786456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w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60 spectra essentially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” of mean is much bigger th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 about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to see structure of all 1600 freq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ntered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an see different spec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mean subtracted o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much smaller vertical 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HA 27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0880" y="885960"/>
            <a:ext cx="8458200" cy="59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HA 27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3640" y="903240"/>
            <a:ext cx="786456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zoomed to “important” freq’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w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 slight diffe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er “natural looking” spec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ntered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s in spectra more cl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be now have “real structur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cale is impor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HA 27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885960"/>
            <a:ext cx="8458200" cy="59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HA 27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640" y="903240"/>
            <a:ext cx="786456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Time Order Color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w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ee a little ordering, not mu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ntered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time or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ing peaks?    (compare to Ra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C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everyth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C1 Residu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nearly linear (same scale import’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Contro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0880" y="885960"/>
            <a:ext cx="8458200" cy="59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Object Conceptualiz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523880"/>
            <a:ext cx="83055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ject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eature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s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s                                   Manifo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s                                 Tree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7010280" y="2362320"/>
                <a:ext cx="56052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Contro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3640" y="903240"/>
            <a:ext cx="786456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A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systematic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ordering very impor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iniscent of Toy 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ear 1-d curve in Feature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Explan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Data Explan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 rot="10779000">
            <a:off x="609480" y="4723920"/>
            <a:ext cx="786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Chemical Reaction Mod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. 1 transforms into Subst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near pa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Feature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963720"/>
            <a:ext cx="7010640" cy="37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Data Explan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 rot="10779000">
            <a:off x="604440" y="4720680"/>
            <a:ext cx="807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er Chemical Reaction Mode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.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st. 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st.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rved p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Feat. Sp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Reactions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Curve lies in 2-dim’al subs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086600" cy="37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Data Explan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 rot="10779000">
            <a:off x="604440" y="4720680"/>
            <a:ext cx="807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Chemical Reaction Mode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.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st. 2   &amp;  Subst. 5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st.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rved p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Feat. Sp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Reactions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Curve lies in 2-dim’al subs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239240" cy="387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Data Explan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 rot="10779000">
            <a:off x="604440" y="4720680"/>
            <a:ext cx="807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lex Chemical Reaction Mode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2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3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rved p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Feat. Sp. (lives in 3-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Reactions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Curve lies in 3-dim’al subs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43000" y="1028880"/>
            <a:ext cx="7010280" cy="375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Data Explan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 rot="10779000">
            <a:off x="604440" y="4720680"/>
            <a:ext cx="807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More Complex Chemical Reaction Mode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2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3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4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rved p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Feat. Sp. (lives in 4-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Reactions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Curve lies in 4-dim’al subs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10640" cy="375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Contro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0880" y="885960"/>
            <a:ext cx="8458200" cy="59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Contro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3640" y="903240"/>
            <a:ext cx="786456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 from Toy Examp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ly 3 reactions under 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be a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to distinguish from noi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statistical open problem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903240"/>
            <a:ext cx="815328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the other experiments?  Recal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d 59 days in Dry 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d 27 days in Humid 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d 59 days in Humid 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ve results were “cherry picked”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st makes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cases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Matrix, Contro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5867280"/>
            <a:ext cx="81532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5867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ve E.g., maybe ~4d curve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~4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8921" t="6315" r="8921" b="6315"/>
          <a:stretch/>
        </p:blipFill>
        <p:spPr>
          <a:xfrm>
            <a:off x="1052640" y="831960"/>
            <a:ext cx="6886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al Data Analysis, Toy EG 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Matrix, Da59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5867280"/>
            <a:ext cx="81532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5867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2 is “bleeding of CO2”, discussed be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8921" t="6315" r="8921" b="6315"/>
          <a:stretch/>
        </p:blipFill>
        <p:spPr>
          <a:xfrm>
            <a:off x="1052640" y="831960"/>
            <a:ext cx="6886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Matrix, Ha27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5867280"/>
            <a:ext cx="81532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5867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“3-d + noise”?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Only 3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8921" t="6315" r="8921" b="6315"/>
          <a:stretch/>
        </p:blipFill>
        <p:spPr>
          <a:xfrm>
            <a:off x="1052640" y="831960"/>
            <a:ext cx="6886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Matrix, Ha59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5867280"/>
            <a:ext cx="81532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5867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er to judge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8921" t="6315" r="8921" b="6315"/>
          <a:stretch/>
        </p:blipFill>
        <p:spPr>
          <a:xfrm>
            <a:off x="1052640" y="831960"/>
            <a:ext cx="6886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bject Space View, Contro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5867280"/>
            <a:ext cx="81532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5867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ible discretization effect, despite ~4d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8921" t="6315" r="8921" b="6315"/>
          <a:stretch/>
        </p:blipFill>
        <p:spPr>
          <a:xfrm>
            <a:off x="1052640" y="831960"/>
            <a:ext cx="6886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bject Space View, Da59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5867280"/>
            <a:ext cx="81532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5867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, except strange at beginning (CO2 …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8921" t="6315" r="8921" b="6315"/>
          <a:stretch/>
        </p:blipFill>
        <p:spPr>
          <a:xfrm>
            <a:off x="1052640" y="831960"/>
            <a:ext cx="6886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bject Space View, Ha27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5867280"/>
            <a:ext cx="81532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5867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structure in PC1 Resid (d &lt;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8921" t="6315" r="8921" b="6315"/>
          <a:stretch/>
        </p:blipFill>
        <p:spPr>
          <a:xfrm>
            <a:off x="1052640" y="831960"/>
            <a:ext cx="6886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bject Space View, Ha59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5867280"/>
            <a:ext cx="81532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5867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at beginning, OK since “oldes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8921" t="6315" r="8921" b="6315"/>
          <a:stretch/>
        </p:blipFill>
        <p:spPr>
          <a:xfrm>
            <a:off x="1052640" y="831960"/>
            <a:ext cx="6886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blem with Da59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03240"/>
            <a:ext cx="815328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strange behavior for DA59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2 showed “really different behavior at star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s commen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this, should have started measuring later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28548" t="6315" r="49960" b="70736"/>
          <a:stretch/>
        </p:blipFill>
        <p:spPr>
          <a:xfrm>
            <a:off x="2362320" y="2604960"/>
            <a:ext cx="3200400" cy="24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blem with Da59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5867280"/>
            <a:ext cx="81532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5867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till fun to look at broader spec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8921" t="6315" r="8921" b="6315"/>
          <a:stretch/>
        </p:blipFill>
        <p:spPr>
          <a:xfrm>
            <a:off x="1052640" y="831960"/>
            <a:ext cx="6886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. S. Joint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990720"/>
            <a:ext cx="830592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w them all together as big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Point Cloud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sy way to do these analy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523880"/>
            <a:ext cx="830556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software (user friendly?) availab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stat.unc.edu/postscript/papers/marron/Matlab7Software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 &amp; put in Matlab Pa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irst a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datSM.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tplotSM.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. S. Joint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01000" cy="565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. S. Joint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990720"/>
            <a:ext cx="830592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w them all together as big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Point Cloud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4d space of interest, driven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clusters (3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1 of chemical reaction  (1-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se don’t appear as the 4 P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. PC1 “spread over PC2,3,4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ly a “rotation of interesting dir’n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“unrotate”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. S. Joint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990720"/>
            <a:ext cx="83059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Variatio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cluster m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clear comparison of within cur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. S. Joint View (- mean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76960" cy="570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. S. Joint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990720"/>
            <a:ext cx="830592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Variatio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cluster m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clear comparison of within cur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1 versus others are quite revea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e different “rotations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 don’t show so mu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mography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31440" y="1066680"/>
            <a:ext cx="8094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oint Work with:    Andres Alon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v. Carlos III, Madr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tality, as a function of 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ance of dying”, for Males, in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each 1-year age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es are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08 -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PCA of the family of cu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emography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31440" y="1143000"/>
            <a:ext cx="8094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PCA of the family of curves for 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bies &amp; elderly “most mortal”  (Ra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getting better over time (Raw &amp; PC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cept 1918  -  Influenza Pande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ee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2"/>
              </a:rPr>
              <a:t>Color Sca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ddle age most mortal   (PC2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rly 1930s  -  Spanish Civil W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80 – 1994 (then better) auto wre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cade Rounding (several plac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mography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PCA for Females in Spa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aspects simi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ee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2"/>
              </a:rPr>
              <a:t>Color Sca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War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eady improvement until 70s  (PC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n auto accidents kick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mography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PCA for Males in Switzerland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aspects simi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decade rounding (better record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18  Flu – Different Color   (PC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ee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2"/>
              </a:rPr>
              <a:t>Color Sca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War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eady improvement until 70s  (PC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n auto accidents kick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mography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:  Rows and Columns trade pl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mographic Primal View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es are Years, Coord’s are 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mographic Dual View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es are Ages, Coord’s are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Dual PCA View, Spanish 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Time Series of Curv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gain a “Set of Curv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But 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Time Ord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is Importan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n 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to code fo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tart                                                        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18946" t="26764" r="18946" b="57989"/>
          <a:stretch/>
        </p:blipFill>
        <p:spPr>
          <a:xfrm>
            <a:off x="2057400" y="4419720"/>
            <a:ext cx="5445000" cy="18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mography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Dual PCA View, Spanish 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-4431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ld people have const. mortality (ra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-4431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improvement for rest (ra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-4431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d for 1918 (flu) &amp; Spanish Civil War, but generally improving (me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-4431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roves for ages 1-6, then worse (PC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-4431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g Improvement for young (PC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-4431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2"/>
              </a:rPr>
              <a:t>Age Color Ke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east Cell Cycle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 Expression” – Micro-array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(aft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jo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eprocessing):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ression “level”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ousands of genes    (d ~ 1,000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only dozens of “cases”   (n ~ 10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esting statistical iss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igh Dimension Low Sample Siz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(HDLS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east Cell Cycle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ellman, P. T., Sherlock, G., Zhang, M.Q., Iyer, V.R., Anders, K., Eisen, M.B., Brown, P.O., Botstein, D. and Futcher, B. (1998), “Comprehensive Identification of Cell Cycle-regulated Genes of the Yeas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ccharomyces cerevisiae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Microarray Hybridization”,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lecular Biology of the Cel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9, 3273-3297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east Cell Cycle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alysis here is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hao, X., Marron, J.S. and Wells, M.T. (2004) The Functional Data View of Longitudinal Data,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 Sinic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14, 789-808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east Cell Cycle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b experim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ically “synchronize cell cycles”, of yeast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 cDNA micro-arrays over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d 18 time points, over “about 2 cell cycl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udied 4,489 genes  (whole geno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ime series view of data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,489 time series of length 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al Data View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,489 “curves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east Cell Cycle Data, FDA View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09120" y="5562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ral ques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genes are “periodic” over 2 cell cycl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13382" t="15157" r="16058" b="12631"/>
          <a:stretch/>
        </p:blipFill>
        <p:spPr>
          <a:xfrm>
            <a:off x="1568520" y="1117440"/>
            <a:ext cx="58611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east Cell Cycle Data, FDA View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14300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iod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ï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0" t="11598" r="0" b="0"/>
          <a:stretch/>
        </p:blipFill>
        <p:spPr>
          <a:xfrm>
            <a:off x="3429000" y="866880"/>
            <a:ext cx="5270400" cy="66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east Cell Cycle Data, FDA 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ral question:    which genes are “periodic” over 2 cell cycl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ïve approach:      Simple P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apparent (2 cycle) periodic structu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igenvalues suggest large amount of “variat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inds “directions of maximal variat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ten, but not always, same as “interesting direction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re need better approach to study periodic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east Cell Cycles, Freq. 2 Proj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0" t="11598" r="0" b="0"/>
          <a:stretch/>
        </p:blipFill>
        <p:spPr>
          <a:xfrm>
            <a:off x="3581280" y="1009800"/>
            <a:ext cx="5220000" cy="6534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762120" y="1523880"/>
            <a:ext cx="23619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A 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east Cell Cycles, Freq. 2 Proj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n periodic component of data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rd to see periodicities in raw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very clear in PC1 (~sin) and PC2 (~c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 and PC2 explain 65% of variation   (see residu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linear combos of sin and cos capture “pha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c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371600" y="6095880"/>
                <a:ext cx="7010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ime Series Toy E.g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523880"/>
            <a:ext cx="83055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Question of Eli Broadhurs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Horizontal Motion Linear Variation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  Se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me shif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ussian dens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:    Code time with colors as ab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equency 2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features of data appear only at frequency 2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nce project data onto 2-dim space of sin and cos (freq.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view:  scatter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equency 2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960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equency 2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 data onto 2-dim space of sin and cos (freq.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view:  scatterpl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gle (in polar coordinates) shows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ors:  Spellman’s cell cycle phase class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lack was labeled “not periodic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in class phases approx’ly same, but notable dif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ter will try to improve “phase classificat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. S. Toy E.g., Raw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11598" r="0" b="0"/>
          <a:stretch/>
        </p:blipFill>
        <p:spPr>
          <a:xfrm>
            <a:off x="762120" y="1101600"/>
            <a:ext cx="7638840" cy="956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. S. Toy E.g., PCA 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0104" t="12490" r="6315" b="0"/>
          <a:stretch/>
        </p:blipFill>
        <p:spPr>
          <a:xfrm>
            <a:off x="4419720" y="914400"/>
            <a:ext cx="4541760" cy="6735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1143000"/>
            <a:ext cx="144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990720"/>
            <a:ext cx="41148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A gives “Mode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re are Many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uitively Useful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“harmonics”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n’t there on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 mod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f var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comes in 2-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pl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. S. Toy E.g., PCA Scatterplo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76960" cy="570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 </cp:lastModifiedBy>
  <dcterms:modified xsi:type="dcterms:W3CDTF">2005-09-01T04:30:34Z</dcterms:modified>
  <cp:revision>75</cp:revision>
  <dc:subject/>
  <dc:title>Title</dc:title>
</cp:coreProperties>
</file>