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9BB9-F807-47C2-8980-7B8DD45D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FB70-F751-4941-8271-A5F0D864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A2AF-5A8A-4752-94AC-B0DDA4AF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ACEB-F923-4923-9615-6F786D59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B1F-285E-4123-A928-6785CDDE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410E-B23D-4C4E-A5F5-B85FF6F6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ACF4-9ED1-44EC-944E-EB952DEB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6D68-F6CB-4434-BAB5-774AEF1F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DC5F-821E-41A9-AD31-E2477040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C5B-1021-49DE-BADC-27E4F462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3A4F-3561-4627-A4F6-C9D7D93E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4846-7B11-44A1-B6A2-640DD464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E5B6-C293-4439-8BDA-8905FBE126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ished NCI 60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ar Algebra Re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variate Probability Re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as an Optimization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Eigen-decomp. give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tatio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easy sol’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ed Mathematics &amp; Graph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 Math to Graphic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990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d Toy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Space               Object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8921" t="21472" r="12490" b="21472"/>
          <a:stretch/>
        </p:blipFill>
        <p:spPr>
          <a:xfrm>
            <a:off x="1143000" y="1905120"/>
            <a:ext cx="6886440" cy="35305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85800" y="5410080"/>
            <a:ext cx="8153280" cy="13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t SS Decomposition for PC1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2 has “only a little var’n”  =  7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or approx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Object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648320" y="3962160"/>
            <a:ext cx="1904760" cy="2438280"/>
          </a:xfrm>
          <a:prstGeom prst="line">
            <a:avLst/>
          </a:prstGeom>
          <a:ln w="158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fferent Views of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990720"/>
            <a:ext cx="868680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s several optimization proble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 to maximize SS of 1-d proj’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 to minimize SS of residu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ame, by Pythagorean Theore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fit line” to data in “orthogonal s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vs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gression of Y on 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 vertical se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gression of X on 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horizontal sen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ne that makes sense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fferent Views of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990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d Toy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Space               Object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8921" t="21472" r="12490" b="21472"/>
          <a:stretch/>
        </p:blipFill>
        <p:spPr>
          <a:xfrm>
            <a:off x="1143000" y="1905120"/>
            <a:ext cx="6886440" cy="3530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85800" y="5410080"/>
            <a:ext cx="8153280" cy="13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 SS of Projected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 SS of Residu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Fit 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3200040" y="3962160"/>
            <a:ext cx="228600" cy="1523880"/>
          </a:xfrm>
          <a:prstGeom prst="line">
            <a:avLst/>
          </a:prstGeom>
          <a:ln w="158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048120" y="4038480"/>
            <a:ext cx="0" cy="1828800"/>
          </a:xfrm>
          <a:prstGeom prst="line">
            <a:avLst/>
          </a:prstGeom>
          <a:ln w="158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286000" y="4495320"/>
            <a:ext cx="1447920" cy="17528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Data Repres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219320"/>
            <a:ext cx="8458200" cy="34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Expand Data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erms of inner prod’ts &amp; eigenv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not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alue expansion (centered data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895480" y="2895480"/>
                <a:ext cx="54104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bar>
                                  <m:r>
                                    <m:t xml:space="preserve">−</m:t>
                                  </m:r>
                                  <m:bar>
                                    <m:barPr>
                                      <m:pos m:val="bot"/>
                                    </m:barPr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</m:ba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bar>
                                  <m:r>
                                    <m:t xml:space="preserve">−</m:t>
                                  </m:r>
                                  <m:bar>
                                    <m:barPr>
                                      <m:pos m:val="bot"/>
                                    </m:barPr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</m:bar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717640" y="4800600"/>
                <a:ext cx="317664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ν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acc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680160" y="6207120"/>
                <a:ext cx="406440" cy="2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267080" y="6248520"/>
                <a:ext cx="419400" cy="20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×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 flipV="1">
            <a:off x="4495680" y="5562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5943240" y="56386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Data Represent’n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1219320"/>
            <a:ext cx="8458200" cy="51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us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alue expansion (raw data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ies of         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a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ies of         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c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429000" y="1981080"/>
                <a:ext cx="31417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acc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838080" y="3657600"/>
                <a:ext cx="734868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acc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acc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ν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acc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</m:nary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acc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8381880" y="5181480"/>
                <a:ext cx="406440" cy="2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238880" y="5410080"/>
                <a:ext cx="419400" cy="2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×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 flipV="1">
            <a:off x="7467480" y="4419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8001000" y="44953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743200" y="5257800"/>
                <a:ext cx="438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743200" y="5867280"/>
                <a:ext cx="4395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Data Represent’n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447920"/>
            <a:ext cx="8458200" cy="28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focus on individual data vecto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art of above full matrix rep’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048120" y="2286000"/>
                <a:ext cx="287964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acc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Data Represent’n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1447920"/>
            <a:ext cx="845820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d Rank Represent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ruct using only      te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ssuming decreasing eigenvalu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:   rank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pproxi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to PC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 re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PCA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 comp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(~  .zi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505320" y="2133720"/>
                <a:ext cx="287964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acc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800600" y="3352680"/>
                <a:ext cx="3142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048120" y="4648320"/>
                <a:ext cx="3124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Data Represent’n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1447920"/>
            <a:ext cx="845820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of        in Reduced Rank Represent’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ry slipp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EE plot (Kruskal 1964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n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power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362320" y="1447920"/>
                <a:ext cx="3142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66947" t="11598" r="6315" b="71638"/>
          <a:stretch/>
        </p:blipFill>
        <p:spPr>
          <a:xfrm>
            <a:off x="5867280" y="3962520"/>
            <a:ext cx="2745000" cy="24397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590920" y="3886200"/>
            <a:ext cx="3429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019920" y="601956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019920" y="61722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Data Represent’n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1447920"/>
            <a:ext cx="845820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EE plot drawback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kne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there are sever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ees depend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ca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(power?  Log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sugges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uxilliary cutoffs (inter-rater vari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full range (ala scale spa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Simu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1219320"/>
            <a:ext cx="8001000" cy="51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giv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Vector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e data from corresponding Norm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 Invert PCA Data Represent’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600200" y="5638680"/>
                <a:ext cx="304812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acc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rad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781680" y="5791320"/>
                <a:ext cx="1962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038480" y="1828800"/>
                <a:ext cx="336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038480" y="2590920"/>
                <a:ext cx="12128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962520" y="3276720"/>
                <a:ext cx="14205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ass Listserv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ested on Thursday Evening, 9/8/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f you di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get the emai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lease add yourself to the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 Instructions at bottom of Class Web P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ttp://www.unc.edu/~marron/UNCstat322-2005/HomePage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ternate PCA Compu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sue:  for HDLSS data  (recall     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y be quite larg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us slow to work with, and to comp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about a shortcu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ach:   Singular Value Decom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f Data Matrix  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172200" y="1200240"/>
                <a:ext cx="9144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&gt;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990720" y="1828800"/>
                <a:ext cx="361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5392800" y="1905120"/>
                <a:ext cx="95076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×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505320" y="5105520"/>
                <a:ext cx="5173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ternate PCA Compu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gular Value Decomposi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         unit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         unit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diag’l matrix of singular val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sume:   decreasing singular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057400" y="3352680"/>
                <a:ext cx="258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057400" y="2666880"/>
                <a:ext cx="3078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400800" y="1143000"/>
                <a:ext cx="19461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US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981080" y="4038480"/>
                <a:ext cx="28116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3200400" y="2666880"/>
                <a:ext cx="7747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×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200400" y="3352680"/>
                <a:ext cx="82548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952880" y="5334120"/>
                <a:ext cx="27036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⋯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ternate PCA Compu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gular Value Decomposi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Relation to Eigen-analysis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us h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eigenvector matri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eigenval’s are squares of singular val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7086600" y="1752480"/>
                <a:ext cx="3189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6324480" y="1066680"/>
                <a:ext cx="18288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S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523880" y="2666880"/>
                <a:ext cx="64771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US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US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890800" y="5283360"/>
                <a:ext cx="385452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7162920" y="3886200"/>
                <a:ext cx="414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ternate PCA Compu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gular Value Decomposition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utational advantag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act form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only need to f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-vec’s         e-val’s        scores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 components not use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can be much faster for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486400" y="5943600"/>
                <a:ext cx="10666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6324480" y="1066680"/>
                <a:ext cx="18288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S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124080" y="3048120"/>
                <a:ext cx="34527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 flipV="1">
            <a:off x="2819520" y="35809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49528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6476760" y="36572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ternate PCA Compu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other Variation:    Du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tivation:  Recall for demography da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ful to view a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Rows a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Columns a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4114800" y="3657600"/>
                <a:ext cx="4800600" cy="21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5181480" y="3962520"/>
            <a:ext cx="30481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81480" y="5410080"/>
            <a:ext cx="30481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81480" y="4724280"/>
            <a:ext cx="30481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62720" y="3657600"/>
            <a:ext cx="0" cy="205740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629400" y="3657600"/>
            <a:ext cx="0" cy="205740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0120" y="3657600"/>
            <a:ext cx="0" cy="205740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ternate PCA Compu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ful terminology (from optimization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PCA problem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   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Columns a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al PCA problem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  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Rows a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4114800" y="3657600"/>
                <a:ext cx="4800600" cy="21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5181480" y="3962520"/>
            <a:ext cx="30481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81480" y="5410080"/>
            <a:ext cx="30481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81480" y="4724280"/>
            <a:ext cx="30481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62720" y="3657600"/>
            <a:ext cx="0" cy="205740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629400" y="3657600"/>
            <a:ext cx="0" cy="205740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620120" y="3657600"/>
            <a:ext cx="0" cy="205740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ternate PCA Compu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al PCA Comput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 as above, but replace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ca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mos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ep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n use SVD,                   ,  to ge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6400800" y="1981080"/>
                <a:ext cx="4572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105520" y="3276720"/>
                <a:ext cx="14475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3733920" y="4572000"/>
                <a:ext cx="19461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US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609480" y="5257800"/>
                <a:ext cx="82296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USV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SV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SU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US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2743200" y="2514600"/>
                <a:ext cx="5144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895480" y="3886200"/>
                <a:ext cx="17719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ternate PCA Compu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ears to be cool symmet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D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adings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Scores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, there is a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ith the mean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5791320" y="3657600"/>
                <a:ext cx="3744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3505320" y="3657600"/>
                <a:ext cx="4348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 different “mean vectors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Primal Mean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Mean of Col. Vec’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Dual Mean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Mean of Row Vec’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5181480" y="3200400"/>
                <a:ext cx="377208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5" name=""/>
          <p:cNvSpPr/>
          <p:nvPr/>
        </p:nvSpPr>
        <p:spPr>
          <a:xfrm>
            <a:off x="6248520" y="3200400"/>
            <a:ext cx="0" cy="16765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62920" y="3200400"/>
            <a:ext cx="0" cy="16765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924680" y="3200400"/>
            <a:ext cx="0" cy="16765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19920" y="3429000"/>
            <a:ext cx="228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19920" y="3962520"/>
            <a:ext cx="228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19920" y="4572000"/>
            <a:ext cx="228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3429000" y="3886200"/>
                <a:ext cx="380880" cy="1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×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3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1828800" y="2819520"/>
                <a:ext cx="205740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25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657600" y="6337440"/>
                <a:ext cx="380880" cy="1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905120" y="5257800"/>
                <a:ext cx="19810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 flipH="1" flipV="1">
            <a:off x="3657600" y="59436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2437920" y="5943600"/>
            <a:ext cx="1295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2362320" y="35053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3504960" y="350532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Primal PCA, based on SVD of Primal Dat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Dual PCA, based on SVD of Dual Dat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similar, excep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cente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row – column interpre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3048120" y="1863720"/>
                <a:ext cx="28954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37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2513160" y="3524400"/>
                <a:ext cx="41083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Redistribution of Ener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990720"/>
            <a:ext cx="8686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ient summary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mount of struc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Sum of Squ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Interpet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tal Energy in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ight comes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com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Terminolog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of VAriance  (ANOV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789520" y="1415880"/>
                <a:ext cx="12207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ndom Curves, all in Primal Spa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* Constant Sh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* Linea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* Quadr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b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hosen to be orthonorm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lus (small) i.i.d. Gaussian no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 = 40,  n = 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1295280" y="2362320"/>
                <a:ext cx="7621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1600200" y="2971800"/>
                <a:ext cx="2746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1371600" y="3505320"/>
                <a:ext cx="5652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    Raw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010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    Raw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(Col.) curves similar to bef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mat’x asymmetric (but same curv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al (Row) curves much rougher (showing Gaussian randomnes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data were gener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lor map useful?  (same as mesh vie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e richer structure than bef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it usefu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lumn Cur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rcRect l="12631" t="13382" r="6315" b="9813"/>
          <a:stretch/>
        </p:blipFill>
        <p:spPr>
          <a:xfrm>
            <a:off x="4330800" y="1009800"/>
            <a:ext cx="43164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    Prim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ected to recover increasing poly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didn’t happ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though can see the poly’s (order??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has quad’ic (since only n = 20??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ores (proj’ns) very rand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wer Spectrum shows 4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affect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y subtracting Primal Me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w Cur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rcRect l="12631" t="13382" r="6315" b="9813"/>
          <a:stretch/>
        </p:blipFill>
        <p:spPr>
          <a:xfrm>
            <a:off x="4330800" y="1009800"/>
            <a:ext cx="43164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    Du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es all very wiggly 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ndom nois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much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gg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  54% of Total Va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ores hav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 smooth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eflecting ordered primal e.v.’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ecall primal e.v.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dual scor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wer Spectrum shows 3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iven b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btraction Dual Me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– Dual mean difference is crit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    Dual PCA – Scatter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010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    Dual PCA - Scatter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ooth Curve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no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ual cur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ince 1-d curves not quite poly’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only in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3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only 3 non-noise 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tant curv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ent in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ean (du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mainder is pure no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ggests wrong rotation of axes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ype of Analy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lled “SVD decompositio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point:   subtrac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neither m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ewed as a serious compet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dvantage:  give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st Mean Square Approximation of Data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s. Primal PCA:  best about col. M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s. Dual PCA:  best about row M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fference in means is critic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Redist’n of Energy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990720"/>
            <a:ext cx="8686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VA mean decomposi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Variation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Mean Variation + Mean Residual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s:    Pythagorean Theo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uition Quantified via Sums of Squ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752480" y="3429000"/>
                <a:ext cx="47786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ba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676520" y="2438280"/>
            <a:ext cx="609480" cy="1143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2971800"/>
            <a:ext cx="1371600" cy="6094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791320" y="3048120"/>
            <a:ext cx="380880" cy="685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      SVD – Curves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67480" cy="52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    SVD Curves Vie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l. Curves view similar to Prim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w Curves quite different (from dual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mer mean, now SV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mer PC1, now SV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very similar shapes with shifted ind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a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ean centering is cru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difference between PCAs and SV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     SVD – Mesh-Image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67480" cy="52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    SVD Mesh-Image Vie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ink abou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composition into modes of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tant  x  Gaussi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ar x Gaussi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bic by Gaussi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adra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ows up best in image vie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y is ordering “wrong”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    All Prim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y is SVD mode ordering “wrong”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ell, not expected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y is nee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thogo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esent in space of column cur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onl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ximat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row Gaussi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licit orthogonalizatio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SVD (both rows and columns) gave mixture of the poly’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2:    All Primal, GS Noi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rted with same column spa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ted i.i.d. Gaussians for row c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n did Graham-Schmidt Ortho-normalization (i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w spac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sual impression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mazingly similar to original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used same seeds of random # generato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2:       Raw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010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are with Earlier Toy Example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010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lumn Cur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ows Expla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f wro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on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s corr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rcRect l="12631" t="13382" r="6315" b="9813"/>
          <a:stretch/>
        </p:blipFill>
        <p:spPr>
          <a:xfrm>
            <a:off x="4330800" y="1009800"/>
            <a:ext cx="43164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w Cur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ill have big m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Scores l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ch b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rcRect l="12631" t="13382" r="6315" b="9813"/>
          <a:stretch/>
        </p:blipFill>
        <p:spPr>
          <a:xfrm>
            <a:off x="4330800" y="1009800"/>
            <a:ext cx="43164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 Math to Graphic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990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d Toy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Space               Object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8921" t="21472" r="12490" b="21472"/>
          <a:stretch/>
        </p:blipFill>
        <p:spPr>
          <a:xfrm>
            <a:off x="1143000" y="1905120"/>
            <a:ext cx="6886440" cy="3530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5257800"/>
            <a:ext cx="81532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iduals from 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 Data –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Variation  =  92%    is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Mean Variation  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ning Variation  =  8%    is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id. Var.  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81080" y="4038120"/>
            <a:ext cx="1676520" cy="12956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3504960" y="4495320"/>
            <a:ext cx="144756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2819160" y="3886200"/>
            <a:ext cx="3352680" cy="1447920"/>
          </a:xfrm>
          <a:prstGeom prst="line">
            <a:avLst/>
          </a:prstGeom>
          <a:ln w="158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2:    Dual PCA – Scatter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010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2:    Dual PCA - Scatterplo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w poly’s look beautifully symme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ch like chemo spectrum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still only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 reason, dual mean ~ primal const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st one is pure no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2:    SVD – Matrix-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010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2:    SVD  -  Matrix-Imag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ilar Good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ain have all 4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“better” to not subtract mean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Redist’n of Energy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990720"/>
            <a:ext cx="8686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decompose SS about the m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expressed in trace of covar’ce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62120" y="1981080"/>
                <a:ext cx="716256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ba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ba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bar>
                            <m:r>
                              <m:t xml:space="preserve">−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bar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133720" y="3352680"/>
                <a:ext cx="49528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bar>
                                  <m:r>
                                    <m:t xml:space="preserve">−</m:t>
                                  </m:r>
                                  <m:bar>
                                    <m:barPr>
                                      <m:pos m:val="bot"/>
                                    </m:barPr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</m:ba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bar>
                                  <m:r>
                                    <m:t xml:space="preserve">−</m:t>
                                  </m:r>
                                  <m:bar>
                                    <m:barPr>
                                      <m:pos m:val="bot"/>
                                    </m:barPr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</m:bar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447920" y="4419720"/>
                <a:ext cx="624816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ba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tr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tr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Redist’n of Energy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638680" y="3733920"/>
                <a:ext cx="2365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304920" y="1219320"/>
            <a:ext cx="8686800" cy="52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alues provi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oms of SS decomposi’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seful Plo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Spectrum”:       v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Power Spectrum”:              v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mulative Power Spectrum”:           v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PCA gives SS’s for free (as eigenvalues)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atch factors of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762120" y="1371600"/>
                <a:ext cx="74674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ba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086600" y="4343400"/>
                <a:ext cx="2365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8305920" y="4952880"/>
                <a:ext cx="2365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419720" y="3657600"/>
                <a:ext cx="430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029200" y="4267080"/>
                <a:ext cx="12193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629400" y="4648320"/>
                <a:ext cx="8319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705720" y="6019920"/>
                <a:ext cx="914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Redist’n of Energy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7621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, have already considered some of the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seful P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ower Spectr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umulative Power Spectr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12490" r="0" b="0"/>
          <a:stretch/>
        </p:blipFill>
        <p:spPr>
          <a:xfrm>
            <a:off x="685800" y="1979640"/>
            <a:ext cx="7736040" cy="9602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572000" y="1752480"/>
            <a:ext cx="2057400" cy="5335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71800" y="1371600"/>
            <a:ext cx="3657600" cy="1828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 Math to Graphic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990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d Toy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Space               Object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8921" t="21472" r="12490" b="21472"/>
          <a:stretch/>
        </p:blipFill>
        <p:spPr>
          <a:xfrm>
            <a:off x="1143000" y="1905120"/>
            <a:ext cx="6886440" cy="3530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85800" y="5410080"/>
            <a:ext cx="8153280" cy="13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t SS Decomposition for PC1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1 has “most of var’n”  =  93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ood approx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Object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648320" y="4191120"/>
            <a:ext cx="1904760" cy="2209680"/>
          </a:xfrm>
          <a:prstGeom prst="line">
            <a:avLst/>
          </a:prstGeom>
          <a:ln w="158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 </cp:lastModifiedBy>
  <dcterms:modified xsi:type="dcterms:W3CDTF">2005-09-14T00:45:20Z</dcterms:modified>
  <cp:revision>321</cp:revision>
  <dc:subject/>
  <dc:title>Title</dc:title>
</cp:coreProperties>
</file>