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C43-6CC6-4934-94C5-CAE373C4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697-88B1-4F27-81B4-289F8146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416-4ED1-40F5-BE05-314DCDA8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FE5-F244-4BF0-9E11-53BECE07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EB5-9336-431E-B49F-F4F507B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61F-5F86-41B1-BE31-08F2254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3A2-6201-4D16-9DCD-D81B120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DE8-60B7-4744-A8BC-839882C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A08-9074-42F3-A293-EBC5F16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FDE-824D-4292-AEEA-D0C2EED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45A-A8C3-4043-B724-B7326CE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92E-29B3-4FF7-B3DB-6DDF1C2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67C-2E79-4428-A609-D48B08209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eanho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ribution of Energy - A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– Dual PCA    vs.    S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entering by means is ke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SVD –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Mystery 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cture:        Primal      -       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bola 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   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cely revealed by Full Matrix decomposition and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   Mystery #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SVD – Curves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SVD –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Mystery #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cture:        Primal      -       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          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bola             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ible via either curves, or matric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SVD (i.e. no mean cen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“better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“better”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defini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vides most useful insights in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where SVD is less inform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Two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is subtraction of mean is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Mean dir’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PC 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Mean Les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where SVD is less inform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mode of variation (centered 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ields useful maj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Curves, all in Dual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* Constant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* Lin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* Quadr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 *  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hosen to be orthonorm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(small) i.i.d. 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40,  n =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de of variation (centered 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rmative 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1 mode of variation (centered at 0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ntuitive maj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2 mode of variation (centered at 0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ntuitive 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SV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give a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sum of two pieces i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t good insights about data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center point of analysis is far from center poin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me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influen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e impression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be better to keep these separate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line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   vs.   SVD   vs.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mparab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has situations where it is “bes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where it is “wors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should consider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choose on basis of ins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work of Lingsong Zhang on thi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verall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(functions)      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g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41972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37920" y="495288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095880"/>
            <a:ext cx="441972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    Digit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function        ,  define vect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is a suitabl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equally spac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57600" y="179244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265880" y="1379520"/>
                <a:ext cx="10368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981080" y="3429000"/>
                <a:ext cx="1676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419720" y="4375080"/>
                <a:ext cx="4190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    Parallel Coordin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vector        ,  define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ly interpol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“connect the do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Dimensional Visualization Metho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Inselberg (198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96080" y="2362320"/>
                <a:ext cx="989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352680" y="1676520"/>
                <a:ext cx="830520" cy="17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7360" y="3505320"/>
                <a:ext cx="4284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       ,  def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can “rescale argume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get function on [0,1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aluated a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ly spaced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752480" y="1676520"/>
                <a:ext cx="830520" cy="17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67080" y="2286000"/>
                <a:ext cx="428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3657600"/>
                <a:ext cx="2590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dge between vectors &amp;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Fun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metr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llows from convergenc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imann Su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8600" y="4724280"/>
                <a:ext cx="8686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≈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543800" y="1066680"/>
                <a:ext cx="73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   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e,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ttl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is a statistical theory, and mathematical statistical literature on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 with Ramsay &amp; Silverman  (200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verall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(functions)      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g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441972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437920" y="495288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6095880"/>
            <a:ext cx="441972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n orthonorm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 function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-sp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ve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410080" y="5181480"/>
                <a:ext cx="3030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867280" y="1676520"/>
                <a:ext cx="2819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dge between discrete and continu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410080" y="1752480"/>
                <a:ext cx="2857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19520" y="3886200"/>
                <a:ext cx="419076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te dimensional approxi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there is mathematical statistical theory, based on                  (same ref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334120" y="1676520"/>
                <a:ext cx="28573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3581280"/>
                <a:ext cx="2895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267080" y="5410080"/>
                <a:ext cx="733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eat Main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e,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ttl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only personal tas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Data Set:    Corpus Callossum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” between right and left halves of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a vertical slice MR image of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gmented” (ie. found bou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 is resulting closed cu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ample from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= 7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 vector of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8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oeffic’ts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losed curve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819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Sean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733920" y="1676520"/>
            <a:ext cx="49989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sh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olution a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s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Data Sub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izophr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4238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mmary    (Corpus Callossum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is “overall bend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s studied later (sub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outlier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it in the dat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 2:    could delete &amp; rep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tudy outliers in more deta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    Raw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Structure to e.g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now cubic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ly domin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s expec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time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 identif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548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sh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olution a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s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4299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Summary    (Corpus Callossum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ion of righ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rpening” of lef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” of lef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re correlated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dependent of PC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 vs. f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4475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to 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3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548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r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 im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57150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mmary      (medial represen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same data as above Fourier boundary rep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y look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different type of fitting was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, worst outlier was de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124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as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’d with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 fatt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105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ion of 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to PC2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rep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181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i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of Fou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’n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2736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 S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s expec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Summary      (medial represen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atic “distortion of curvat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tim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above Fourier boundary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on: different rep’ns focus on different aspect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not just differences in 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stead on features that are emphas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choice of “features”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import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ttening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e to Fou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’n 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273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 Summary      (medial represent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like fattening and thi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similar to Fourier boundary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view again be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“more local”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important property of M-r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Comparis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PC4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4475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. vs. discre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say something about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Gram-Schmi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str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    SVD –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  Mystery 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SVD – Curves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15T02:19:46Z</dcterms:modified>
  <cp:revision>354</cp:revision>
  <dc:subject/>
  <dc:title>Title</dc:title>
</cp:coreProperties>
</file>