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262-35AE-46CB-87E7-AE4AB2E9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59C-5F42-437D-AB58-6035E427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574-4043-45D9-930F-36D5EC24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02B-9E86-44B3-9F47-546DDA97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40C-FA96-453B-9FC3-9B8F2102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6F6-A045-45B7-98E5-9DAEB19D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21F-B0A1-44FB-BE07-C8CC8DAE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90F-542C-4290-A5C3-20264B07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99F-2C8F-4C00-8392-1124C180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96B-434F-443A-8143-2BE56C94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D72-E355-4CB5-AA07-C36CEE54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32E-A495-40C5-B2CD-0227A12D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0A5A-6D55-40CA-BE1B-4D367CF1B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Movies/NORM200.MP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ovies/NORM200.MPG" TargetMode="External"/><Relationship Id="rId2" Type="http://schemas.openxmlformats.org/officeDocument/2006/relationships/hyperlink" Target="file:///Movies/NORMLWR.MPG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Movies/NORM300.MPG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Movies/NORM400.MPG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ovies/NORMLWR.MPG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Movies/NORMLWR.MPG" TargetMode="External"/><Relationship Id="rId2" Type="http://schemas.openxmlformats.org/officeDocument/2006/relationships/hyperlink" Target="file:///Movies/NORM200.MPG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ies/NORM100.MPG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ovies/NORM100.MPG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ovies/NORM200.MP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Movies/NORM200.MP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– Dual PCA    vs.    S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t compar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(discrete)  vs.  Functions (contin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 – Corpus Callossum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oundary Re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Single Outlier Driving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657440"/>
            <a:ext cx="6934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ffected by Outli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bad is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1:  Statistician:     Arrggghh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ar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arbitrary and meaningless dir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es 4% of MR SS 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ffected by Outli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bad is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2:  Ophthalmologist:   No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 “edge effects” (se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tifact of “light reflection” data gathe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“eyelid blocking”, and drying eff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utinely “visually ignore” those any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nd interesting (&amp; well known) dir’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eper superior vs steeper inferi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3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ovie  (ophthalmologist’s view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ge Effect Outlier is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focusing on “central region” shows changing dir’n of astig’m (3% of MR 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the rule” (vertical) vs. “against the rule” (horizont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stigmatism is “with the ru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of rest is “against the ru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known folklor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inue with ophthalmologists view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movie version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direction of astigmatism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(i.e. “registration”) effect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to interpret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, since only 1.7% of MR 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stantially less than for PC2 &amp; PC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hthalmologists View 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Impressions / 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decomposition of population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insight into population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return to Statistician’s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can we handle these outli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 though not fatal here, can be for other exampl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Simp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 2d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02920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er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er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is that an outli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ver leaves range of other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Euclidean distance to other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ive to other di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major difference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ev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 dire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743200" y="5867280"/>
                <a:ext cx="363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705720" y="5791320"/>
                <a:ext cx="609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1981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h l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bo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“outli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rown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10104" t="11598" r="6315" b="0"/>
          <a:stretch/>
        </p:blipFill>
        <p:spPr>
          <a:xfrm>
            <a:off x="2819520" y="1066680"/>
            <a:ext cx="5303880" cy="79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:   Outer surface of the ey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r of Vision:    Curvature of Cor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Sequence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s:  Images on the unit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 as “Heat Map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Thanks to K. L. Cohen, N. Tripol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 Ophthalm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1981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0104" t="11598" r="6315" b="0"/>
          <a:stretch/>
        </p:blipFill>
        <p:spPr>
          <a:xfrm>
            <a:off x="2819520" y="1066680"/>
            <a:ext cx="5303880" cy="79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er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first glance, mean and PC1 look similar to no outlier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2 clearly driven completely by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2 scores plot (on right) gives clea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utlier diagno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er does not appear in other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PC2, now appears as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Power (upper right plot) now “spread farth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oser Look at Deeper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“influenced” a little, by the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earance of “corners” at every other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substantially “influenced” by the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ear “wiggl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can (should?) be done about outli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ext 1:  Outliers are important aspects of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y need to be highlighted in th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hough could separate into subpop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ext 2:  Outliers are “bad data”, of no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rding errors?  Other mistak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should avoid distorted view of P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 Statistical Approaches to Dealing with Outliers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 Dele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Kick ou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bad dat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Statistical method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full data se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ownweigh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bad dat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 influence, instead of “deleting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Cornea Dat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fi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PC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outlier (by looking through data (careful!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: after removal, another point dominates 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uld delete that, but then another 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ter 4th step have eliminated 10% of data (n = 43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es alternate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Statistic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main id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wnweight (instead of delete) out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large literature.  Good intro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rom different viewpoints) a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 (1981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mpel, et al (198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udte &amp; Sheather 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9480" y="3505320"/>
                <a:ext cx="363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75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ness concept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eakdown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uch of data “moved to     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“destroy estimat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 mean has breakdown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 has breakdown ½ (best possi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lu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 much more robust than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 uses al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 gets good breakdown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 vote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629400" y="1447920"/>
                <a:ext cx="484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h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eakdown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lls Me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22303" t="16420" r="40146" b="34102"/>
          <a:stretch/>
        </p:blipFill>
        <p:spPr>
          <a:xfrm>
            <a:off x="3473280" y="1830240"/>
            <a:ext cx="4692960" cy="4367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V="1">
            <a:off x="2133720" y="2743200"/>
            <a:ext cx="2133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4038480"/>
            <a:ext cx="3581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743200" y="5105160"/>
            <a:ext cx="3962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versy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median’s “equal vote” scheme good or ba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ain some inform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should only control “influence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.g. medi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mpel, et. al.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ain no usefu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uld be assigned weight 0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t done by medi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“proper robust method”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t simply delete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:    Locantore, et al (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ization (generally true for imag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challenging than for curv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can’t overl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tead view sequence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to see “population structure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an for cur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PCA type decomposition of vari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importa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ness Controversy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e “right”  (depending on contex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of major (unfortunately bitter) deba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ication to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’s model more sen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ready know      some useful info in each data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“median type” methods are sensi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886200" y="4343400"/>
                <a:ext cx="30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medi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several!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“median” generalizes in different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rdinate-wise media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wor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rotation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-d data uniform on “L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lie on convex hull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ame exam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poor notion of “center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791320" y="2590920"/>
                <a:ext cx="1904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dia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dia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medi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cont.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cial depth  (a. k. a. “data depth”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u 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int Thickness” of         dim “simplices” with corners a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ce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invariance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ow to compu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029200" y="2743200"/>
                <a:ext cx="7621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medi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cont.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i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’s         M-estim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data                    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timate “center of population”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is the usual Euclidean n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e:    use only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inimal impact by outlier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48120" y="1600200"/>
                <a:ext cx="469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352680" y="2286000"/>
                <a:ext cx="25146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029200" y="3505320"/>
                <a:ext cx="320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743200" y="4343400"/>
                <a:ext cx="522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/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495680" y="5079960"/>
                <a:ext cx="838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view of minimizer:  solu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useful viewpoint is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  “Proj’n of data onto sp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’d at      with radius   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represent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8580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2133720"/>
                <a:ext cx="50292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θ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57200" y="3886200"/>
                <a:ext cx="1219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h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038480" y="4724280"/>
                <a:ext cx="3384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629400" y="4724280"/>
                <a:ext cx="204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343400" y="5303880"/>
                <a:ext cx="42670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h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θ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the solu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the solution of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        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where projected data are cent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de sphere around until mean (of projected data) is at center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8580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809880" y="1905120"/>
                <a:ext cx="4953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θ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581280" y="3322800"/>
                <a:ext cx="5029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g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h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: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523880" y="3886200"/>
                <a:ext cx="293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de sp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ound unti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(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ed dat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at center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76212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rcRect l="22303" t="2526" r="13382" b="10104"/>
          <a:stretch/>
        </p:blipFill>
        <p:spPr>
          <a:xfrm>
            <a:off x="3537000" y="1666800"/>
            <a:ext cx="51451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itional litera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“geometric median” (long before Huber) by:  Haldane (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n unique for          by:  Milasevic and Ducharme (1987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iterative algorithm:  Gower (197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 also Sec. 3.2 of Hub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 experienc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s well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68580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886200" y="3352680"/>
                <a:ext cx="838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5943600" y="6172200"/>
                <a:ext cx="1143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for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Mean                  M-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ite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utliers still have some 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ment?    (will suggest one soo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rcRect l="41049" t="24539" r="37896" b="60232"/>
          <a:stretch/>
        </p:blipFill>
        <p:spPr>
          <a:xfrm>
            <a:off x="1600200" y="1905120"/>
            <a:ext cx="2009880" cy="20556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09480" y="1143000"/>
                <a:ext cx="376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rcRect l="18946" t="22303" r="56842" b="57989"/>
          <a:stretch/>
        </p:blipFill>
        <p:spPr>
          <a:xfrm>
            <a:off x="5557680" y="1770120"/>
            <a:ext cx="1941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have robust measure of “center”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abo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read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h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w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robu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rcRect l="21411" t="2526" r="13382" b="10104"/>
          <a:stretch/>
        </p:blipFill>
        <p:spPr>
          <a:xfrm>
            <a:off x="3144960" y="1633680"/>
            <a:ext cx="51670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e of ima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n the unit disk, not usual rectang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 is “curvatu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ong radii of circ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irection with most effect on vi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tter (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for “more curvatu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ler (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for “less curvatu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ature vec. is coeff’s of Zernike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 basi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~ Fourier basis, on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veniently represented in polar coord’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have robust measure of “center”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abo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read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h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w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robu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11367" t="11598" r="7578" b="0"/>
          <a:stretch/>
        </p:blipFill>
        <p:spPr>
          <a:xfrm>
            <a:off x="3402000" y="1560600"/>
            <a:ext cx="5253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es to Robust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Estimation of Covarian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Pursu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Estimation of Covarian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.    Component-wise Robust Covaria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problem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 to ge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-negative definit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mum Volume Ellipsoid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usseeuw &amp; Leroy (1987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quires         (in available softw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or simple defini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ine invaria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895480" y="4952880"/>
                <a:ext cx="99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Asid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difference between Fun’al Data Anal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Classical Multivariat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igh Dimension, Low Sample Siz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ample size      &lt;  dimension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Multivariate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 with “sphering data” (multiply by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       doesn’t exist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3962520" y="3352680"/>
                <a:ext cx="331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7086600" y="3276720"/>
                <a:ext cx="36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7696080" y="4633920"/>
                <a:ext cx="7621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3880" y="5334120"/>
                <a:ext cx="7621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Asid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Approach to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:     “Don’t have enough data for analysis, get mo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workable (and getting worse) for many modern sett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cal Imaging (e.g. Cornea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-arrays &amp; gene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metric spectra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2:   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Purs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focus “finding direction of greatest variabil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:  Li and Chen (198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s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estimates of “spread” are non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 in many local opt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kes search problem very challen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ecially in very high 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examples have            Guoying Li:   “I’ve heard of          , but         seems too big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572000" y="5486400"/>
                <a:ext cx="10666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2666880" y="5899320"/>
                <a:ext cx="990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4724280" y="5911920"/>
                <a:ext cx="3812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3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rcRect l="21411" t="2526" r="11598" b="10104"/>
          <a:stretch/>
        </p:blipFill>
        <p:spPr>
          <a:xfrm>
            <a:off x="3352680" y="1447920"/>
            <a:ext cx="54626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3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use “projection to sphere” idea from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data to centered spher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t Dog” of data becomes “Ice Cap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ily found by PCA (on proj’d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lled in to reduce 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us of sphere unimport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for Toy 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re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ven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rcRect l="11367" t="11598" r="7578" b="0"/>
          <a:stretch/>
        </p:blipFill>
        <p:spPr>
          <a:xfrm>
            <a:off x="3402000" y="1560600"/>
            <a:ext cx="5253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for Toy 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rcRect l="11367" t="11598" r="7578" b="0"/>
          <a:stretch/>
        </p:blipFill>
        <p:spPr>
          <a:xfrm>
            <a:off x="3402000" y="1560600"/>
            <a:ext cx="5253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Representation   -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xels as features is large and wast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al to find more efficient represent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ar Coordinate Tensor Produc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asis (angul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Jacobi (radial, to avoid singulari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wiegerling, Greivenkamp &amp; Miller (1995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rn &amp; Wolf (1980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for Toy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looks “smooth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nearly “flat” (unaffected by outli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is nearly “tilt” (again unaffected by outli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 finally strongly driven by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, since all other directions “about equal in variation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ergy Plot, no longer order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utlier drives SS, b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dire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for Toy 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ck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rcRect l="11367" t="28102" r="7578" b="0"/>
          <a:stretch/>
        </p:blipFill>
        <p:spPr>
          <a:xfrm>
            <a:off x="3352680" y="1930320"/>
            <a:ext cx="52531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Order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ither PC3 nor PC4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tch all of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effect of this down-weighting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     lines show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er of spher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     symbols show “SS for curv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flects visual im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tter are not monotonic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lect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d influ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perty of spherical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905120" y="2590920"/>
                <a:ext cx="533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905120" y="3193920"/>
                <a:ext cx="5331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       M-estimate for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Mean                  M-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ite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utliers still have some 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onto sphe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orts the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rcRect l="41049" t="24539" r="37896" b="60232"/>
          <a:stretch/>
        </p:blipFill>
        <p:spPr>
          <a:xfrm>
            <a:off x="1600200" y="1905120"/>
            <a:ext cx="2009880" cy="205560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1828800" y="1143000"/>
                <a:ext cx="376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rcRect l="18946" t="22303" r="56842" b="57989"/>
          <a:stretch/>
        </p:blipFill>
        <p:spPr>
          <a:xfrm>
            <a:off x="5557680" y="1770120"/>
            <a:ext cx="1941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View:   Parallel Coordinates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-ax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-ax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rcRect l="30313" t="24980" r="16420" b="36578"/>
          <a:stretch/>
        </p:blipFill>
        <p:spPr>
          <a:xfrm>
            <a:off x="3921120" y="1996920"/>
            <a:ext cx="461484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,    Parallel Coordinates Pl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p Plot: Zern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effic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n = 43 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ction in f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 Freq. Coeff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rcRect l="30313" t="24980" r="16420" b="36578"/>
          <a:stretch/>
        </p:blipFill>
        <p:spPr>
          <a:xfrm>
            <a:off x="3921120" y="1996920"/>
            <a:ext cx="461484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,   Parallel Coordinates P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ddle Plot:    Zernike Coefficients – med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Variation 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est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as 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compression of smooth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ng on sphere will destroy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gnify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frequency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tom Plot:    discussed la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nification of High Freq. Coeff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Elliptical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  project data on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itable ellips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not sp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ellipse?     (in general, this is problem that PCA solves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ication:    Consider ellips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to coordinate ax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:  PCA can find (often insightfu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of greatest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problem:  display of result (no overlays for im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:  show movie of “marching along the direction vecto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Cornea Data PC1 movi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mma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mage):   mild vert’l astig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nown pop’n structure called “with the ru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dir’n:  “more curved” &amp; “less curv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s to first optometric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9% of variat’n, in Mean Resid. SS sen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:  “stronger astig’m”  &amp;  “no astig’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’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etween astig’m and curv’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res (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  Apparent Gaussian dist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:  same as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centerpoint of point clo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 studying “directions from me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s along direction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s terrible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made clear in Scores Plot (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 outlying data object drives PC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known problem with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finds direction with “max varia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sense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ily dominated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 large observat’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09-21T14:16:05Z</dcterms:modified>
  <cp:revision>468</cp:revision>
  <dc:subject/>
  <dc:title>Title</dc:title>
</cp:coreProperties>
</file>