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70F-CD9C-4141-9CC5-641D1A99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937-EDA7-4E13-994D-A2A5542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74F-7211-4012-B57A-3A8FD5AA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EEB-20A8-4005-96A4-228AD8D6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D3D-2E8D-45CC-8601-D6F21A5B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1F9-265C-4006-9FFE-7FF73A6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A17-9559-47CE-91B9-E93DCC1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7E8-5352-4599-AD75-A54194A3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2C4-AB17-4200-9410-88F5B897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4C0-E86B-440F-B91A-8A2C84D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870-E9C9-444A-86C5-34D8BEA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B60-FE52-4A3F-B237-8E24376E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32FE-89C7-4E6B-90B2-036992DFB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ovies/NORMLWR.MPG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s (on the disk) as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  (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 (downweight outl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-analysis of robust covarianc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nification of High Freq. Coeff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Elliptica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project data on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itable ellip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not 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ellipse?     (in general, this is problem that PCA solves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:    Consider ellips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to coordinate ax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17843" t="2526" r="7137" b="0"/>
          <a:stretch/>
        </p:blipFill>
        <p:spPr>
          <a:xfrm>
            <a:off x="990720" y="762120"/>
            <a:ext cx="7259400" cy="6661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971800" y="1523880"/>
            <a:ext cx="2819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2819520"/>
            <a:ext cx="0" cy="20574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971800" y="61722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1219320"/>
            <a:ext cx="1143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sc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o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58672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sc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o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3581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pherical    P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Analysis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Implementatio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a coordinate axis resc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vide each axis by M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to sphere (in transformed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original space (mul’ply by orig’l MAD) f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MAD = Median Absolute Deviation (from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mple, high breakdow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resistant measure of “scale”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4805280"/>
                <a:ext cx="3962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Estimate of “center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-estimation in transformed sp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en transform bac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for cornea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Spherical Center    Elliptical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clearly b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arly no edge effec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533520" y="2819520"/>
            <a:ext cx="2009520" cy="2055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990720" y="1523880"/>
                <a:ext cx="2570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3505320" y="2819520"/>
            <a:ext cx="1809720" cy="2085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rcRect l="16420" t="24088" r="56842" b="59773"/>
          <a:stretch/>
        </p:blipFill>
        <p:spPr>
          <a:xfrm>
            <a:off x="6172200" y="3048120"/>
            <a:ext cx="19335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1,    Elliptical 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curvature &amp; correlated astig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or edge effects almost completely 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2,    Elliptical 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ge edge effects dramatically re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eper superior vs. inferi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 for Cornea Data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3,    Elliptical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Edge effects greatly diminis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ome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 astigmatis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lso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ce paid for robus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4,    Elliptical P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looks more like variation on astigmatism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tate of the a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&amp; Elliptical PCA ar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l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Ama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solve this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News: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Pro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now in the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t, et al (200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laimer on robust analy’s of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ical parameter is “radius of analysis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Shown above, Elliptical PCA very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Stronger edge effects, Elliptical PCA less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Edge effects weaker, don’t need robust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143000" y="2895480"/>
                <a:ext cx="1600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90720" y="4038480"/>
                <a:ext cx="1817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14400" y="5181480"/>
                <a:ext cx="1828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al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 projected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ize residu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by Pythagorean Theor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useful insights abo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can compute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are other vi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Viewpoint:    Gaussian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data are multivariat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xes of ellipt’al cont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Probability Den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um Likelihood 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taken ide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ly useful for Gaussian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:   Outer surface of the e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r of Vision:    Curvature of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:  Images on the unit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as “Heat Ma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 to K. L. Cohen, N. Tripol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 Ophthalm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check for Gaussian distribu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d parallel coordinat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tract coordinate wise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obust version of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good as “point cloud center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w only looking at coordina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vide by MAD / MAD(N(0,1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ut on same scale as “standard deviation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if data stays in range –3 to +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31576" t="24980" r="16420" b="0"/>
          <a:stretch/>
        </p:blipFill>
        <p:spPr>
          <a:xfrm>
            <a:off x="3997440" y="1379520"/>
            <a:ext cx="4827600" cy="98600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590920" y="502920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for Gaussian dist’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’zed Parallel Coord.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Cornea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 image view of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veral data points &gt; 20 “s.d.s” from the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clear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kur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CA still gave strong insigh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related (&amp; better known) variation of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cov. matrix with correlation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do eigen analysis of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505320" y="2817720"/>
                <a:ext cx="4419360" cy="20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0" y="5460840"/>
                <a:ext cx="358128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use correlation matr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1:    makes features “unit fre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M-reps:  mix “lengths” with “angle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grees?  radian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“directions in point cloud” meaningful or use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unimportant directions dominat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view of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dinary PCA on standard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hitened)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 SVD of data matrix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s “point cloud” along coord. dir’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057400" y="3276720"/>
                <a:ext cx="571500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2 for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” can be a useful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. M-rep Corp. Call.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sometimes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elp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n lose important structure this w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1:    Corne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vs. Spherical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2:    Fourier Boundary Corp. Call.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Standard  PC1, PC2, 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ve useful ins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1,  PC2, 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useful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insights about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ise arti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hitening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a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mped the important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agnifying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 show what happe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Variatio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 g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dist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ews PCA to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i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rcRect l="10104" t="11598" r="7578" b="0"/>
          <a:stretch/>
        </p:blipFill>
        <p:spPr>
          <a:xfrm>
            <a:off x="5257800" y="1600200"/>
            <a:ext cx="3543480" cy="53881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4114800" y="25146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3962520"/>
            <a:ext cx="30477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n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very usefu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special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commensurate uni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, can hide 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ke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ide whet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personal use of correlat’n PCA is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people use i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of the ti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 Statistician:     Arrggghh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ar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arbitrary and meaningless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4% of MR SS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(2 clust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(2 clust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minant direction finds very distinc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ewer through meatbal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n point cloud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clearly in scores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mportant use of scores plo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ing such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Toy Example with more clus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revealed by 2d scatterplots (4 cluster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rcRect l="8921" t="6315" r="13382" b="0"/>
          <a:stretch/>
        </p:blipFill>
        <p:spPr>
          <a:xfrm>
            <a:off x="1066680" y="1447920"/>
            <a:ext cx="710424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there are limita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ealed by NCI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icroarra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8 known different cancer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e ou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specialized DWD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can these be found using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n’s of max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e class labe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fic DWD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-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lan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-8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-8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</a:t>
            </a:r>
            <a:r>
              <a:rPr b="0" lang="en-US" sz="32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Re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6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N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everal!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“median” generalizes in different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wor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-d data uniform on “L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lie on convex hull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“cente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791320" y="2590920"/>
                <a:ext cx="1904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9-12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9-12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1-4 &amp; 5-8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&amp;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1-4 &amp; 5-8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&amp;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Re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para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lan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1-4 &amp; 9-12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1-4 &amp; 9-12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lan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5-8 &amp; 9-12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5-8 &amp; 9-12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</a:t>
            </a:r>
            <a:r>
              <a:rPr b="0" lang="en-US" sz="32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Re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Less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is limited a finding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ealed by NCI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icroarra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8 known different cancer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ind all 8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n’s of max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e class labe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deepe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from Enrica Bellon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enter for Atmospheric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quantify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ou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o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chang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ng int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un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ed dat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at cente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212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2303" t="2526" r="13382" b="10104"/>
          <a:stretch/>
        </p:blipFill>
        <p:spPr>
          <a:xfrm>
            <a:off x="3537000" y="1666800"/>
            <a:ext cx="5145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Mass Flux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PCA of Mass Flux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ptur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mountain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height of p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nicely in mean +- plot  (2nd c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apparent clusters in scores 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those “really ther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so, could lead to interesting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not, could waste effort in investig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PCA of Mass Flux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of p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mean +- plot very useful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dth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see most clearly in mean +-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non-linear modes of variatio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Investigation of PC1 Clus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e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bum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mooth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Ques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ing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gnificance of ZERo crossings of deri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Major Setting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catterpl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e bar plo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features are “really there”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Major Setting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catterpl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e bar plo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 Unicode MS"/>
                <a:ea typeface="Arial Unicode MS"/>
              </a:rPr>
              <a:t>really there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1:  Sca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2: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 Setting 1:  2-d Scatterplo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ssil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T. Bralower, Dept. Geological Sciences, UNC (now Penn. St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tium Ratio in fossil sh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lects global sea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rogate for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millions of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alower’s Fossil Data   -   Global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1"/>
          <a:srcRect l="5052" t="10706" r="5052" b="0"/>
          <a:stretch/>
        </p:blipFill>
        <p:spPr>
          <a:xfrm>
            <a:off x="838080" y="1828800"/>
            <a:ext cx="7523280" cy="105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  -   Suggest Structure   -  Re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1"/>
          <a:srcRect l="5052" t="51744" r="5052" b="0"/>
          <a:stretch/>
        </p:blipFill>
        <p:spPr>
          <a:xfrm>
            <a:off x="1066680" y="1752480"/>
            <a:ext cx="7523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of Fossil Data (details given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tted line: und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eels sampling variabi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shed line: ov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mportant features misse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id line: smoothed about righ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“really there”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lit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“geometric median” (long before Huber) by:  Haldane (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unique for          by:  Milasevic and Ducharme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terative algorithm:  Gower (197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 also Sec. 3.2 of Hu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experien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well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3352680"/>
                <a:ext cx="838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943600" y="6172200"/>
                <a:ext cx="1143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favorite scatterplot smoothing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thers disagre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Linear 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(illustrated by toy exampl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kernel window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ermine neighborho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t a line within the wind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window a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Width,      , is crit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9" name=""/>
              <p:cNvSpPr txBox="1"/>
              <p:nvPr/>
            </p:nvSpPr>
            <p:spPr>
              <a:xfrm>
                <a:off x="4343400" y="5486400"/>
                <a:ext cx="293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 Setting 2: Histo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tish Family Expenditur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year 197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of Family Incom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 7000 famil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1411" t="2526" r="11598" b="10104"/>
          <a:stretch/>
        </p:blipFill>
        <p:spPr>
          <a:xfrm>
            <a:off x="3352680" y="1447920"/>
            <a:ext cx="54626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       M-estimate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             M-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utliers still have som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onto sphe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s the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1600200" y="1905120"/>
            <a:ext cx="2009880" cy="2055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28800" y="11430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5557680" y="1770120"/>
            <a:ext cx="1941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 Parallel Coordinates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30313" t="24980" r="16420" b="36578"/>
          <a:stretch/>
        </p:blipFill>
        <p:spPr>
          <a:xfrm>
            <a:off x="3921120" y="1996920"/>
            <a:ext cx="46148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28T01:14:33Z</dcterms:modified>
  <cp:revision>594</cp:revision>
  <dc:subject/>
  <dc:title>Title</dc:title>
</cp:coreProperties>
</file>