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117-3061-4DD1-9F06-5B574FE2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BCBB-6B74-4B76-9E18-C8E2DF8C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1B6-0AE2-48EA-B18F-8DE186BA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9A84-21AD-4B77-8E38-E6BE9D78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717-8EF7-4797-B784-DE8577E1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A5A-8756-4FC9-B58F-1D44E37B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615-1CC0-478C-A5A2-C7F519E5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5AEC-B5BF-4701-8458-B7F5A3B3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9D0-8847-4A83-B167-D71E8191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3A5F-5B8E-4242-9585-A8A1EACF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E3F-7AAC-4AD5-83CF-6A70F6B1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4E2-7C67-4272-A780-01AE60A3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5936-1207-46E8-BA5D-7A931FBA8D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ovies/IncomesHistBWidth.mpg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ovies/IncomesHistLoc.mpg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ovies/IncomesHistLocKDE.mpg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ovies/IncomesHistLocKDE.mpg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PDFs/EGkdeCombined.pdf" TargetMode="External"/><Relationship Id="rId2" Type="http://schemas.openxmlformats.org/officeDocument/2006/relationships/hyperlink" Target="PDFs/EGkdeCombined.pdf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ovies/IncomesKDE.mpg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ovies/IncomesKDEspect.mpg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nc.edu/~marron/UNCstat322-2005/HomePage.html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ovies/Sizer2Eg_Fossil.mpg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ovies/Sizer2Eg_Fossil.mpg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ovies/Sizer2Eg_Fossil.mpg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ovies/Sizer2Eg_Incomes.mpg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Movies/SiZerStockPrice2.mpg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ovies/ZoomStatFig5.mpg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 &amp; Robust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liptical P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g Picture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ptimization 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Likelihood 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lation P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ing Clusters with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be us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can also miss s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mily Income Data,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Histogram Analysi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8520" indent="-66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 under- and over- smoothing issu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8520" indent="-66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haps 2 modes in dat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8520" indent="-66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stogram Problem 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nwidth (well known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entral quest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Which features are “really there”?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8520" indent="-66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2 mod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8520" indent="-66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problem as existence of “clusters” in P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 not use (conventional) histogram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stogram Problem 2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Bin shif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less well known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inwid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t muc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mpress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only “shifting grid locatio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t it right by chanc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 not use (conventional) histogram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ution to binshift problem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Average over all shif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st peak all in one bin: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mod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st peak split between bins: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mod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Smooth histo’m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vides understanding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should use for data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other name: 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Kernel Density Estimat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 not use (conventional) histogram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ution to binshift problem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Average over all shif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st peak all in one bin: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mod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st peak split between bins: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mod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Smooth histo’m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vides understanding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should use for data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other name: 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Kernel Density Estimat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Kernel density estimat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ommended Reference (    many books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nd, M. P. and Jones, M. C. (199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ew 1: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 histogram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ew 2: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ribute probability ma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according to da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Chondrite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2"/>
              </a:rPr>
              <a:t>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from how many sources?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5486400" y="1523880"/>
                <a:ext cx="306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04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Kernel density estimat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cont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-70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ral Issue: width of window, i.e. “bandwidth”,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-70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Incomes dat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rols critical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mount of smoo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-70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ld Approach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based bandwidth sele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-70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ommended reference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ones et al (1996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-70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w Approach: "scale space"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look at all of them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733920" y="1828800"/>
                <a:ext cx="2934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le Spa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Idea from Computer Vis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-696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ceptual basi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smoothing = “view from afa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acroscop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dersmoothing = “zoomed in view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icroscopic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idea: all smooths contain useful information, so study “full spectrum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. e. all smoothing leve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ommended reference: Lindeberg (199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 Scale Spaces 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f Family Incomes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Spectrum Mov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 Scale Spaces Views (Incomes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ctrum Over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rcRect l="11598" t="6315" r="8921" b="0"/>
          <a:stretch/>
        </p:blipFill>
        <p:spPr>
          <a:xfrm>
            <a:off x="1371600" y="2057400"/>
            <a:ext cx="599616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 Scale Spaces Views (Incomes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rface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rcRect l="11598" t="6315" r="8921" b="0"/>
          <a:stretch/>
        </p:blipFill>
        <p:spPr>
          <a:xfrm>
            <a:off x="1371600" y="2057400"/>
            <a:ext cx="599616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Participant Present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6 particip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 15 minutes 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per class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quires 9 class meeting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ve revised Schedule o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Class Web P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ease sign up (email) for preferred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me,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erv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ease help for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f you can just pull something off the shel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 Scale Spaces 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f Family Incomes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scale space viewpoint mak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Dased Bandwidth Se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Much less 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han I once thought…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nificance of 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 crossings, of the derivative, in scale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bin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ed statistical infere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vel visualiz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get: a powerful exploratory data analysis meth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refer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audhuri &amp; Marron (1999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ic idea: a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mp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characterized b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incr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llowed by a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cr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izat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eatures of interes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aptur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ign of the slop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the smo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ndation of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inference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lop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 scale spa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isual presentat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or map over scale space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Blue: slope significantly upward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derivative CI above 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Red: slope significantly downwar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derivative CI below 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Purple: slope insignific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derivative CI contains 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 of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Fossils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pper Lef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Scatterplot, family of smooths, 1 highligh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pper Righ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Scale space rep’n of family, with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lors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wer Lef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ap, more easy to vie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wer Righ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SiCon map – replac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op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atur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ider (in movie viewer) highligh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different smoothing levels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8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 of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Fossils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cont.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smooth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top of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ap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creases at left, not on righ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um smooth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middle of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ap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valley significant, and left most increa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aller valley not statistically significa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dersmooth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bottom of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ap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ise wiggles” not significa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ditional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lor: </a:t>
            </a:r>
            <a:r>
              <a:rPr b="0" lang="en-US" sz="32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gra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not enough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 infere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 of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Fossils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cont.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on Question:  Which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gh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creases on left, then fla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op of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p, then down, then up aga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iddle of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significant fea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bottom of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wer: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ust differen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les of view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s of resolution of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 of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British Incomes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smooth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Only one m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um smooth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Two modes, statistically significa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rmed by Schmitz &amp; Marron, (199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dersmooth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man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noise wiggl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not significa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: all a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c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ust differen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l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storical Note &amp; Acknowledgem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le Space:     S. M. Piz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  Probal Chaudhu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Reference: Chaudhuri &amp; Marron (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.g.  -  Marron &amp; Wand Trimodal #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creasing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ly 1 Signif’t M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 2 Signif’t M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ally all 3 M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1"/>
          <a:srcRect l="10104" t="9813" r="6315" b="0"/>
          <a:stretch/>
        </p:blipFill>
        <p:spPr>
          <a:xfrm>
            <a:off x="5275440" y="1741320"/>
            <a:ext cx="3597120" cy="549756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 flipV="1">
            <a:off x="4267080" y="2666520"/>
            <a:ext cx="3733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495680" y="43434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038480" y="5257800"/>
            <a:ext cx="40388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Mass Flux D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10104" t="12490" r="7578" b="0"/>
          <a:stretch/>
        </p:blipFill>
        <p:spPr>
          <a:xfrm>
            <a:off x="2443320" y="1531800"/>
            <a:ext cx="5005080" cy="75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- Marron &amp; Wand Discrete Comb #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creasing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arse Bumps 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 Fine bumps to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day: “draw” lo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ndwidth on </a:t>
            </a:r>
            <a:r>
              <a:rPr b="0" lang="en-US" sz="28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28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rcRect l="10104" t="9813" r="6315" b="0"/>
          <a:stretch/>
        </p:blipFill>
        <p:spPr>
          <a:xfrm>
            <a:off x="5275440" y="1741320"/>
            <a:ext cx="3597120" cy="549756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 flipV="1">
            <a:off x="4191120" y="2666520"/>
            <a:ext cx="3809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343400" y="4343400"/>
            <a:ext cx="4267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343400" y="4343400"/>
            <a:ext cx="43434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ance "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tick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"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ime, price) of single stock transac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   "on line" version of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viewing and understanding tr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end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epend heavily o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uble poin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d mo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ckground colo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ransi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flop over at top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 traffic data a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time series of packet ti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internet hub  (UN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ross very wide range of sc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s more pixels than screen allow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do zooming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zoom in over tim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oom in to yellow bd’ry in next fra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djust vertical ax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 traffic data analysis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sights from </a:t>
            </a:r>
            <a:r>
              <a:rPr b="0" lang="en-US" sz="28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28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arse scales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mazing amount of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gnificant structur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idence of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lf-similar fractal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ype process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ewer significant features at small sca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they exist, so not Poisson proces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isson approximation OK at small scale??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s (top part)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bl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t large scales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ff78"/>
            </a:gs>
            <a:gs pos="50000">
              <a:srgbClr val="ffffff"/>
            </a:gs>
            <a:gs pos="100000">
              <a:srgbClr val="78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endent</a:t>
            </a:r>
            <a:r>
              <a:rPr b="0" lang="en-US" sz="4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k, Marron, and Rondonotti (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799"/>
              </a:spcBef>
              <a:buClr>
                <a:srgbClr val="333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mpares data with white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appropriate in time se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endent </a:t>
            </a:r>
            <a:r>
              <a:rPr b="0" lang="en-US" sz="3200" spc="-1" strike="noStrike">
                <a:solidFill>
                  <a:srgbClr val="3333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mpares data with an assum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ness of Fi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ff78"/>
            </a:gs>
            <a:gs pos="50000">
              <a:srgbClr val="ffffff"/>
            </a:gs>
            <a:gs pos="100000">
              <a:srgbClr val="78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’ent</a:t>
            </a:r>
            <a:r>
              <a:rPr b="0" lang="en-US" sz="2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Arial Unicode MS"/>
                <a:ea typeface="Arial Unicode MS"/>
              </a:rPr>
              <a:t>Si</a:t>
            </a:r>
            <a:r>
              <a:rPr b="0" lang="en-US" sz="28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2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r>
              <a:rPr b="0" lang="en-US" sz="2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2002 Apr 13 Sat 1 pm – 3 p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굴림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1"/>
          <a:srcRect l="8896" t="5726" r="12046" b="6393"/>
          <a:stretch/>
        </p:blipFill>
        <p:spPr>
          <a:xfrm>
            <a:off x="685800" y="1447920"/>
            <a:ext cx="8001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ff78"/>
            </a:gs>
            <a:gs pos="50000">
              <a:srgbClr val="ffffff"/>
            </a:gs>
            <a:gs pos="100000">
              <a:srgbClr val="78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oomed view (to</a:t>
            </a:r>
            <a:r>
              <a:rPr b="0" lang="en-US" sz="2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red regio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i.e. “flat top”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1"/>
          <a:srcRect l="6637" t="4126" r="9223" b="6393"/>
          <a:stretch/>
        </p:blipFill>
        <p:spPr>
          <a:xfrm>
            <a:off x="685800" y="1447920"/>
            <a:ext cx="8077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ff78"/>
            </a:gs>
            <a:gs pos="50000">
              <a:srgbClr val="ffffff"/>
            </a:gs>
            <a:gs pos="100000">
              <a:srgbClr val="78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rther Zoom:  find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eriodic behavior!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1"/>
          <a:srcRect l="6637" t="4126" r="9790" b="6393"/>
          <a:stretch/>
        </p:blipFill>
        <p:spPr>
          <a:xfrm>
            <a:off x="609480" y="1447920"/>
            <a:ext cx="8077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ff78"/>
            </a:gs>
            <a:gs pos="50000">
              <a:srgbClr val="ffffff"/>
            </a:gs>
            <a:gs pos="100000">
              <a:srgbClr val="78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ssible Physical Expla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“Port Sc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on device of hac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arching for “break in point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nd query to every possible (within UNC domain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rt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ies can indicate system weakn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 Traffic is</a:t>
            </a:r>
            <a:r>
              <a:rPr b="0" lang="en-US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hard to mod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turn to Investigation of PC1 Clust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se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bump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smooth 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Question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pling variabilit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:  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Ignificance of ZERo crossings of deriv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wo Major Setting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-d scatterplo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ing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-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st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inuou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, no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crete bar plo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ral Ques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Which features are </a:t>
            </a:r>
            <a:r>
              <a:rPr b="0" lang="en-US" sz="3200" spc="-1" strike="noStrike" u="sng">
                <a:solidFill>
                  <a:srgbClr val="00ff00"/>
                </a:solidFill>
                <a:uFillTx/>
                <a:latin typeface="Arial Unicode MS"/>
                <a:ea typeface="Arial Unicode MS"/>
              </a:rPr>
              <a:t>really there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ution, Part 1:  Scale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ution, Part 2: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alower’s Fossil Data   -   Global Cl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5052" t="10706" r="5052" b="0"/>
          <a:stretch/>
        </p:blipFill>
        <p:spPr>
          <a:xfrm>
            <a:off x="838080" y="1828800"/>
            <a:ext cx="7523280" cy="105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s   -   Suggest Structure   -  Re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5052" t="51744" r="5052" b="0"/>
          <a:stretch/>
        </p:blipFill>
        <p:spPr>
          <a:xfrm>
            <a:off x="1066680" y="1752480"/>
            <a:ext cx="752328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s of Fossil Data (details given l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tted line: undersmooth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feels sampling variabili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shed line: oversmooth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mportant features missed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id line: smoothed about righ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ral ques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Which features are “really there”?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ing Setting 2: Histogra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mily Income Dat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itish Family Expenditure Surv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the year 197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ribution of Family Incom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 7000 famil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 </cp:lastModifiedBy>
  <dcterms:modified xsi:type="dcterms:W3CDTF">2005-09-30T02:03:54Z</dcterms:modified>
  <cp:revision>660</cp:revision>
  <dc:subject/>
  <dc:title>Title</dc:title>
</cp:coreProperties>
</file>