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C3A-70A9-4EC8-B2AC-1E3AA639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AB4-1F57-4A3B-A873-37E9016E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4A4-94D3-4AB5-BDBB-12A1954C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487-450D-44D0-A990-BF9462D4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DF8-1E91-46DC-A574-00A2A96F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F3A-5EF5-43B5-8B05-DE9C3518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902-6E53-47F3-B9DB-EA080213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248-5905-4B72-A043-27FB9195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042-35BC-4F6E-8816-967A4F8E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4E8-F066-410D-87C6-3C31B699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31C-4DA4-4AFD-9615-340BD51F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2D0-87A4-482C-85A6-FB82D455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7CD0-8F6C-4EC5-8BEF-BCBC34F07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 Cell Cycl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croarrays and HDLSS visu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bias adjus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day:  Detailed (math’cal) look at P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sit Real Da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066680"/>
            <a:ext cx="8381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uristic Resul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Clust’s     Weak Clust’s     Not Clust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lano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 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NSCL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Leukem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ar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e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ol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discovery – Renaming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990720"/>
            <a:ext cx="830556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Component Analysis  (P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cial Sci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Analysis (PCA is a subse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ability / Electrical E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hunen – Loeve expa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lied Mathema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 Orthogonal Decomposition (PO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o-Sci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irical Orthogonal Functions (EO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Interesting Historical No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523880"/>
            <a:ext cx="830556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?) application of PCA to Functional Data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o, C. R. (1958) Some statistical methods for comparison of growth curve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ometr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4, 1-1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per with “Curves as Data” view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tailed Look a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523880"/>
            <a:ext cx="830556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mportant (and interesting) viewpoi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Review linear alg. and multivar. pro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305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 Space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“vectors”,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“scalars” (coefficients)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” under “linear combination”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 in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 Euclid’n spac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343400" y="1828800"/>
                <a:ext cx="318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477120" y="266688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638680" y="3886200"/>
                <a:ext cx="13716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447920" y="4419720"/>
                <a:ext cx="38862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971800" y="6019920"/>
                <a:ext cx="3524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990720"/>
            <a:ext cx="830592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pa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t that is again a vector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closed under linear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lines through the ori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planes through the ori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subsp. “generated by” a set of 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l linear combos of them 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ontaining hyperpla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origi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990720"/>
            <a:ext cx="830592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of subspace:  set of vectors th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p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 everything is a lin. com. of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ly indep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i.e. lin. Com. is u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       “unit vector basis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33720" y="3276720"/>
                <a:ext cx="609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254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943600" y="2895480"/>
                <a:ext cx="2514600" cy="20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254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905120" y="5083200"/>
                <a:ext cx="432108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990720"/>
            <a:ext cx="8305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Matrix, of subspace of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basis,         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trix of colum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“linear combo” is a matrix multiplicat’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sizes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019920" y="990720"/>
                <a:ext cx="5331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657600" y="1447920"/>
                <a:ext cx="1447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657600" y="2057400"/>
                <a:ext cx="52578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  <m:e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d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523880" y="4191120"/>
                <a:ext cx="19814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38680" y="3886200"/>
                <a:ext cx="1403640" cy="16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05320" y="5943600"/>
                <a:ext cx="38098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990720"/>
            <a:ext cx="830592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 on matrix multiplication: (linear transformat’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tr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“matrix product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“inner products” of columns with row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mposition of linear transforma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ful to check siz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286000" y="1905120"/>
                <a:ext cx="2575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,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410080" y="1905120"/>
                <a:ext cx="2568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,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419720" y="3429000"/>
                <a:ext cx="41148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334120" y="6248520"/>
                <a:ext cx="33526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×</m:t>
                    </m:r>
                    <m:r>
                      <m:t xml:space="preserve">m</m:t>
                    </m:r>
                    <m:r>
                      <m:t xml:space="preserve">↔</m:t>
                    </m:r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990720"/>
            <a:ext cx="83059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trac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square matrix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commutes with matrix multiplication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05520" y="2133720"/>
                <a:ext cx="3124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,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66880" y="3581280"/>
                <a:ext cx="213372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733920" y="5648400"/>
                <a:ext cx="2666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st Time:  Checked Data Combo, using DWD Dir’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990720"/>
            <a:ext cx="830592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 of subspace  (a notion of “size”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elements in a basis (un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e basis abov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m of a line is 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m of a plane is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 is “degrees of freedo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97760" y="28864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447920" y="2819520"/>
                <a:ext cx="1904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m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ℜ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990720"/>
            <a:ext cx="8305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 of a vec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      ,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“length” of the 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  strange properties for high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“length of diagonal of unit cube”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normalized vector”: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as length one, thus on surf. of unit sphe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“distance” a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981080" y="1828800"/>
                <a:ext cx="6098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8120" y="1633680"/>
                <a:ext cx="32004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362320" y="3276720"/>
                <a:ext cx="326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772400" y="3276720"/>
                <a:ext cx="360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8381880" y="3886200"/>
                <a:ext cx="6098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095880" y="4191120"/>
                <a:ext cx="5270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317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19720" y="5943600"/>
                <a:ext cx="4495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990720"/>
            <a:ext cx="8305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er (dot, scalar) produ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vectors      and    ,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to norm, vi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“angle between    and   ”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to “orthogonality”, i.e. “perpendicul’ty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d only i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76720" y="1828800"/>
                <a:ext cx="3110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572000" y="1828800"/>
                <a:ext cx="3348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029200" y="1523880"/>
                <a:ext cx="396252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800600" y="2743200"/>
                <a:ext cx="2819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143000" y="3809880"/>
                <a:ext cx="754380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gle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e>
                                </m:acc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e>
                                </m:acc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943600" y="3200400"/>
                <a:ext cx="257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010280" y="3276720"/>
                <a:ext cx="2667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971800" y="5943600"/>
                <a:ext cx="762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324480" y="5943600"/>
                <a:ext cx="1524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990720"/>
            <a:ext cx="83059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normal basis               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rtho to each other,  i.e.               ,    for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have length 1,  i.e.               ,    for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al Representation”:                where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notation:            where              i.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alled “transform (e.g. Fourier, wavelet) of     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038480" y="121932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724280" y="2666880"/>
                <a:ext cx="11970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86400" y="1981080"/>
                <a:ext cx="1287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848720" y="2057400"/>
                <a:ext cx="5713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086600" y="2819520"/>
                <a:ext cx="11048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5410080" y="3276720"/>
                <a:ext cx="133380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940520" y="3429000"/>
                <a:ext cx="1203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048120" y="4038480"/>
                <a:ext cx="50133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</m:e>
                            </m:acc>
                          </m:e>
                        </m:nary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</m:nary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657600" y="4952880"/>
                <a:ext cx="876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B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791320" y="4876920"/>
                <a:ext cx="10666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acc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848720" y="4876920"/>
                <a:ext cx="990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7924680" y="5562720"/>
                <a:ext cx="2304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80880" y="5638680"/>
                <a:ext cx="2509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990720"/>
            <a:ext cx="8305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val identity,  for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ubsp. gen’d by o. n. basis        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ition of Energ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VA - sums of 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,     , has same length as    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“rotation in      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724280" y="1143000"/>
                <a:ext cx="2714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705720" y="1828800"/>
                <a:ext cx="12189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295280" y="2362320"/>
                <a:ext cx="40388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352680" y="5257800"/>
                <a:ext cx="2937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620120" y="5257800"/>
                <a:ext cx="2696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867280" y="5943600"/>
                <a:ext cx="533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990720"/>
            <a:ext cx="83059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time:  add part about Gram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midt Ortho-norm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990720"/>
            <a:ext cx="8305920" cy="57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on of a vector       onto a subspace   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 member of        that is closest to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.e. “approx’n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           that solves:               (“least squa’s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ner product (Hilbert) spac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 and is u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solution in      :  for basis matrix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“proj’n operator” is “matrix mult’n”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us projection is another linear oper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te same operation underli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ast squa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343400" y="1066680"/>
                <a:ext cx="270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7315200" y="1523880"/>
                <a:ext cx="270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038480" y="1676520"/>
                <a:ext cx="309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43800" y="1143000"/>
                <a:ext cx="3110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981080" y="2666880"/>
                <a:ext cx="10670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∈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952880" y="2666880"/>
                <a:ext cx="1295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lim>
                    </m:limLow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267080" y="4114800"/>
                <a:ext cx="533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7543800" y="419112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733920" y="4648320"/>
                <a:ext cx="2971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026120" y="5181480"/>
                <a:ext cx="21178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990720"/>
            <a:ext cx="861084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on using orthonormal basis         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matrix is “orthonormal”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                 = Recon(Coeffs of    “in   dir’n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orthogonal complement”,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val inequalit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086600" y="114300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6553080" y="1752480"/>
                <a:ext cx="1752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219320" y="2341440"/>
                <a:ext cx="66294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acc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acc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,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,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,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,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523880" y="3733920"/>
                <a:ext cx="18669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934320" y="3733920"/>
                <a:ext cx="230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7924680" y="3733920"/>
                <a:ext cx="309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6324480" y="4952880"/>
                <a:ext cx="4572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1676520" y="5638680"/>
                <a:ext cx="2209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410080" y="5562720"/>
                <a:ext cx="27212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P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572000" y="6056280"/>
                <a:ext cx="4419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990720"/>
            <a:ext cx="830592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al) Unitary Matrices:           with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thonormal basis matri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all of above appl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a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have full rank, so       exists …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. trans. (mult. by    ) is like “rotation” of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lso includes “mirror imag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334120" y="1295280"/>
                <a:ext cx="7617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7238880" y="1222200"/>
                <a:ext cx="12956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733920" y="3200400"/>
                <a:ext cx="1447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943600" y="3962520"/>
                <a:ext cx="533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495680" y="4724280"/>
                <a:ext cx="3492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8381880" y="4572000"/>
                <a:ext cx="533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990720"/>
            <a:ext cx="8305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ular Value Decomposition  (SVD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matrix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onal matr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 entries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gular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unitary (rotation) matrices        ,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             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at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76720" y="1886040"/>
                <a:ext cx="7617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876920" y="2590920"/>
                <a:ext cx="6094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038480" y="3200400"/>
                <a:ext cx="2210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400800" y="4648320"/>
                <a:ext cx="6858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7391520" y="4648320"/>
                <a:ext cx="6094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343400" y="533412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505320" y="5943600"/>
                <a:ext cx="1523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S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Views of NCI 6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219320"/>
            <a:ext cx="80010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cluster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WD great at find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’ns of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ill do so even if no real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happening 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:  which cluster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“important” me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990720"/>
            <a:ext cx="876312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 behind Singular Value Decomposi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a “linear transf’n”  (via matrix multi’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cale coordinate axes (by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tate ag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ha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onalized the trans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219320" y="205740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828800" y="2743200"/>
                <a:ext cx="5638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7391520" y="4343400"/>
                <a:ext cx="365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1600200" y="4419720"/>
                <a:ext cx="2649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533520" y="1143000"/>
            <a:ext cx="83055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D Compact Represent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Label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ular Value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reasing Or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gular values  = 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can be omit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     =  # of positive singular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      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un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22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286000" y="4952880"/>
                <a:ext cx="29718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248520" y="5791320"/>
                <a:ext cx="1600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 flipV="1">
            <a:off x="2286000" y="54100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286000" y="533376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286000" y="525744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038480" y="2133720"/>
                <a:ext cx="1925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⋯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990720"/>
            <a:ext cx="8305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osi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(symmetric) square matri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diagonal matrix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n orthonormal matrix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                      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at:                    ,    i.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858000" y="1905120"/>
                <a:ext cx="838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257800" y="2666880"/>
                <a:ext cx="320040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4648320"/>
                <a:ext cx="76212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514600" y="5334120"/>
                <a:ext cx="32004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2362320" y="6019920"/>
                <a:ext cx="213336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638680" y="5943600"/>
                <a:ext cx="221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99072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osition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 to Singular Value Decom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ooks similar?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osition “hard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need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is eigenvalue decomp’n is genera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for        square and sym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eigenvalue decomp. is real valu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is the sing’r value decomp.  with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4114800" y="304812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276720" y="4495680"/>
                <a:ext cx="4572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7632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6400800" y="5943600"/>
                <a:ext cx="20574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990720"/>
            <a:ext cx="830592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of Singular Value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osi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too complex to spend time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primitive” of good software pack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s                are u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s of                           are call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ecto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ectors are “    -stretched” by    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733920" y="3733920"/>
                <a:ext cx="12952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581280" y="4343400"/>
                <a:ext cx="25146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715000" y="6153120"/>
                <a:ext cx="198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495680" y="5638680"/>
                <a:ext cx="352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543800" y="5638680"/>
                <a:ext cx="4572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" y="990720"/>
            <a:ext cx="876312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. solves matrix 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 Roo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ositive (nonn’ve, i.e. semi) definite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3429000" y="1828800"/>
                <a:ext cx="38862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429000" y="3657600"/>
                <a:ext cx="3962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519120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029200" y="6019920"/>
                <a:ext cx="533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8229600" y="5257800"/>
                <a:ext cx="504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6400800" y="5943600"/>
                <a:ext cx="15238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(</m:t>
                    </m:r>
                    <m:r>
                      <m:t xml:space="preserve">≥</m:t>
                    </m:r>
                    <m:r>
                      <m:t xml:space="preserve">)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Multivariate Prob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920" y="990720"/>
            <a:ext cx="868680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“random vector”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center” of the distribution is the me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,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measure of spread” is the covaria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410080" y="914400"/>
                <a:ext cx="15732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495680" y="3048120"/>
                <a:ext cx="259092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590920" y="5181480"/>
                <a:ext cx="64008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Multivar. Prob.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920" y="9907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riance matri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g’ve Definite (since all varia’s are     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“elliptical summary of distributio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d via “outer produc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7848720" y="2057400"/>
                <a:ext cx="2952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0" y="248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33520" y="4191120"/>
                <a:ext cx="798516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Multivar. Prob.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4920" y="9907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irical ver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oretical m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m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5410080" y="1905120"/>
                <a:ext cx="15242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324480" y="2590920"/>
                <a:ext cx="4287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343400" y="4114800"/>
                <a:ext cx="411480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Multivar. Prob.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990720"/>
            <a:ext cx="868680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irical version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estimate the “theoretical cov.”     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“sample cov.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z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unbiased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MLE in Gaussian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914400" y="2743200"/>
                <a:ext cx="786456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acc>
                                                <m:accPr>
                                                  <m:chr m:val="¯"/>
                                                </m:accPr>
                                                <m:e>
                                                  <m:r>
                                                    <m:t xml:space="preserve">X</m:t>
                                                  </m:r>
                                                </m:e>
                                              </m:acc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d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d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nary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id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acc>
                                                <m:accPr>
                                                  <m:chr m:val="¯"/>
                                                </m:accPr>
                                                <m:e>
                                                  <m:r>
                                                    <m:t xml:space="preserve">X</m:t>
                                                  </m:r>
                                                </m:e>
                                              </m:acc>
                                            </m:e>
                                            <m:sub>
                                              <m:r>
                                                <m:t xml:space="preserve">d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295280" y="5105520"/>
                <a:ext cx="587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5791320"/>
                <a:ext cx="2127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6705720" y="1676520"/>
                <a:ext cx="4093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 Clusters in NCI 6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219320"/>
            <a:ext cx="84582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Visual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relabel data (Cancer Typ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pute DWD dir’ns &amp; visu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uristic im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r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Hypothesis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one l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Multivar. Prob.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4920" y="99072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product represent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304920" y="1828800"/>
                <a:ext cx="845820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acc>
                                                <m:accPr>
                                                  <m:chr m:val="¯"/>
                                                </m:accPr>
                                                <m:e>
                                                  <m:r>
                                                    <m:t xml:space="preserve">X</m:t>
                                                  </m:r>
                                                </m:e>
                                              </m:acc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d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d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id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acc>
                                                <m:accPr>
                                                  <m:chr m:val="¯"/>
                                                </m:accPr>
                                                <m:e>
                                                  <m:r>
                                                    <m:t xml:space="preserve">X</m:t>
                                                  </m:r>
                                                </m:e>
                                              </m:acc>
                                            </m:e>
                                            <m:sub>
                                              <m:r>
                                                <m:t xml:space="preserve">d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457200" y="4038480"/>
                <a:ext cx="60199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acc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057400" y="5486400"/>
                <a:ext cx="59436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</m:ba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</m:bar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5715000" y="4191120"/>
            <a:ext cx="8380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as an Optimization Probl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920" y="990720"/>
            <a:ext cx="86868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“direction of greatest variability”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rcRect l="6245" t="18946" r="53528" b="0"/>
          <a:stretch/>
        </p:blipFill>
        <p:spPr>
          <a:xfrm>
            <a:off x="2448000" y="2087640"/>
            <a:ext cx="3984480" cy="56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as Optimizatio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990720"/>
            <a:ext cx="8686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“direction of greatest variability”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“direction vector”,             (i.e.    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on of             in the direction       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ility in the direction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5334120" y="1828800"/>
                <a:ext cx="11430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7238880" y="1828800"/>
                <a:ext cx="1143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895480" y="2590920"/>
                <a:ext cx="1143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38880" y="2514600"/>
                <a:ext cx="279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276720" y="3200400"/>
                <a:ext cx="38862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bar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</m:d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66680" y="4343400"/>
                <a:ext cx="7543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ba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ba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bar>
                                    <m:r>
                                      <m:t xml:space="preserve">,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</m:d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  <m:r>
                                  <m:t xml:space="preserve">,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3200400" y="5105520"/>
                <a:ext cx="48006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  <m:r>
                                  <m:t xml:space="preserve">,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bar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3200400" y="5943600"/>
                <a:ext cx="35211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as Optimizatio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4920" y="99072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ility in the direction  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(proportional to)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dratic form in the covariance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solution comes from the eigenval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of   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                   is orthonormal,  &amp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5410080" y="990720"/>
                <a:ext cx="2793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685800" y="1523880"/>
                <a:ext cx="81532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ba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ba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</m:d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6920" y="4495680"/>
                <a:ext cx="3110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019920" y="4495680"/>
                <a:ext cx="16761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D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2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676520" y="5486400"/>
                <a:ext cx="1981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4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705720" y="5452920"/>
                <a:ext cx="2438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as Optimizatio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04920" y="990720"/>
            <a:ext cx="868680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ility in the direction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                            = “     transform of    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“   rotated into     coordinates”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onalized quadratic f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5181480" y="838080"/>
                <a:ext cx="279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838080" y="1295280"/>
                <a:ext cx="80773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ba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B</m:t>
                        </m:r>
                      </m:e>
                    </m:d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143000" y="2209680"/>
                <a:ext cx="30481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ba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ba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,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</m:ba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,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</m:ba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724280" y="2743200"/>
                <a:ext cx="3142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620120" y="2590920"/>
                <a:ext cx="2728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276720" y="3809880"/>
                <a:ext cx="279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5791320" y="3886200"/>
                <a:ext cx="3315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981080" y="5410080"/>
                <a:ext cx="52578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ba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,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as Optimizatio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4920" y="762120"/>
            <a:ext cx="86868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ince      is an orthonormal basis matrix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rotation                    give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ribution of the (unit) energy of      over the        eigen-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                                     is max’d (over     ), by putting all energy in the “largest direction”,  i.e.     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  “eigenvalues are ordered”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438280" y="914400"/>
                <a:ext cx="331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2133720" y="1295280"/>
                <a:ext cx="18889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bar>
                            <m:r>
                              <m:t xml:space="preserve">,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</m:d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1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5410080" y="1295280"/>
                <a:ext cx="24544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,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3200400" y="2133720"/>
                <a:ext cx="19270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,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</m:ba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,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</m:ba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952880" y="3276720"/>
                <a:ext cx="2793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7238880" y="3200400"/>
                <a:ext cx="3114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1295280" y="4267080"/>
                <a:ext cx="39625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ba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,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153280" y="4343400"/>
                <a:ext cx="324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657600" y="5562720"/>
                <a:ext cx="990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6705720" y="6248520"/>
                <a:ext cx="2286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⋯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as Optimizatio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04920" y="990720"/>
            <a:ext cx="868680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is unique wh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have sol’n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bsp. gen’d by 1st    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ng onto subspace       to      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     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xt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hrough        ,…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      by       to 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oretic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tim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the empirical 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5410080" y="1905120"/>
                <a:ext cx="1067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7772400" y="2514600"/>
                <a:ext cx="297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v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3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5638680" y="3276720"/>
                <a:ext cx="3841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5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6858000" y="3200400"/>
                <a:ext cx="366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2057400" y="3886200"/>
                <a:ext cx="420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39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419720" y="4572000"/>
                <a:ext cx="3985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5638680" y="4572000"/>
                <a:ext cx="441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590920" y="5257800"/>
                <a:ext cx="3110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809880" y="5334120"/>
                <a:ext cx="3412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terated PCA Visual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230040" y="5715000"/>
            <a:ext cx="83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oints (Curves)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lum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ata matrix,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1371600" y="4419360"/>
            <a:ext cx="2514600" cy="1447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2971800" y="4038480"/>
            <a:ext cx="358128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838080" y="5867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ample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90" name=""/>
          <p:cNvSpPr/>
          <p:nvPr/>
        </p:nvSpPr>
        <p:spPr>
          <a:xfrm flipV="1">
            <a:off x="2666880" y="3428640"/>
            <a:ext cx="609840" cy="25146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2666880" y="3504960"/>
            <a:ext cx="3886200" cy="2438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429000" y="5943600"/>
            <a:ext cx="304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Relabelling #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685800" y="5715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iduals from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Data -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1828800" y="4038120"/>
            <a:ext cx="1828800" cy="17528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 flipV="1">
            <a:off x="3504960" y="4495680"/>
            <a:ext cx="1523880" cy="13716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 flipV="1">
            <a:off x="2819160" y="3886200"/>
            <a:ext cx="3352680" cy="1905120"/>
          </a:xfrm>
          <a:prstGeom prst="line">
            <a:avLst/>
          </a:prstGeom>
          <a:ln w="158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457200" y="5562720"/>
            <a:ext cx="8153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centered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an Residu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hifted to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(rescaling of)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13320" y="6172200"/>
            <a:ext cx="306720" cy="79200"/>
          </a:xfrm>
          <a:custGeom>
            <a:avLst/>
            <a:gdLst/>
            <a:ahLst/>
            <a:rect l="l" t="t" r="r" b="b"/>
            <a:pathLst>
              <a:path w="193" h="50">
                <a:moveTo>
                  <a:pt x="0" y="50"/>
                </a:moveTo>
                <a:cubicBezTo>
                  <a:pt x="34" y="37"/>
                  <a:pt x="11" y="21"/>
                  <a:pt x="44" y="0"/>
                </a:cubicBezTo>
                <a:cubicBezTo>
                  <a:pt x="72" y="8"/>
                  <a:pt x="94" y="24"/>
                  <a:pt x="121" y="33"/>
                </a:cubicBezTo>
                <a:cubicBezTo>
                  <a:pt x="149" y="31"/>
                  <a:pt x="193" y="39"/>
                  <a:pt x="193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518400" y="5627520"/>
            <a:ext cx="79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C1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 Eigenvector (w/ bigges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905120" y="3276360"/>
            <a:ext cx="533160" cy="2438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52640" y="5791320"/>
            <a:ext cx="78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entered Data     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PC1 Projectio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Resid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1600200" y="4266720"/>
            <a:ext cx="1219320" cy="16002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3200040" y="3885840"/>
            <a:ext cx="1219320" cy="1981080"/>
          </a:xfrm>
          <a:prstGeom prst="line">
            <a:avLst/>
          </a:prstGeom>
          <a:ln w="158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3048120" y="4038480"/>
            <a:ext cx="3962160" cy="1828800"/>
          </a:xfrm>
          <a:prstGeom prst="line">
            <a:avLst/>
          </a:prstGeom>
          <a:ln w="158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4419720" y="4114800"/>
            <a:ext cx="2133360" cy="1752480"/>
          </a:xfrm>
          <a:prstGeom prst="line">
            <a:avLst/>
          </a:prstGeom>
          <a:ln w="158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538920" y="5627520"/>
            <a:ext cx="85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C2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 Eigenvector (w/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gges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1905120" y="3962520"/>
            <a:ext cx="685800" cy="1752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152640" y="5791320"/>
            <a:ext cx="78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entered Data    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PC2 Projectio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Resid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1600200" y="4266720"/>
            <a:ext cx="1219320" cy="16002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 flipV="1">
            <a:off x="2590920" y="3885840"/>
            <a:ext cx="1828800" cy="1981080"/>
          </a:xfrm>
          <a:prstGeom prst="line">
            <a:avLst/>
          </a:prstGeom>
          <a:ln w="158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2742840" y="3962160"/>
            <a:ext cx="4267080" cy="1904760"/>
          </a:xfrm>
          <a:prstGeom prst="line">
            <a:avLst/>
          </a:prstGeom>
          <a:ln w="158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920" y="990720"/>
            <a:ext cx="868680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for th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-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C1 Residu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C2 Proj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C2 Residu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C1 Proj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colo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ross these p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Relabelling #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Relabelling #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Relabelling #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sit Real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 </cp:lastModifiedBy>
  <dcterms:modified xsi:type="dcterms:W3CDTF">2005-09-11T23:58:55Z</dcterms:modified>
  <cp:revision>225</cp:revision>
  <dc:subject/>
  <dc:title>Title</dc:title>
</cp:coreProperties>
</file>