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81D-0839-4D2F-9EBA-0DFDC3B8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7C0E-09EF-4C0B-93BC-1CAE0AA3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DF94-3502-4417-BCF6-4F99C0242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E533-FF53-48F0-B628-46416423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87C3-8A7E-4FCB-964F-133B7DBD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2CDE-D684-47ED-9B90-65DF9E9B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5122-78BC-46AA-A2DD-DFF6D057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3AB-3647-466C-99EB-ED1000B9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5F1F-8227-478C-958B-093BBEB2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48B-1324-4437-9B14-7DC55FD3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2377-2829-4046-80BC-B411BEE9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9DA8-48C9-45AE-8BF0-D51BDC71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097E-50D4-47D8-A942-A059C361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BAEB-2DC5-418C-8C52-EBC98D71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B13-89F2-484E-8E0F-BA5F89E5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FB3-F3DF-491E-B617-E3892C9C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55AD-E78C-42D1-8E52-94FB27D6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DB4-E4CD-4BE7-9BC4-E7B97D78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BE59-410A-4441-8E68-8934656A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98C9-465A-4473-B9C4-5E2D24D45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0EC4-6AAB-4FEB-8D73-DE707954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43E1-32F4-4197-BA9F-D6734DBD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04BE-097B-4CE2-BAA2-0AD18185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8CB0-E202-4F7C-92C1-63C77028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C7D3-8B29-428E-86BF-F5196FA7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5068-8CDE-444F-B334-EB8377FB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548A-7C79-4E2F-B0A1-E9831638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60CA-777E-45F7-99F6-05ABAE1D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10AA-E5A9-40E5-85A6-7E6001A5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7F9A-27A6-40A4-903A-A5EA6A3E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5E9-6BF1-4FEE-8442-26E5B42D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0CA0-0BA4-4B4A-908C-DB62ED654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A7D0-FF02-4AF3-B410-C87E9D59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AF20-3D57-493B-AAB9-B28050CA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49A6-9351-4B56-BD57-E080FF874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148-7B97-4375-87ED-77C364BF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A28B-F6B6-424C-ACE5-9945E0FC3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6EC1-C1E0-491C-A7E7-7FFC208F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3B0B-A8BA-4AE4-A997-15B59BA9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09A5-6C08-4292-9F83-F34F2377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39BB-E374-4471-BB6C-54C10B457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492-4221-409B-861B-1A6FCD37F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4670-A2C1-4910-BD21-10B42BC5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D39-9428-4668-8341-E683C116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071-E53E-4DA6-8CFE-DEF1AA42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E7A-7961-4A7B-BE97-7655FEF3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188-E19A-43E4-9280-E03100FD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0A9E-8EFE-4FE8-A2E5-5EC36DF4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C4B-851C-4B06-A31A-2308EF9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1D7-112C-41D6-B99D-E4ABE912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3A32-D29A-41D1-B3E8-C6C2AA7D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6D3A-152E-415D-A58F-C421B8F9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5C9A-3BD7-41C0-B339-C21CB76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60FD-122B-446B-B193-205C28B8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4BC-CA7A-4047-9837-5DDAD6EE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4DFD-76DD-489F-979A-3D29EB0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46F1-D49E-46BC-884B-58E2A70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40F1-A809-445A-8A68-1021967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865A-6C2E-444E-99D0-C1712E28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861A-947F-47AF-9CC2-5ED1CC1E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CFB3-A8FD-4FA6-B0C5-6E2B47F0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968A-DA9D-4E6F-A6BC-D50AB3C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7D59-6B14-4610-B76C-2D7D9C1F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05DA-26E3-4B7D-AC3B-0ABCF560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9381-7E7B-45D9-8276-E6B6342E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8FD-A380-4D70-83AF-16B47741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A8A0-8DA8-41C1-AD22-527932E9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F016-B50C-4590-BBD2-07F7D8F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808B-1D11-4C67-85FF-CA54191D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5B9E-AD84-4585-9283-EAF68B5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2237-568E-4085-B18D-218A9C16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CD5B-8DAC-4066-8732-C6FB6914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B233-963C-4F11-BDC0-AE14F1B8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6AD-CE29-4836-9A90-BD3016A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1AA-54D7-4343-BADA-5851722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95A-BF57-470F-834C-78960B36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570-1FC8-4FE5-B5CA-DEC9FC1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CF3-4154-4DA7-AE8C-830656A7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E52-3CC7-4C48-8CE4-679E26C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E847-A7B2-4C96-A632-5A98F6089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A6D3-2A65-43D4-AA7D-B6B5F78B9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D823-9385-405B-B5F9-2DC89599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Info/Stor155-09FirstHandout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ackboard.unc.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courses/marron/UNCstor155-2009/HWAsst/Stor155HWC1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atistics – OR 155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3276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. S. Marron, Prof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perations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th, find out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% for Cand.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for Cand.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se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4"/>
          <p:cNvCxnSpPr/>
          <p:nvPr/>
        </p:nvCxnSpPr>
        <p:spPr>
          <a:xfrm flipH="1">
            <a:off x="2285640" y="2743200"/>
            <a:ext cx="915120" cy="22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6"/>
          <p:cNvCxnSpPr/>
          <p:nvPr/>
        </p:nvCxnSpPr>
        <p:spPr>
          <a:xfrm>
            <a:off x="3200400" y="2743200"/>
            <a:ext cx="182952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Straight Arrow Connector 7"/>
          <p:cNvCxnSpPr/>
          <p:nvPr/>
        </p:nvCxnSpPr>
        <p:spPr>
          <a:xfrm>
            <a:off x="5638680" y="2666520"/>
            <a:ext cx="1905840" cy="129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Straight Arrow Connector 8"/>
          <p:cNvCxnSpPr/>
          <p:nvPr/>
        </p:nvCxnSpPr>
        <p:spPr>
          <a:xfrm flipH="1">
            <a:off x="4876560" y="2666880"/>
            <a:ext cx="762480" cy="289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each using mathemat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E.g. 1 first, since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Mathematical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how data are gath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ext, pages 171-1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eas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choose some”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look at hi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Presidential Election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ampaigns, constantly hear in news “polls say …”  How good are thes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Presidential Election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ampaigns, constantly hear in news “polls say …”  How good are thes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on   vs.   Roosevel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Digest Poll:   43% f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Presidential Election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ampaigns, constantly hear in news “polls say …”  How good are thes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on   vs.   Roosevel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Digest Poll:   43% f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                      62% f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Presidential Election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ampaigns, constantly hear in news “polls say …”  How good are thes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on   vs.   Roosevel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Digest Poll:   43% f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                      62% f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 not big enough?      2.4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Po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 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efore or si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in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ystematically favoring on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to think carefu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lec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ddresses from L. D. readers, phone books, club memb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presentative of populatio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Response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Return-mail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o had tim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Electio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Alternative Po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up:       56%  for R       (sample size ~ 5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up of L.D.    44%  for R                   ( ~ 3,00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Electio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Alternative Po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up:       56%  for R       (sample size ~ 5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up of L.D.    44%  for R                   ( ~ 3,00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ct result (62% for R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. D. error (43% for R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w was improvement don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ss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Info/Stor155-09FirstHandout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boar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lease fill out &amp; return after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up’s 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ttacks non-response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ttacks selection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make “sample like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urveyor chooses people to g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% 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% “you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% “blue col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ed fairly well (~5% error), until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wey       Truman     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wey       Truman     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ley     50%            45%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up         50%            44%         ~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er          53%            38%         ~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wey       Truman     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ley     50%            45%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up         50%            44%         ~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er          53%            38%         ~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         45%            50%             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wey       Truman     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ley     50%            45%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up         50%            44%         ~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er          53%            38%         ~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         45%            50%             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Embarassing for polls, famous photo of Truman + Headline “Dewey W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Embarassing for polls, famous photo of Truman + Headline “Dewey W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564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Unintentional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veyors understood bi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de cho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Unintentional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veyors understood bi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de cho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Human Choice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esentativ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Unintentional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veyors understood bi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de cho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Human Choice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esentativ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 Improvement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lled “scientific samp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= Scientific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ass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Blackboard (for class detail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ackboard.unc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-in with On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anel  &gt;  Conten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Item “Course Infor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  “random error” is smaller than “unintentional bias”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enough samp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  “random error” is smaller than “unintentional bias”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enough samp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ample sizes:   ~1,000 - 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  “random error” is smaller than “unintentional bias”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enough samp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ample sizes:   ~1,000 - 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now  &lt;&lt;  50,000 used in 19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urveys are much 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us many more done now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(&amp; will) calculate using “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s term “scientific samp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rovement over 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and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of popula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in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“just choose so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ld (but still fun?)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number among 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ld (but still fun?)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number among 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ypical results:     about 70%   choose “3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haps you have seen this befo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ld (but still fun?)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number among 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ypical results:     about 70%   choose “3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haps you have seen this befo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esson:  human choice does not give “equally likely” (i.e. random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oo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% of Male Students at UN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chance of d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ake 100% -    to get your ch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1:  Class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courses/marron/UNCstor155-2009/HWAsst/Stor155HWC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 to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ing of material in textbook is 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don’t li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orly motiv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ill change the order of th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better motiv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jump around a lot through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HW C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umb ways to sample, 1 goo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learn about samp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“get right ans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, put symbol for yourself, Ms and Fs f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 &amp; %  (%100 x count / 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,  “tally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4, student phone directory available in Student Union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6483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480060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525780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55627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 flipV="1">
            <a:off x="4572000" y="5105160"/>
            <a:ext cx="7621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HW C1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on Part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draw, first draw a “random pag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Analy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Number Gene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is one way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“Uniform”, you need to set “Parameters”, to 0 and “number of pag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ives a random decimal, to get an integer, round up, using 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EILING, set “significance”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HW C1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on Part 4 (cont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hoose Random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hoose Random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 Different numbers on each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still make equally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choos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 when not there, just toss i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 then do a “redr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edraw if can’t tell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1-5,  197-203,  203-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237-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ing Insight fr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milar to text’s defin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of Managing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op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ing th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tatistician at a ball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ee:  how this is don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ng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 math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focus of this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get quantitative about 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ite Qu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never good at math, but statistics is easy, since it is 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on s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predict outcome of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expensive to ask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ask some (hope they are “representativ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asurement is ex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mprove by multiple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of these are broadly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1-13T18:45:19Z</dcterms:modified>
  <cp:revision>54</cp:revision>
  <dc:subject/>
  <dc:title>Slide 1</dc:title>
</cp:coreProperties>
</file>